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9AE8-DB01-4CF5-94DE-9574B2BB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50A2-3CEB-4CF7-A27D-67368C8A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3F1-11D4-427F-BCAB-0E9A43BB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3F0B-1832-4BFB-9968-2711C3F4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0FF-6A67-44B9-80D6-C97960A3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7E20-662C-4037-940C-DD82B103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69A-47D6-4E4A-81E2-13EA340E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991F-EEEE-4CB0-AC3E-931D3110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58F8-FB80-41C1-9F1A-7A42906B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201-DEC7-496C-AB8F-F1524E46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6E71-915F-4028-A924-0DB96729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9542-6F7E-45D3-9563-A62F74A4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7.marts      www.bimab.lv       www.e-transports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0543-2950-4475-B37B-D10FCF5F9E2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latvenergo.lv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imab.lv/" TargetMode="External"/><Relationship Id="rId2" Type="http://schemas.openxmlformats.org/officeDocument/2006/relationships/hyperlink" Target="http://www.e-transports.org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581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9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Elektromobiļu un uzlādes staciju KPFI projektu konkurss:</a:t>
            </a:r>
            <a:br>
              <a:rPr sz="4000"/>
            </a:b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papildu informācija projektu izstrādei un realizācijai </a:t>
            </a:r>
            <a:br>
              <a:rPr sz="4900"/>
            </a:br>
            <a:br>
              <a:rPr sz="2800"/>
            </a:br>
            <a:r>
              <a:rPr b="0" lang="lv-LV" sz="2700" spc="-1" strike="noStrike">
                <a:solidFill>
                  <a:srgbClr val="000000"/>
                </a:solidFill>
                <a:latin typeface="Calibri"/>
              </a:rPr>
              <a:t>Arnis Bergs,</a:t>
            </a:r>
            <a:br>
              <a:rPr sz="2700"/>
            </a:br>
            <a:r>
              <a:rPr b="1" lang="lv-LV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lv-LV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lv-LV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2700" spc="-1" strike="noStrike">
                <a:solidFill>
                  <a:srgbClr val="000000"/>
                </a:solidFill>
                <a:latin typeface="Calibri"/>
              </a:rPr>
              <a:t>“Bezizmešu mobilitātes atbalsta </a:t>
            </a:r>
            <a:r>
              <a:rPr b="0" lang="lv-LV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2700" spc="-1" strike="noStrike">
                <a:solidFill>
                  <a:srgbClr val="000000"/>
                </a:solidFill>
                <a:latin typeface="Calibri"/>
              </a:rPr>
              <a:t>biedrības”  (BIMAB)</a:t>
            </a:r>
            <a:br>
              <a:rPr sz="2700"/>
            </a:br>
            <a:r>
              <a:rPr b="0" lang="lv-LV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2700" spc="-1" strike="noStrike">
                <a:solidFill>
                  <a:srgbClr val="000000"/>
                </a:solidFill>
                <a:latin typeface="Calibri"/>
              </a:rPr>
              <a:t>    valdes priekšsēdētājs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F:\Documents and Settings\edgars\Desktop\Arnis\BIEDRIIBA BIMAB\3 VEIDLAPAS\bimab-logo-25052010.jpg"/>
          <p:cNvPicPr/>
          <p:nvPr/>
        </p:nvPicPr>
        <p:blipFill>
          <a:blip r:embed="rId1"/>
          <a:stretch/>
        </p:blipFill>
        <p:spPr>
          <a:xfrm>
            <a:off x="900000" y="4724280"/>
            <a:ext cx="2428920" cy="1214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“</a:t>
            </a: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Bezizmešu mobilitātes atbalsta </a:t>
            </a: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biedrības” sniegtais atbalsts (I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 …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ojekta īstenošanas laikā organizē vismaz vienu pasākumu, kurā tas informē sabiedrību par projekta aktivitātēm un rezultātiem, tai skaitā par ietekmi uz klimata pārmaiņām un vidi 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nformācijas ievietošana interneta portālos”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edāvājam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www.e-transports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Datuma vietturis 3"/>
          <p:cNvSpPr/>
          <p:nvPr/>
        </p:nvSpPr>
        <p:spPr>
          <a:xfrm>
            <a:off x="457200" y="6356520"/>
            <a:ext cx="6923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7.marts      www.bimab.lv       www.e-transports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56AE-42CA-44F5-BA3A-D4DBA06A7858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BIMAB sniegtais atbalsts (II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1333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Projektu konkursa iesnieguma sagatavošan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info@bimab.l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Datuma vietturis 3"/>
          <p:cNvSpPr/>
          <p:nvPr/>
        </p:nvSpPr>
        <p:spPr>
          <a:xfrm>
            <a:off x="457200" y="6356520"/>
            <a:ext cx="764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7.marts      www.bimab.lv       www.e-transports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2AC8-391A-4A5C-8C83-057CB3D7EEC5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BIMAB sniegtais atbalsts (IV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lādes vietas apraksta ievietošana nacionālajā kartē –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latvenergo.lv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– BIMAB 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S ”Latvenergo” kopdarbs kopš 2011.ga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www.e-transports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eteikumus sūtīt: info@bimab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9838-FB51-4EB0-862D-9667C7F8F07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Attēls 6" descr="http://www.e-transports.org/uzlades-punkti.jpg"/>
          <p:cNvPicPr/>
          <p:nvPr/>
        </p:nvPicPr>
        <p:blipFill>
          <a:blip r:embed="rId2"/>
          <a:stretch/>
        </p:blipFill>
        <p:spPr>
          <a:xfrm>
            <a:off x="1908000" y="3500280"/>
            <a:ext cx="2159280" cy="1152720"/>
          </a:xfrm>
          <a:prstGeom prst="rect">
            <a:avLst/>
          </a:prstGeom>
          <a:ln w="0">
            <a:noFill/>
          </a:ln>
        </p:spPr>
      </p:pic>
      <p:pic>
        <p:nvPicPr>
          <p:cNvPr id="87" name="Satura vietturis 5" descr="http://www.e-transports.org/uzlades-punkti-en.jpg"/>
          <p:cNvPicPr/>
          <p:nvPr/>
        </p:nvPicPr>
        <p:blipFill>
          <a:blip r:embed="rId3"/>
          <a:stretch/>
        </p:blipFill>
        <p:spPr>
          <a:xfrm>
            <a:off x="4859280" y="3500280"/>
            <a:ext cx="2222640" cy="1140120"/>
          </a:xfrm>
          <a:prstGeom prst="rect">
            <a:avLst/>
          </a:prstGeom>
          <a:ln w="0">
            <a:noFill/>
          </a:ln>
        </p:spPr>
      </p:pic>
      <p:sp>
        <p:nvSpPr>
          <p:cNvPr id="88" name="Datuma vietturis 8"/>
          <p:cNvSpPr/>
          <p:nvPr/>
        </p:nvSpPr>
        <p:spPr>
          <a:xfrm>
            <a:off x="457200" y="6356520"/>
            <a:ext cx="7715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7.marts      www.bimab.lv       www.e-transports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BIMAB sniegtais atbalsts (V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BIMAB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kopš 2013.gada  marta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reizi 2 mēnešos sniedz TomTom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saskaņā ar līgumu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informāciju par uzlādes vietām Latvij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1E54-8027-4B3C-AE8F-4CC0D8C671E2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atuma vietturis 5"/>
          <p:cNvSpPr/>
          <p:nvPr/>
        </p:nvSpPr>
        <p:spPr>
          <a:xfrm>
            <a:off x="457200" y="6356520"/>
            <a:ext cx="785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7.marts      www.bimab.lv       www.e-transports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BIMAB sniegtais atbalsts (V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28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sacījumi iekļaušanai uzlādes vietu kartē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ertificēta elektriķa atzinums par vispārējo elektroinstalācijas izveides prasību izpildi un pārsprieguma aizsardzības esamību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izi 2 mēnešos jāsniedz apstiprinājumu par datu atbilstīb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C1DD-CE3F-4FE2-8822-F753E5FA34CC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atuma vietturis 5"/>
          <p:cNvSpPr/>
          <p:nvPr/>
        </p:nvSpPr>
        <p:spPr>
          <a:xfrm>
            <a:off x="457200" y="6356520"/>
            <a:ext cx="7715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7.marts      www.bimab.lv       www.e-transports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alibri"/>
              </a:rPr>
              <a:t>Jautājumi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Bezizmešu mobilitātes atbalsta biedrība (BIMAB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mab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-transports: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-transports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014.gada 25.februāra semināra prezentācij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www.latvenergo.lv/lat/klientiem/EEC/seminari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Datuma vietturis 3"/>
          <p:cNvSpPr/>
          <p:nvPr/>
        </p:nvSpPr>
        <p:spPr>
          <a:xfrm>
            <a:off x="857160" y="6286680"/>
            <a:ext cx="77868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7.marts      www.bimab.lv       www.e-transports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4BF8-A89F-48EF-8EAF-16F3C427F9B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53735"/>
                </a:solidFill>
                <a:latin typeface="Calibri"/>
              </a:rPr>
              <a:t>Nodokļu atvieglojumi Latvijā (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Likums Par vieglo automobiļu un motociklu nodok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5.pants. Atbrīvojumi</a:t>
            </a: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(3) No nodokļa ir atbrīvoti: </a:t>
            </a:r>
            <a:br>
              <a:rPr sz="2800"/>
            </a:b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) vieglie automobiļi ar elektromotoru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(elektromobiļi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uma vietturis 3"/>
          <p:cNvSpPr/>
          <p:nvPr/>
        </p:nvSpPr>
        <p:spPr>
          <a:xfrm>
            <a:off x="857160" y="6286680"/>
            <a:ext cx="77868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7.marts      www.bimab.lv       www.e-transports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B798-36EC-49A6-9600-AE9B6E2EA2B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53735"/>
                </a:solidFill>
                <a:latin typeface="Calibri"/>
              </a:rPr>
              <a:t>Nodokļu atvieglojumi Latvijā (I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Transportlīdzekļa ekspluatācijas nodokļa un uzņēmumu vieglo transportlīdzekļu nodokļa lik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6.pants. Atbrīvojumi no transportlīdzekļa ekspluatācijas nodokļa maksāšanas </a:t>
            </a:r>
            <a:br>
              <a:rPr sz="2400"/>
            </a:b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(1) Transportlīdzekļa ekspluatācijas nodokli nemaksā par: </a:t>
            </a:r>
            <a:br>
              <a:rPr sz="2400"/>
            </a:br>
            <a:br>
              <a:rPr sz="2400"/>
            </a:b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5) tādu transportlīdzekli, kas pēc savas konstrukcijas kā vienīgo mehānisko dzinējspēku izmanto enerģiju no transportlīdzeklī glabātās elektroenerģijas vai dzinējspēka glabāšanas iekārtas (piemēram, akumulators, kondensators, spararats vai ģenerators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E2A9-F5A6-4EBC-AF22-6F1330DFE5B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atuma vietturis 3"/>
          <p:cNvSpPr/>
          <p:nvPr/>
        </p:nvSpPr>
        <p:spPr>
          <a:xfrm>
            <a:off x="857160" y="6286680"/>
            <a:ext cx="77868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7.marts      www.bimab.lv       www.e-transports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KPFI projektu konkursa noteikumi (I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84807"/>
                </a:solidFill>
                <a:latin typeface="Calibri"/>
              </a:rPr>
              <a:t>Salona apkures ierīces ar fosilo kurinām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. 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nkursa 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mērķis ir veicināt siltumnīcefekta gāzu (turpmāk – SEG) emisiju samazināšan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tbalstot transportlīdzekļu, kas pēc savas konstrukcijas kā vienīgo mehānisko dzinējspēku izmanto enerģiju no transportlīdzeklī glabātās elektroenerģijas un kuru 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SEG emisijas ir 0 g/km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…”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uma vietturis 3"/>
          <p:cNvSpPr/>
          <p:nvPr/>
        </p:nvSpPr>
        <p:spPr>
          <a:xfrm>
            <a:off x="457200" y="6356520"/>
            <a:ext cx="785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7.marts      www.bimab.lv       www.e-transports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F85E-CEF4-4839-B59F-1F614049C27F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KPFI projektu konkursa noteikumi (II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“…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ņēmējs nodrošina projekta ietvaros iegādāto: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69.2. elektromobiļu viena gada nobraukumu atbilstoši projekta iesniegumā norādītajiem elektromobiļu viena gada plānotajiem nobraukumiem 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84807"/>
                </a:solidFill>
                <a:latin typeface="Calibri"/>
              </a:rPr>
              <a:t>Elektromobiļu,  ar pases datu autonomi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984807"/>
                </a:solidFill>
                <a:latin typeface="Calibri"/>
              </a:rPr>
              <a:t>160-200km,  sagaidāmais praktiskais, arī ziemā sasniedzamais, nobraukums ar vienu uzlādi ir 100k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Datuma vietturis 3"/>
          <p:cNvSpPr/>
          <p:nvPr/>
        </p:nvSpPr>
        <p:spPr>
          <a:xfrm>
            <a:off x="457200" y="6356520"/>
            <a:ext cx="785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7.marts      www.bimab.lv       www.e-transports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C07E-83EF-43BD-911B-7B74540DAFF0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KPFI projektu konkursa noteikumi (III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"23.6. 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finansējuma saņēmējs ir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nkursa ietvaros iegādātā elektromobiļa vai publiski pieejamās uzlādes stacijas un tās elektropieslēguma 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īpašnieks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projekta īstenošanas laikā, kā arī vēl vismaz piecus gadus pēc projekta īstenošanas termiņa beigām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Datuma vietturis 3"/>
          <p:cNvSpPr/>
          <p:nvPr/>
        </p:nvSpPr>
        <p:spPr>
          <a:xfrm>
            <a:off x="457200" y="6356520"/>
            <a:ext cx="7859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7.marts      www.bimab.lv       www.e-transports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ACF8-A22A-489C-A14A-7ED31623EE9F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Banku kredīts (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SIA  Nordea  Fin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gatavojusi aizdevuma piedāvājumu elektromobiļu iegāde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nformācija pie elektromobiļu autodīleri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Datuma vietturis 3"/>
          <p:cNvSpPr/>
          <p:nvPr/>
        </p:nvSpPr>
        <p:spPr>
          <a:xfrm>
            <a:off x="457200" y="6356520"/>
            <a:ext cx="8002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7.marts      www.bimab.lv       www.e-transports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2D18-FD55-4881-8AE3-B26D38FE417C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Banku kredīts (I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AS "SEB banka"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gatavojusi Ilgtermiņa kredīta piedāvājumus elektromobiļu iegāde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švaldībām un pašvaldību uzņēmumiem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ņēmēji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nformācija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EB bankas filiālē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e elektromobiļu autodīleri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Datuma vietturis 3"/>
          <p:cNvSpPr/>
          <p:nvPr/>
        </p:nvSpPr>
        <p:spPr>
          <a:xfrm>
            <a:off x="457200" y="6356520"/>
            <a:ext cx="793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7.marts      www.bimab.lv       www.e-transports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73AD-D8DF-40F9-B698-40171890DE3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“</a:t>
            </a: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Bezizmešu mobilitātes atbalsta </a:t>
            </a: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biedrības” sniegtais atbalsts (I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58. Lai nodrošinātu projekta publicitāti, finansējuma saņēmēj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zvieto uz elektromobiļa vai publiski pieejamās uzlādes stacijas finanšu instrumenta marķējumu 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984807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984807"/>
                </a:solidFill>
                <a:latin typeface="Calibri"/>
              </a:rPr>
              <a:t>Bezizmešu mobilitātes atbalsta </a:t>
            </a:r>
            <a:r>
              <a:rPr b="0" lang="lv-LV" sz="3200" spc="-1" strike="noStrike">
                <a:solidFill>
                  <a:srgbClr val="984807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984807"/>
                </a:solidFill>
                <a:latin typeface="Calibri"/>
              </a:rPr>
              <a:t>biedrība” (BIMAB) plāno piedāvāt marķēju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Datuma vietturis 3"/>
          <p:cNvSpPr/>
          <p:nvPr/>
        </p:nvSpPr>
        <p:spPr>
          <a:xfrm>
            <a:off x="457200" y="6356520"/>
            <a:ext cx="764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7.marts      www.bimab.lv       www.e-transports.or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0E7F-16E6-419E-BB9A-EF154700CD1C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1:57:36Z</dcterms:created>
  <dc:creator>Arnis</dc:creator>
  <dc:description/>
  <dc:language>en-US</dc:language>
  <cp:lastModifiedBy>Jānis Bergs</cp:lastModifiedBy>
  <dcterms:modified xsi:type="dcterms:W3CDTF">2014-03-06T11:06:05Z</dcterms:modified>
  <cp:revision>514</cp:revision>
  <dc:subject/>
  <dc:title>Slide 1</dc:title>
</cp:coreProperties>
</file>