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211-D7B1-4632-B38E-9ADB4386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96B-B9B3-4D34-B81B-7EB0EDEB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A3E-BE4F-4B99-9D60-B034E756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BC7-FEDC-4DC6-94A7-B81B44FC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6323-200F-4AE8-BE3E-44CBDB05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CD60-7484-4A9B-9326-8B2EDAFD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35FE-46EF-4CD9-9A36-C36CB432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9B94-0146-4820-B059-D3928C1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E201-8661-4295-82B4-17C6440D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F4B7-2A5C-41F1-B304-3BB51A94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153D-9D56-4702-B761-1D4117C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987-1DC6-4A94-9790-9E3F6211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2D69-9588-4216-B3A6-0437A05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FC31-F699-4B7E-9CF5-93FEFD3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9B62-F57C-4EBA-B3B4-313FE3B0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9730-CB7D-482C-841F-F731101F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2919-3A01-4EB4-A4A4-AD7C670E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0B2A-3FE6-4702-884D-52A5EEDA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47D97-0F4B-4A0F-9C06-45DAEEF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FA997-BC04-4277-925A-E50FE9C0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613B-6116-4339-A9B9-E4825070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F2B2-6E41-4009-9095-6AF43F7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FBE-3C55-4DEE-987E-090DE783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AC09-964B-4AFB-9BB3-B147AE48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2577-ABAA-4D2D-BDAD-0B14B772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FEB4-6963-4D4E-A1B8-F474080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6F4A-2237-43C8-B406-3ACE107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2385-6DA9-4BEA-A045-C4D016E9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9D09-CEE6-4BFD-A9DE-48559B57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FC19-DC69-4A68-BF70-192694CA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1A78-BCA2-4CFE-9A07-107FC1D4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F6DA-083E-4434-921C-A3E6F90B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79D5-94EA-4DEC-B527-CE875065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024-B211-4771-8828-589BD86A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F31EB-F419-42CA-A7F3-CFBB341F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A86BB-7C23-4A8C-903D-4A21EB8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6CBD-714C-4AD3-8A9A-C7314F91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16E27-30FB-4D7C-91D1-D736871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41EB-5B92-4CD7-A194-B6630C5F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2A73-085D-469F-93DE-022A25D4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B179E-44F5-4198-A0AC-FCD3C7BB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782A-478C-47ED-A9AA-1AA4DB28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267F-53A4-4115-B493-02756EAA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8611-E478-45D2-B53D-C282C74B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9C8-DD5C-4045-A2CD-FE1A049C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7088-BB71-4F65-B52B-E805E7D7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E70BA-47D1-4DA3-A1F1-AF5B1929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DECFD-A05D-4E16-B6AF-0F07ECDA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A7F5E-2ED9-4953-B5C4-673E4442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DC5A5-9D8E-46D1-A00A-657CA6E5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A474-697D-4254-8CF1-E80DADE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ED79-E274-4908-9EC2-C63CF511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A39C-6D25-4521-AFF6-85899CC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574F7-9376-446E-9075-8CC8704C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D9F54-81FB-47D8-BDE1-D81B4E18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BFF-0464-4C08-8CC9-A2292157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B8318-9348-4DC3-8A6E-C88C2CAE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9D5EB-4900-427E-A20E-248C80E3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93FF1-879C-45F3-9069-5A47C970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B32C5-A809-4713-B1EC-16E67F8D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8D626-BCB3-46C7-81C7-A3BFD882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03E6-CE7C-4CAC-B921-B4F00C6F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5F084-AA8B-419F-A5BE-DB51D209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5EFC0-9472-433E-9639-76DF2AE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07BE-327F-4B7C-9973-BA5C6C6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2791-67D1-4567-A453-3A6203E7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284-7F96-4C37-BD9A-CA80AD8C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6ACCC-6F54-4F40-9A8A-B3D94CAA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2FE9-03D6-43A0-A2CD-718775FD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4B22-6D40-4960-A084-D59E2DA9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28859-5E47-4E48-B706-BE75C87C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45F9F-9A31-4326-9534-4CEC277C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4407-64D1-4D7F-89F5-1799223C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A657E-ADC9-43D1-9F05-49022CF6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90966-2A45-443F-AA32-36B13C1D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2A65-A986-47D0-A9D3-F4F1D14A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063C-B7F2-4B1B-A501-42ED3576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5E0-4649-4FB7-A792-BD780F9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64C6-2D4B-4F2B-963C-B9DB903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E00C-387D-4D55-BC93-ABEA3C6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4EB49-13AC-4DD7-B93C-B62029B1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84DF7-81F1-4A59-9CCB-0CCFFF0F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3A9F1-682D-4B1E-8ED1-78859C55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985-6148-422A-9DEC-9573984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030F-198F-45C1-9E5D-5A7950EB85CB}" type="slidenum"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02A7-647F-447C-A368-E4A95DCCA0C8}" type="slidenum"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A844-5F4D-4E2C-A1B3-4F10F9893226}" type="slidenum"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046A-077D-486A-AB05-5DB2E8C79276}" type="slidenum"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1FD6-68D6-435C-93A0-CFC73CFDE154}" type="slidenum"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194F-CB83-4E62-ABFE-FFC59C335FA4}" type="slidenum"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13C3-5731-420D-89D9-303CA10A2A0C}" type="slidenum">
              <a:rPr b="0" lang="lv-LV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17859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300" spc="-1" strike="noStrike">
                <a:solidFill>
                  <a:srgbClr val="572314"/>
                </a:solidFill>
                <a:latin typeface="Gill Sans MT"/>
              </a:rPr>
              <a:t>Aizdevumu pieejamīb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572314"/>
                </a:solidFill>
                <a:latin typeface="Gill Sans MT"/>
              </a:rPr>
              <a:t>Likums par 2009. gada budžetu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2143080"/>
            <a:ext cx="74995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ill Sans MT"/>
              </a:rPr>
              <a:t>8.pants.</a:t>
            </a:r>
            <a:r>
              <a:rPr b="0" lang="lv-LV" sz="2800" spc="-1" strike="noStrike">
                <a:solidFill>
                  <a:srgbClr val="000000"/>
                </a:solidFill>
                <a:latin typeface="Gill Sans MT"/>
              </a:rPr>
              <a:t> (1) Noteikt </a:t>
            </a:r>
            <a:r>
              <a:rPr b="1" lang="lv-LV" sz="2800" spc="-1" strike="noStrike">
                <a:solidFill>
                  <a:srgbClr val="000000"/>
                </a:solidFill>
                <a:latin typeface="Gill Sans MT"/>
              </a:rPr>
              <a:t>pašvaldību aizņēmumu</a:t>
            </a:r>
            <a:r>
              <a:rPr b="0" lang="lv-LV" sz="2800" spc="-1" strike="noStrike">
                <a:solidFill>
                  <a:srgbClr val="000000"/>
                </a:solidFill>
                <a:latin typeface="Gill Sans MT"/>
              </a:rPr>
              <a:t> kopējo palielinājumu 50 000 000 latu apmērā </a:t>
            </a:r>
            <a:r>
              <a:rPr b="1" lang="lv-LV" sz="2800" spc="-1" strike="noStrike">
                <a:solidFill>
                  <a:srgbClr val="000000"/>
                </a:solidFill>
                <a:latin typeface="Gill Sans MT"/>
              </a:rPr>
              <a:t>Eiropas Savienības līdzfinansēto projektu īstenošanai</a:t>
            </a:r>
            <a:r>
              <a:rPr b="0" lang="lv-LV" sz="2800" spc="-1" strike="noStrike">
                <a:solidFill>
                  <a:srgbClr val="000000"/>
                </a:solidFill>
                <a:latin typeface="Gill Sans MT"/>
              </a:rPr>
              <a:t> un 1 000 000 latu pašvaldību finanšu stabilizācijas aizņēmumu nodrošināšanai Eiropas Savienības līdzfinansēto projektu īstenošanai atbilstoši likumam "Par pašvaldību finanšu stabilizēšanu un pašvaldību finansiālās darbības uzraudzību"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300" spc="-1" strike="noStrike">
                <a:solidFill>
                  <a:srgbClr val="572314"/>
                </a:solidFill>
                <a:latin typeface="Gill Sans MT"/>
              </a:rPr>
              <a:t>Pašvaldību finanšu saistību limi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švaldību saistību līmenis līdz 20% no pašvaldības ieņēmumi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03:18Z</dcterms:created>
  <dc:creator>JolantaJ</dc:creator>
  <dc:description/>
  <dc:language>en-US</dc:language>
  <cp:lastModifiedBy>JolantaJ</cp:lastModifiedBy>
  <dcterms:modified xsi:type="dcterms:W3CDTF">2009-03-17T14:37:00Z</dcterms:modified>
  <cp:revision>5</cp:revision>
  <dc:subject/>
  <dc:title>Slide 1</dc:title>
</cp:coreProperties>
</file>