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85F-5E00-4D6A-946F-A2DB5F69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81F-5CDB-4112-9529-DA2559C5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D03-2503-44F4-B280-3F554D09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C16-D005-4286-9D4E-058CAD03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693C-B756-4F5A-B273-C856BCFB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D0D-49D5-4A1C-A29A-1CA16F4D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B8E9-7B35-49DE-84C8-36C8A6D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46F1-3B42-4F0C-A377-E78DE41B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D771-0471-45C5-AA0B-84AEB759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62120" y="9903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C7B8-37CF-4CF1-A6F2-F55484D7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C6AA-AB63-46AA-9C56-C29B582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71C-6945-471C-8A23-3A1D252B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A9C1-4D4D-4879-8A59-A360B4D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748-D7AE-419C-A534-523BAE1F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8915-A79D-4790-853F-EF5B9D28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D5C-70DF-46B2-8188-481B11B3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4952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5231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3A27-BE9D-438F-B02A-49395FC7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FFF-15F2-4639-BC2C-5DDB7CA3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DE9-F615-4B4B-8460-5AFA345A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C73-EDCB-4B43-A659-F1A7E384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2120" y="9903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615-2DE5-4850-94BE-C490A2F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059-B97B-4977-92B7-89147998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5231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FF3-8577-4733-915A-8B60122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952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231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CB3-EC3D-42ED-8D7B-21285DFF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F4A5-4A0E-404B-8E15-C4B9F0E10A92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3564000" y="6421320"/>
            <a:ext cx="1584360" cy="297000"/>
          </a:xfrm>
          <a:prstGeom prst="rect">
            <a:avLst/>
          </a:prstGeom>
          <a:ln w="0">
            <a:noFill/>
          </a:ln>
        </p:spPr>
      </p:pic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4920" y="4221000"/>
            <a:ext cx="9074160" cy="2592720"/>
            <a:chOff x="34920" y="4221000"/>
            <a:chExt cx="9074160" cy="2592720"/>
          </a:xfrm>
        </p:grpSpPr>
        <p:sp>
          <p:nvSpPr>
            <p:cNvPr id="52" name=""/>
            <p:cNvSpPr/>
            <p:nvPr/>
          </p:nvSpPr>
          <p:spPr>
            <a:xfrm>
              <a:off x="34920" y="4221000"/>
              <a:ext cx="9074160" cy="259272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21000"/>
              <a:ext cx="9074160" cy="14796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448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BCCB-29C9-4AE5-9BE8-D22CBDB2940A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0920" y="260280"/>
            <a:ext cx="2233080" cy="865080"/>
            <a:chOff x="250920" y="260280"/>
            <a:chExt cx="2233080" cy="86508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322640" y="260280"/>
              <a:ext cx="7750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2157120" y="797040"/>
              <a:ext cx="32688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250920" y="618840"/>
              <a:ext cx="476640" cy="4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9200" y="2492280"/>
            <a:ext cx="4392720" cy="172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4500720" y="2492280"/>
            <a:ext cx="4564080" cy="1728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258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Arial"/>
              </a:rPr>
              <a:t>Iepirkuma procedūras organizēš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6021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102e50"/>
                </a:solidFill>
                <a:latin typeface="Arial"/>
              </a:rPr>
              <a:t>18.03.2009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0755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d528d"/>
                </a:solidFill>
                <a:latin typeface="Arial"/>
              </a:rPr>
              <a:t>Regulējums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Saskaņā ar aktivitātes īstenošanas noteikumiem iepirkuma procedūru veic finansējuma saņēmējs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i="1" lang="lv-LV" sz="1800" spc="-1" strike="noStrike">
                <a:solidFill>
                  <a:srgbClr val="1d528d"/>
                </a:solidFill>
                <a:latin typeface="Arial"/>
              </a:rPr>
              <a:t>(Ministru kabineta 2008.gada 30.jūnija noteikumu Nr.490 “Noteikumi par darbības programmas "Infrastruktūra un pakalpojumi" papildinājuma 3.5.1.2.1.apakšaktivitāti "Normatīvo aktu prasībām neatbilstošo izgāztuvju rekultivācija" 42.punkt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Finansējuma saņēmējs, ievērojot tā tiesisko statusu, iepirkuma procedūru veic saskaņā ar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-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Publisko iepirkumu likumu (direktīva 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Nr.2004/18/EK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un no likuma izrietošiem Ministru kabineta 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noteikumiem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84F-6E8D-4EF7-B045-7D4FFA18A0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1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-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Ministru kabineta 2008. gada 11.augusta noteikumi Nr.653 „Noteikumi par publisko iepirkumu paziņojumu veidlapu paraugiem”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-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Ministru kabineta 2006.gada 2.maija noteikumi Nr.364 „Noteikumi par publisko iepirkumu līgumcenu robežām”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1d528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Ministru kabineta 2006.gada 12.septembra noteikumi Nr.762 „Kārtība, kādā veicami iepirkumi, kuru paredzam līgumcena ir lielāka par 1000 latu, bet mazāka par 10000 latu”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-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Ministru kabineta 2006.gada 19.decembra noteikumi Nr.1014 „Noteikumi par Latvijas būvnormatīvu LBN 501-06 „Būvizmaksu noteikšanas kārtība””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3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FAF-BDC9-41C0-9099-9AACD3F2D2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1d528d"/>
                </a:solidFill>
                <a:latin typeface="Arial"/>
              </a:rPr>
              <a:t>Lai atvieglotu iepirkuma procedūras organizēšanu un veicinātu precīzu iepirkuma procedūras norisi Vides ministrija ir izstrādājusi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-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Publisko iepirkumu vadlīnijas (VP) un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Atklāta konkursa nolikumu veidnes pasūtītāju iepirkumiem (NP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1d528d"/>
                </a:solidFill>
                <a:latin typeface="Arial"/>
              </a:rPr>
              <a:t>(pieejams: www.vidm.gov.lv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752-3A7F-46CE-AD7F-43468EFEE0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E75-0A06-491A-9F7E-4D67C7FF52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1d528d"/>
                </a:solidFill>
                <a:latin typeface="Arial"/>
              </a:rPr>
              <a:t>Iepirkuma plān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576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Finansējuma saņēmējs </a:t>
            </a:r>
            <a:r>
              <a:rPr b="0" lang="lv-LV" sz="2400" spc="-1" strike="noStrike" u="sng">
                <a:solidFill>
                  <a:srgbClr val="1d528d"/>
                </a:solidFill>
                <a:uFillTx/>
                <a:latin typeface="Arial"/>
              </a:rPr>
              <a:t>piecu darbdienu laikā</a:t>
            </a: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 pēc vienošanās par projekta īstenošanu noslēgšanas iesniedz iepirkuma plānu atbildīgajā iestādē (AI)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576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Pēc iepirkuma plāna pārbaudes atbildīgā iestāde to iesniedz IUB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576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1d528d"/>
                </a:solidFill>
                <a:latin typeface="Arial"/>
              </a:rPr>
              <a:t>Iepirkuma plāna forma noteikta Ministru kabineta 26.06.2007. Nr.419 4.pielikum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049-8CF8-4AF7-8C3A-1FEC9FE0DC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d528d"/>
                </a:solidFill>
                <a:latin typeface="Arial"/>
              </a:rPr>
              <a:t>Iepirkuma procedūras pirmspārbaud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576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Iepirkuma procedūras pirmspārbaudi veic IUB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-</a:t>
            </a: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iepirkuma dokumentācijas izlases veida pārbaudi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d528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iepirkuma procedūras norises izlases veida pārbaudi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576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1d528d"/>
                </a:solidFill>
                <a:latin typeface="Arial"/>
              </a:rPr>
              <a:t>IUB sniedz vienu no šādiem atzinumiem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1d528d"/>
                </a:solidFill>
                <a:uFillTx/>
                <a:latin typeface="Arial"/>
              </a:rPr>
              <a:t>pozitīvs atzinums</a:t>
            </a:r>
            <a:r>
              <a:rPr b="0" lang="lv-LV" sz="1800" spc="-1" strike="noStrike">
                <a:solidFill>
                  <a:srgbClr val="1d528d"/>
                </a:solidFill>
                <a:latin typeface="Arial"/>
              </a:rPr>
              <a:t> – ja ES fonda projekta iepirkumā nav konstatēti pārkāpumi vai konstatētie pārkāpumi nav būtiski un nevar ietekmēt lēmumu par iepirkuma tiesību piešķiršanu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1d528d"/>
                </a:solidFill>
                <a:uFillTx/>
                <a:latin typeface="Arial"/>
              </a:rPr>
              <a:t>atzinums ar iebildumiem</a:t>
            </a:r>
            <a:r>
              <a:rPr b="0" lang="lv-LV" sz="1800" spc="-1" strike="noStrike">
                <a:solidFill>
                  <a:srgbClr val="1d528d"/>
                </a:solidFill>
                <a:latin typeface="Arial"/>
              </a:rPr>
              <a:t> – ja ES fonda projekta iepirkumā ir konstatēti pārkāpumi, bet tos ir iespējams novērst iepirkuma procedūras laikā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1d528d"/>
                </a:solidFill>
                <a:latin typeface="Arial"/>
              </a:rPr>
              <a:t>-</a:t>
            </a:r>
            <a:r>
              <a:rPr b="0" lang="lv-LV" sz="1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1800" spc="-1" strike="noStrike" u="sng">
                <a:solidFill>
                  <a:srgbClr val="1d528d"/>
                </a:solidFill>
                <a:uFillTx/>
                <a:latin typeface="Arial"/>
              </a:rPr>
              <a:t>negatīvs atzinums</a:t>
            </a:r>
            <a:r>
              <a:rPr b="0" lang="lv-LV" sz="1800" spc="-1" strike="noStrike">
                <a:solidFill>
                  <a:srgbClr val="1d528d"/>
                </a:solidFill>
                <a:latin typeface="Arial"/>
              </a:rPr>
              <a:t> – ja ES fonda projekta iepirkumā ir konstatēti tādi pārkāpumi, kurus nav iespējams novērst uzsāktās iepirkuma procedūras laikā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406-D6AD-461C-A2DA-356DBC9422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1d528d"/>
                </a:solidFill>
                <a:latin typeface="Arial"/>
              </a:rPr>
              <a:t>Iepirkuma procedūras pēcpārbaude</a:t>
            </a:r>
            <a:r>
              <a:rPr b="0" lang="lv-LV" sz="32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Iepirkuma procedūras pēcpārbaudi veic AI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Finansējuma saņēmējs pēc iepirkuma procedūras rezultātu paziņošanas iesniedz AI iepirkuma procedūras dokumentu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1d528d"/>
                </a:solidFill>
                <a:latin typeface="Arial"/>
              </a:rPr>
              <a:t>AI sniedz atzinumu par iepirkuma procedūras atbilstību iepirkumu tiesiskajam regulējumam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1d528d"/>
                </a:solidFill>
                <a:latin typeface="Arial"/>
              </a:rPr>
              <a:t>Ja finansējuma saņēmējs neievēro iepirkumu regulējošajos normatīvajos aktos noteiktās prasības, </a:t>
            </a:r>
            <a:r>
              <a:rPr b="1" lang="lv-LV" sz="2000" spc="-1" strike="noStrike" u="sng">
                <a:solidFill>
                  <a:srgbClr val="1d528d"/>
                </a:solidFill>
                <a:uFillTx/>
                <a:latin typeface="Arial"/>
              </a:rPr>
              <a:t>izmaksas</a:t>
            </a:r>
            <a:r>
              <a:rPr b="1" lang="lv-LV" sz="2000" spc="-1" strike="noStrike">
                <a:solidFill>
                  <a:srgbClr val="1d528d"/>
                </a:solidFill>
                <a:latin typeface="Arial"/>
              </a:rPr>
              <a:t>, kas rodas šādi noslēgto iepirkuma līgumu ietvaros, </a:t>
            </a:r>
            <a:r>
              <a:rPr b="1" lang="lv-LV" sz="2000" spc="-1" strike="noStrike" u="sng">
                <a:solidFill>
                  <a:srgbClr val="1d528d"/>
                </a:solidFill>
                <a:uFillTx/>
                <a:latin typeface="Arial"/>
              </a:rPr>
              <a:t>tiek uzskatītas par neattiecināmām Kohēzijas fonda projekta izmaksām</a:t>
            </a:r>
            <a:r>
              <a:rPr b="1" lang="lv-LV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B32-760F-429E-B082-4CF5141883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Paldies par uzmanīb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90520" y="450864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02e50"/>
                </a:solidFill>
                <a:latin typeface="Arial"/>
              </a:rPr>
              <a:t>www.vidm.gov.lv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4:55:39Z</dcterms:created>
  <dc:creator>AndaA</dc:creator>
  <dc:description/>
  <cp:keywords/>
  <dc:language>en-US</dc:language>
  <cp:lastModifiedBy>aigarsk</cp:lastModifiedBy>
  <dcterms:modified xsi:type="dcterms:W3CDTF">2009-03-17T14:45:08Z</dcterms:modified>
  <cp:revision>21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33</vt:lpwstr>
  </property>
</Properties>
</file>