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C10-AD15-48F1-9DC3-54627161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3BF-3811-4423-A77B-FC65CE72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BF4-2C0F-44FA-848C-9C658702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3CE-9C76-4AA9-95C4-8CEB1193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33D-AC27-4510-AA7F-67B61FD1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469-B4B2-4C21-B8FC-056D21BF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94E-87A4-4C1F-ACE4-0B72714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9D8-2411-4C22-A703-15AA58E3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F78-5425-40E4-B5BD-385A176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E32-A73E-4504-BC71-00C494D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26D-0DAA-4065-8EDB-E2963F7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66E-9D51-4164-8722-F7FA2955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E6525A-7F1A-4BC4-AF31-650270858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5160" y="658188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6480" y="2590920"/>
            <a:ext cx="72759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Mazāk </a:t>
            </a:r>
            <a:r>
              <a:rPr b="1" lang="en-GB" sz="3200" spc="-1" strike="noStrike" u="sng">
                <a:solidFill>
                  <a:srgbClr val="00cc99"/>
                </a:solidFill>
                <a:uFillTx/>
                <a:latin typeface="Times New Roman"/>
              </a:rPr>
              <a:t>atkrit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Vērtīgo blakusproduktu</a:t>
            </a:r>
            <a:r>
              <a:rPr b="1" lang="en-GB" sz="3200" spc="-1" strike="noStrike" u="sng">
                <a:solidFill>
                  <a:srgbClr val="00cc99"/>
                </a:solidFill>
                <a:uFillTx/>
                <a:latin typeface="Times New Roman"/>
              </a:rPr>
              <a:t> recikl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Labāka</a:t>
            </a:r>
            <a:r>
              <a:rPr b="1" lang="en-GB" sz="3200" spc="-1" strike="noStrike" u="sng">
                <a:solidFill>
                  <a:srgbClr val="00cc99"/>
                </a:solidFill>
                <a:uFillTx/>
                <a:latin typeface="Times New Roman"/>
              </a:rPr>
              <a:t> attieksme pret vid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 u="sng">
                <a:solidFill>
                  <a:srgbClr val="00cc99"/>
                </a:solidFill>
                <a:uFillTx/>
                <a:latin typeface="Times New Roman"/>
              </a:rPr>
              <a:t>Efektīva  resursu izmantošana ražošan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 u="sng">
                <a:solidFill>
                  <a:srgbClr val="00cc99"/>
                </a:solidFill>
                <a:uFillTx/>
                <a:latin typeface="Times New Roman"/>
              </a:rPr>
              <a:t>Lielāka  efektivitā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 u="sng">
                <a:solidFill>
                  <a:srgbClr val="00cc99"/>
                </a:solidFill>
                <a:uFillTx/>
                <a:latin typeface="Times New Roman"/>
              </a:rPr>
              <a:t>Mazāks enerģijas patēriņ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 u="sng">
                <a:solidFill>
                  <a:srgbClr val="00cc99"/>
                </a:solidFill>
                <a:uFillTx/>
                <a:latin typeface="Times New Roman"/>
              </a:rPr>
              <a:t>Izmaksu samazināšanā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4972_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2819520" cy="243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3333cc"/>
                </a:solidFill>
                <a:uFillTx/>
                <a:latin typeface="Times New Roman"/>
              </a:rPr>
              <a:t>Tīrākas ražošanas ieguvum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BCD-13DB-47F1-B052-1DB12236A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2286000"/>
            <a:ext cx="6535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969696"/>
                </a:solidFill>
                <a:latin typeface="Times New Roman"/>
              </a:rPr>
              <a:t>Tradicionālā ražošana -</a:t>
            </a:r>
            <a:r>
              <a:rPr b="1" lang="en-GB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Times New Roman"/>
              </a:rPr>
              <a:t>Tīrāka </a:t>
            </a:r>
            <a:r>
              <a:rPr b="1" lang="en-GB" sz="4800" spc="-1" strike="noStrike">
                <a:solidFill>
                  <a:srgbClr val="969696"/>
                </a:solidFill>
                <a:latin typeface="Times New Roman"/>
              </a:rPr>
              <a:t>ražošana</a:t>
            </a:r>
            <a:r>
              <a:rPr b="1" lang="en-GB" sz="4800" spc="-1" strike="noStrike">
                <a:solidFill>
                  <a:srgbClr val="009900"/>
                </a:solidFill>
                <a:latin typeface="Times New Roman"/>
              </a:rPr>
              <a:t> -</a:t>
            </a:r>
            <a:r>
              <a:rPr b="1" lang="en-GB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Times New Roman"/>
              </a:rPr>
              <a:t>Tīra </a:t>
            </a:r>
            <a:r>
              <a:rPr b="1" lang="en-GB" sz="4800" spc="-1" strike="noStrike">
                <a:solidFill>
                  <a:srgbClr val="969696"/>
                </a:solidFill>
                <a:latin typeface="Times New Roman"/>
              </a:rPr>
              <a:t>ražošana</a:t>
            </a:r>
            <a:r>
              <a:rPr b="1" lang="en-GB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286000"/>
            <a:ext cx="7137360" cy="736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5918040" cy="660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5029200" cy="66024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d06982_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4648320" cy="2438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a50021"/>
                </a:solidFill>
                <a:uFillTx/>
                <a:latin typeface="Times New Roman"/>
              </a:rPr>
              <a:t>Dažādu ražošanas veidu salīdzinājum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B90-B686-4C55-A011-4AEF790C45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8600" y="1219320"/>
            <a:ext cx="70430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969696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969696"/>
                </a:solidFill>
                <a:latin typeface="Times New Roman"/>
              </a:rPr>
              <a:t>Procesi neietver atkritum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69696"/>
                </a:solidFill>
                <a:latin typeface="Times New Roman"/>
              </a:rPr>
              <a:t>         </a:t>
            </a:r>
            <a:r>
              <a:rPr b="1" lang="en-GB" sz="4000" spc="-1" strike="noStrike">
                <a:solidFill>
                  <a:srgbClr val="969696"/>
                </a:solidFill>
                <a:latin typeface="Times New Roman"/>
              </a:rPr>
              <a:t>novēršanas pasākumu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Procesi  iet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atkritumu minimizāciju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</a:rPr>
              <a:t>Atkritum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Times New Roman"/>
              </a:rPr>
              <a:t>                                       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</a:rPr>
              <a:t>na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295280"/>
            <a:ext cx="6298920" cy="149868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971800"/>
            <a:ext cx="5486400" cy="14986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4737240"/>
            <a:ext cx="3479760" cy="88884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na01607_" descr=""/>
          <p:cNvPicPr/>
          <p:nvPr/>
        </p:nvPicPr>
        <p:blipFill>
          <a:blip r:embed="rId1"/>
          <a:stretch/>
        </p:blipFill>
        <p:spPr>
          <a:xfrm>
            <a:off x="304920" y="3768840"/>
            <a:ext cx="2590560" cy="23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078-8802-4116-BC79-A0FA0534E7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882720"/>
            <a:ext cx="687384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969696"/>
                </a:solidFill>
                <a:latin typeface="Times New Roman"/>
              </a:rPr>
              <a:t>	</a:t>
            </a:r>
            <a:r>
              <a:rPr b="1" lang="fi-FI" sz="4800" spc="-1" strike="noStrike">
                <a:solidFill>
                  <a:srgbClr val="969696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969696"/>
                </a:solidFill>
                <a:latin typeface="Times New Roman"/>
              </a:rPr>
              <a:t>Blakus produkti netiek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69696"/>
                </a:solidFill>
                <a:latin typeface="Times New Roman"/>
              </a:rPr>
              <a:t>                                </a:t>
            </a:r>
            <a:r>
              <a:rPr b="1" lang="en-GB" sz="4000" spc="-1" strike="noStrike">
                <a:solidFill>
                  <a:srgbClr val="969696"/>
                </a:solidFill>
                <a:latin typeface="Times New Roman"/>
              </a:rPr>
              <a:t>izmanto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Blakus produktu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maksimāla izmanto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006600"/>
                </a:solidFill>
                <a:latin typeface="Times New Roman"/>
              </a:rPr>
              <a:t>                     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Blakus produktu </a:t>
            </a:r>
            <a:r>
              <a:rPr b="1" lang="en-GB" sz="4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GB" sz="4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GB" sz="4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     pilnīga izmanto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914400"/>
            <a:ext cx="5079960" cy="1574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743200"/>
            <a:ext cx="4470480" cy="14223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432320"/>
            <a:ext cx="3708360" cy="149868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na00864_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048120" cy="400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FE7-78FB-4CE4-9895-F3193C9651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7680" y="792000"/>
            <a:ext cx="826920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69696"/>
                </a:solidFill>
                <a:latin typeface="Times New Roman"/>
              </a:rPr>
              <a:t>Dārgas  piesārņojuma attīrīšanas “caurules galā” tehnoloģija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                         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Mazāk izdevumu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                                  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piesārņojuma attīrīšana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                                  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tehnoloģijām, atkritumu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                                  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apsaimniekošanas,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                                 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transporta un izvietošan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Nav ietekmju uz vi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120" y="774720"/>
            <a:ext cx="8051760" cy="1346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94040" y="2298600"/>
            <a:ext cx="6603840" cy="24894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7920" y="4965840"/>
            <a:ext cx="5079960" cy="126972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na00864_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1523880" cy="407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E97-CB50-452A-86B0-E7E07716AD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920" y="882720"/>
            <a:ext cx="780516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69696"/>
                </a:solidFill>
                <a:latin typeface="Times New Roman"/>
              </a:rPr>
              <a:t>Dārga atkritumu apsaimniekošan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69696"/>
                </a:solidFill>
                <a:latin typeface="Times New Roman"/>
              </a:rPr>
              <a:t>transports un izvietošan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GB" sz="4800" spc="-1" strike="noStrike">
                <a:solidFill>
                  <a:srgbClr val="009900"/>
                </a:solidFill>
                <a:latin typeface="Times New Roman"/>
              </a:rPr>
              <a:t>Maza ietekme uz vidi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1" lang="en-GB" sz="4400" spc="-1" strike="noStrike">
                <a:solidFill>
                  <a:srgbClr val="006600"/>
                </a:solidFill>
                <a:latin typeface="Times New Roman"/>
              </a:rPr>
              <a:t>Nav ietekmju uz vi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4720" y="927000"/>
            <a:ext cx="7365960" cy="14223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918400" cy="15750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84400" y="4508640"/>
            <a:ext cx="5156280" cy="126972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na00864_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1600200" cy="36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9E5-915A-4EA9-A70D-BF2F3B371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840" y="1295280"/>
            <a:ext cx="77396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-  ietaupa izejvielas, ūdeni un enerģiju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-  izslēdz toksisko izejmateriā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un vielu izmantošanu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- samazina izmešu ūdeņos un gais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daudzumu un toksiskumu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- samazina atkritumu apjomu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oksiskumu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000080"/>
                </a:solidFill>
                <a:uFillTx/>
                <a:latin typeface="Times New Roman"/>
              </a:rPr>
              <a:t>Ražošanas procesi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BF5-54C1-4E9E-B520-8F6233BB1D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840" y="2057400"/>
            <a:ext cx="81846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integrētas aizsargājošas vides stratēgij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pielietojums  ražošan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procesiem, precē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pakalpojumu sfērā la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palielinātu eko-efektivitā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un samazinātu riskus vērst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pret cilvēka veselību un vi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006633"/>
                </a:solidFill>
                <a:uFillTx/>
                <a:latin typeface="Times New Roman"/>
              </a:rPr>
              <a:t>Tīrāka ražošana   i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5368_" descr=""/>
          <p:cNvPicPr/>
          <p:nvPr/>
        </p:nvPicPr>
        <p:blipFill>
          <a:blip r:embed="rId1"/>
          <a:stretch/>
        </p:blipFill>
        <p:spPr>
          <a:xfrm>
            <a:off x="5997600" y="2819520"/>
            <a:ext cx="3146400" cy="33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922-AC61-48F7-92AE-768E525911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240" y="2971800"/>
            <a:ext cx="76096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ff"/>
                </a:solidFill>
                <a:latin typeface="Times New Roman"/>
              </a:rPr>
              <a:t>globālā mērogā veicina izpratni p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Times New Roman"/>
              </a:rPr>
              <a:t>preventīvo  vides aizsardzību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ff"/>
                </a:solidFill>
                <a:latin typeface="Times New Roman"/>
              </a:rPr>
              <a:t>valstu valdībām un rūpniecības nozarē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Times New Roman"/>
              </a:rPr>
              <a:t>palīdz izstrādāt  aktuā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Times New Roman"/>
              </a:rPr>
              <a:t>Tīrākas  ražošanas  program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000080"/>
                </a:solidFill>
                <a:uFillTx/>
                <a:latin typeface="Times New Roman"/>
              </a:rPr>
              <a:t>UN EP  Tīrākas ražošanas programma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9B4-8CE0-444F-8298-6104D30276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09680" y="761760"/>
            <a:ext cx="3353040" cy="15238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762120"/>
            <a:ext cx="2895840" cy="15238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93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0" y="1523880"/>
            <a:ext cx="4133880" cy="3468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200" y="868320"/>
            <a:ext cx="8109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o darīt ar mūs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tkritumiem un izmešiem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3333ff"/>
                </a:solidFill>
                <a:latin typeface="Times New Roman"/>
              </a:rPr>
              <a:t>Kur un kā rodas mūsu atkritum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3333ff"/>
                </a:solidFill>
                <a:latin typeface="Times New Roman"/>
              </a:rPr>
              <a:t>un izmeši u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3333ff"/>
                </a:solidFill>
                <a:latin typeface="Times New Roman"/>
              </a:rPr>
              <a:t>ko mēs varam darī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3333ff"/>
                </a:solidFill>
                <a:latin typeface="Times New Roman"/>
              </a:rPr>
              <a:t>lai samazinātu t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3333ff"/>
                </a:solidFill>
                <a:latin typeface="Times New Roman"/>
              </a:rPr>
              <a:t>ražošanas avotā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9FA-93A1-40AE-B8AC-A514A595F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d06670_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26556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4800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īrākas ražošanas četras sastāvdaļas i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B3E-4A6F-41F8-B95A-F11A63A758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0" y="1676520"/>
            <a:ext cx="746352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Potenciālam piesārņotāja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jābūt pārliecinātam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ka dotais proces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vai materiā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nevar bīstam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iedarbo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1549_" descr=""/>
          <p:cNvPicPr/>
          <p:nvPr/>
        </p:nvPicPr>
        <p:blipFill>
          <a:blip r:embed="rId1"/>
          <a:stretch/>
        </p:blipFill>
        <p:spPr>
          <a:xfrm>
            <a:off x="4836960" y="2514600"/>
            <a:ext cx="2706840" cy="3276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iesardzības  orientēta pieej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6D8-54F1-4F66-8BA9-0E7333A94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1200" y="1676520"/>
            <a:ext cx="59090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Novērš piesārņojum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rašanos tā avotā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pirms t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var tik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radī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01561_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4583160" cy="281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660066"/>
                </a:solidFill>
                <a:uFillTx/>
                <a:latin typeface="Times New Roman"/>
              </a:rPr>
              <a:t>Aizsargājoša pieej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44C-9726-4CE4-B7A5-401B73CC10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905120"/>
            <a:ext cx="78202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Strādnieki, patērētāji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administrācija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visiem ir pieeja informācijai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un ir iesaistīt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cc00cc"/>
                </a:solidFill>
                <a:latin typeface="Times New Roman"/>
              </a:rPr>
              <a:t>lēmumu pieņemšanā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660066"/>
                </a:solidFill>
                <a:uFillTx/>
                <a:latin typeface="Times New Roman"/>
              </a:rPr>
              <a:t>Demokrātij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7DC-149F-4383-B314-34E828BB2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1. </a:t>
            </a:r>
            <a:r>
              <a:rPr b="1" lang="en-GB" sz="1400" spc="-1" strike="noStrike">
                <a:solidFill>
                  <a:srgbClr val="006633"/>
                </a:solidFill>
                <a:latin typeface="Times New Roman"/>
              </a:rPr>
              <a:t>CLEANER PRODUCTION</a:t>
            </a: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, BACKGROUND,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9800" y="2133720"/>
            <a:ext cx="6714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cc"/>
                </a:solidFill>
                <a:latin typeface="Times New Roman"/>
              </a:rPr>
              <a:t>Visu materiālu, enerģij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cc"/>
                </a:solidFill>
                <a:latin typeface="Times New Roman"/>
              </a:rPr>
              <a:t>un ūdens plūsmu novērtē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cc"/>
                </a:solidFill>
                <a:latin typeface="Times New Roman"/>
              </a:rPr>
              <a:t>izmantojot aprites cikl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cc"/>
                </a:solidFill>
                <a:latin typeface="Times New Roman"/>
              </a:rPr>
              <a:t>analī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1194_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4267440" cy="1879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 u="sng">
                <a:solidFill>
                  <a:srgbClr val="660066"/>
                </a:solidFill>
                <a:uFillTx/>
                <a:latin typeface="Times New Roman"/>
              </a:rPr>
              <a:t>Integrētā un holistiskā pieej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254-06CF-40FC-BDA4-FEBFD2340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03T07:00:29Z</dcterms:created>
  <dc:creator>Kaarina Hanninen</dc:creator>
  <dc:description/>
  <dc:language>en-US</dc:language>
  <cp:lastModifiedBy>CESAMS</cp:lastModifiedBy>
  <dcterms:modified xsi:type="dcterms:W3CDTF">2000-05-24T20:39:24Z</dcterms:modified>
  <cp:revision>64</cp:revision>
  <dc:subject/>
  <dc:title>No Slide Title</dc:title>
</cp:coreProperties>
</file>