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8F8-6BBD-44C9-9AD8-9C4B64CC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70D-F503-456D-8A91-450439B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E7-CEC9-47BF-9594-457DE1F8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53F-AC16-405D-8FBB-161D7087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256-FA83-4B66-8693-DFC7F60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E28-FD32-4D6D-865D-0DF8BB2D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EB1-9DD6-41F5-BA31-75EBE89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ECD-1BEB-4BC5-BC0D-D0C1F05A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80F-3005-4FA1-B25B-E2E13B35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E05-A27F-4BA1-87F0-5C172AA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9C0-99E2-4A51-B27E-FB22E63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DFC-9DE7-4465-BC9F-804D67D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B7AD-7EC0-43C6-BD6F-9D4D88757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00356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Vides sertifikātu sistē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87320" y="4290840"/>
            <a:ext cx="39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Times New Roman"/>
              </a:rPr>
              <a:t>Eko-marķē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736-E68F-41E8-AFA4-876350B660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6560" y="3429000"/>
            <a:ext cx="55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00"/>
                </a:solidFill>
                <a:latin typeface="Times New Roman"/>
              </a:rPr>
              <a:t>Pārstrādāšanas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4114800"/>
            <a:ext cx="50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6633"/>
                </a:solidFill>
                <a:latin typeface="Times New Roman"/>
              </a:rPr>
              <a:t>Brīdinājumu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3760" y="4952880"/>
            <a:ext cx="43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3300"/>
                </a:solidFill>
                <a:latin typeface="Times New Roman"/>
              </a:rPr>
              <a:t>Produktu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9933"/>
                </a:solidFill>
                <a:latin typeface="Times New Roman"/>
              </a:rPr>
              <a:t>Vides sertifikātu kategorijas 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666633"/>
                </a:solidFill>
                <a:latin typeface="Times New Roman"/>
              </a:rPr>
              <a:t>Vispārējie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031-26AC-46CC-8CFE-0B1126338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0035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Times New Roman"/>
              </a:rPr>
              <a:t>Dažādu valstu ekomarķēju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CD2-7D14-4A40-A370-3F6BF4F21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Times New Roman"/>
              </a:rPr>
              <a:t>AUSTRIJA </a:t>
            </a:r>
            <a:br>
              <a:rPr sz="6000"/>
            </a:br>
            <a:br>
              <a:rPr sz="6000"/>
            </a:br>
            <a:r>
              <a:rPr b="1" lang="en-GB" sz="4000" spc="-1" strike="noStrike">
                <a:solidFill>
                  <a:srgbClr val="800080"/>
                </a:solidFill>
                <a:latin typeface="Times New Roman"/>
              </a:rPr>
              <a:t>EKO-TEX MARĶĒ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540-C46C-4782-B5ED-0EBAA49D5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0520" y="1981080"/>
            <a:ext cx="431964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imes New Roman"/>
              </a:rPr>
              <a:t>KANĀDA: VIDES IZVĒ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611-A93C-478C-8739-5A391209B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124080"/>
            <a:ext cx="63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Ķī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ktu vides marķēšanas sertificēšanas komite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ĶĪ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C7C-ED61-425E-A371-1E0A6AA6F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4394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76520" y="98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VĀCIJA: ZILAIS ENĢEL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0A7-365A-4ADE-9794-9DCA8B1C57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6960" y="3124080"/>
            <a:ext cx="27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KO-LOG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FRANCI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82A-D8B0-401C-B4BD-B882B32AF7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2560" y="3048120"/>
            <a:ext cx="26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KO ZĪ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3240" y="426708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Zemei draudzīgi"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JAPĀ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6F8-3D40-4151-9795-0C2158976A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72040" cy="426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14760" y="990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DEN: EL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DD2-9CC7-481E-BC68-78AB6AEF1C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12280" y="874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553080"/>
            <a:ext cx="82296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49748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DEN: BRA MILJÖ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864-1695-4C8C-A2AC-8138211AA4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48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patērētāja informēšana par produkta ražošanas ietekmi uz vidi, par ražojuma pielietošanu un kā rīkoties pēc tā izmantoša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00"/>
                </a:solidFill>
                <a:latin typeface="Times New Roman"/>
              </a:rPr>
              <a:t>Vides sertifikātu mērķ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E09-66CE-45EB-BCE0-DE8032B41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64000" y="1219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424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ZVIEDRIJA: PRASĪ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3C7-35E4-4B07-9302-79559BEDFE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2160" y="3429000"/>
            <a:ext cx="52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komarķēšanas pārval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9000" y="4191120"/>
            <a:ext cx="42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adarbības projek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PVIENOTĀ KARAL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196-C0C5-474D-B3D2-DB6EF55833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98920" y="12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Times New Roman"/>
              </a:rPr>
              <a:t>ASV: ZAĻĀ ROŅA APSTIPRINĀJ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554-C3D3-495A-8380-4A33556220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67160" cy="4648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9144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Eiropas Savienības </a:t>
            </a:r>
            <a:br>
              <a:rPr sz="4800"/>
            </a:b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PUĶ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1AC-5075-4810-AF32-722DA03AA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0400" y="2556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889080" cy="4419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2160" y="990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SKANDINĀVU GULB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2EE-D2FC-444B-88F4-54C0DFE458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57880" y="2117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GLOBĀLAIS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EKOMARĶĒŠANAS 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SADARBĪBAS TĪK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E8F-0651-4A5E-9EAB-E37B66A9FA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0400" y="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02160" cy="441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79840" y="8064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ZVIEDRIJA: VIDES DIPL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1B4-A6C4-49CD-A5C2-6FDDD1AF6C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19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364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644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76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2004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palielināt zināšanu apjomu par ražojum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33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sniegt norādes patērētājiem, izvēloties videi draudzīgus ražojum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Vides sertifikātu mērķ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B4D-7598-4D0D-86DF-61884D685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819520"/>
            <a:ext cx="802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buClr>
                <a:srgbClr val="33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veicināt radīt videi draudzīgu produkc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33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piedāvāt tirgum videi draudzīgu produkc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Vides sertifikātu mērķ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342-5467-4158-8C7A-B916D88A4B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981080"/>
            <a:ext cx="814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buClr>
                <a:srgbClr val="33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radīt videi draudzīgas kompānijas “imidžu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339933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brīdināt par ražojuma pielietošanas vai arī tā nepareizas izmantošanas iespējamo ietekmi uz patērētāju vai vid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</a:rPr>
              <a:t>Vides sertifikātu mērķ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301-7900-465D-9885-1926058A1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886200"/>
            <a:ext cx="706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Nevalstiskās organizāc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Ar vidi saistītas organizāc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Ražotāju asociāc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9933"/>
                </a:solidFill>
                <a:latin typeface="Times New Roman"/>
              </a:rPr>
              <a:t>Vides sertifikātu kategorijas</a:t>
            </a: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339966"/>
                </a:solidFill>
                <a:latin typeface="Times New Roman"/>
              </a:rPr>
              <a:t>Neatkarīgie jeb </a:t>
            </a:r>
            <a:br>
              <a:rPr sz="3600"/>
            </a:br>
            <a:r>
              <a:rPr b="1" lang="en-GB" sz="3600" spc="-1" strike="noStrike">
                <a:solidFill>
                  <a:srgbClr val="339966"/>
                </a:solidFill>
                <a:latin typeface="Times New Roman"/>
              </a:rPr>
              <a:t>privātie eko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F12-86E7-4225-B129-1CEF143FD2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organizāciju locekļ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dažādu kritēriju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tie tiek pārbaudī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8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ietekme uz produkcijas tirgus noie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9092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9933"/>
                </a:solidFill>
                <a:latin typeface="Times New Roman"/>
              </a:rPr>
              <a:t>Vides sertifikātu organizācijas</a:t>
            </a:r>
            <a:br>
              <a:rPr sz="4000"/>
            </a:br>
            <a:r>
              <a:rPr b="1" lang="en-GB" sz="3600" spc="-1" strike="noStrike">
                <a:solidFill>
                  <a:srgbClr val="008080"/>
                </a:solidFill>
                <a:latin typeface="Times New Roman"/>
              </a:rPr>
              <a:t>Dažādu organizāciju piešķirtie eko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FA2-C87D-4574-91DF-7C0BB2C7F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38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571680">
              <a:lnSpc>
                <a:spcPct val="100000"/>
              </a:lnSpc>
              <a:buClr>
                <a:srgbClr val="0066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mārketinga līdzek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0066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videi draudzīgas kompānijas “imidž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0066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nereti tiem nav noteiktu vides kritēr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0066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kompānijas centieni radīt videi draudzīgu produkc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buClr>
                <a:srgbClr val="0066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tiek izmantoti kādai īpašai kolekcijai vai ražošanas līnij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Vides sertifikātu kategorijas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Kompāniju eko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339-656B-4C05-85C3-D7310BF724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6720" y="152280"/>
            <a:ext cx="5199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Times New Roman"/>
              </a:rPr>
              <a:t>10. ENVIRONMENTAL CER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583320"/>
            <a:ext cx="84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Times New Roman"/>
              </a:rPr>
              <a:t>   TRANS-MOND ENVIRONMENT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7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Times New Roman"/>
              </a:rPr>
              <a:t>piešķir pēc pārbaudē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Times New Roman"/>
              </a:rPr>
              <a:t>tiem ir oficiāli izstrādāti kritēri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Times New Roman"/>
              </a:rPr>
              <a:t>tiek veiktas regulāras pārba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Times New Roman"/>
              </a:rPr>
              <a:t>Multinacionālie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00"/>
                </a:solidFill>
                <a:latin typeface="Times New Roman"/>
              </a:rPr>
              <a:t>nacionālie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33"/>
                </a:solidFill>
                <a:latin typeface="Times New Roman"/>
              </a:rPr>
              <a:t>Vides sertifikātu kategorijas </a:t>
            </a:r>
            <a:br>
              <a:rPr sz="3600"/>
            </a:br>
            <a:r>
              <a:rPr b="1" lang="en-GB" sz="3600" spc="-1" strike="noStrike">
                <a:solidFill>
                  <a:srgbClr val="336600"/>
                </a:solidFill>
                <a:latin typeface="Times New Roman"/>
              </a:rPr>
              <a:t>Nacionālie un starptautiskie marķēj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66D-B6E0-4048-897F-38572C52B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1:25:44Z</dcterms:created>
  <dc:creator>Marja Innanen</dc:creator>
  <dc:description/>
  <dc:language>en-US</dc:language>
  <cp:lastModifiedBy>CESAMS</cp:lastModifiedBy>
  <dcterms:modified xsi:type="dcterms:W3CDTF">2000-05-24T22:31:18Z</dcterms:modified>
  <cp:revision>79</cp:revision>
  <dc:subject/>
  <dc:title>Ei dian otsikkoa</dc:title>
</cp:coreProperties>
</file>