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CA8-8288-44FB-8D5E-EADD626B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17B-AE7D-4B3F-9187-D689F77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01D-11EC-4257-91D6-96F990C8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F09-03A8-45FE-B5FA-920D7EF2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E04-56D1-4980-9BA3-47330C8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A32-E1A7-4620-A303-D0E6237F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BAB-F79C-43E5-82F5-FDEB350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927-D28E-47AA-80F5-4ACB1D8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050-54F5-49DB-B8A1-606CBA66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470-8738-4D64-AFDB-0BFCC2A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4DB-ED5A-4A76-B0CE-24421B6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FF4-9E1A-44D6-9178-566D660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C8C-F707-413D-9EB2-08F3087DE1D8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609480"/>
            <a:ext cx="914400" cy="60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990720"/>
            <a:ext cx="2667240" cy="914400"/>
          </a:xfrm>
          <a:prstGeom prst="hexagon">
            <a:avLst>
              <a:gd name="adj" fmla="val 72923"/>
              <a:gd name="vf" fmla="val 115470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2133720"/>
            <a:ext cx="3429000" cy="1981080"/>
          </a:xfrm>
          <a:prstGeom prst="hexagon">
            <a:avLst>
              <a:gd name="adj" fmla="val 43272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962520"/>
            <a:ext cx="3581280" cy="2438280"/>
          </a:xfrm>
          <a:prstGeom prst="hexagon">
            <a:avLst>
              <a:gd name="adj" fmla="val 36719"/>
              <a:gd name="vf" fmla="val 1154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3505320" cy="2133360"/>
          </a:xfrm>
          <a:prstGeom prst="hexagon">
            <a:avLst>
              <a:gd name="adj" fmla="val 41077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066680"/>
            <a:ext cx="2819520" cy="838440"/>
          </a:xfrm>
          <a:prstGeom prst="hexagon">
            <a:avLst>
              <a:gd name="adj" fmla="val 84070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440" y="68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966960"/>
            <a:ext cx="13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8320" y="2286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666880"/>
            <a:ext cx="22096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fak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Juridiskie/C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ērķi un uzdev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3680" y="403848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4419720"/>
            <a:ext cx="56116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truktūra un 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pmācība, Apziņ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mpetence, Komunikā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Dokumentācija, Darb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ntrole, Gatavība avārij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ituācijām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tgriezeniskā saik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185920"/>
            <a:ext cx="174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ntrol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966960"/>
            <a:ext cx="24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vald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2919240"/>
            <a:ext cx="2334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onitorings un Mērī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riģējoši un preventī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asāk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Uzskaite, pierak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5028840" y="761760"/>
            <a:ext cx="1258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rot="5400000">
            <a:off x="6438240" y="4381560"/>
            <a:ext cx="91512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 rot="10800000">
            <a:off x="2285280" y="4266360"/>
            <a:ext cx="762840" cy="91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 flipH="1" flipV="1" rot="5400000">
            <a:off x="3371400" y="208800"/>
            <a:ext cx="381600" cy="13345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9343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057400" y="1904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600200"/>
            <a:ext cx="1371600" cy="114300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Nepārtrau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Times New Roman"/>
              </a:rPr>
              <a:t>piln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6960" y="874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9CB-C882-4A60-B6C9-98F1DC8A4C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8520" y="3363840"/>
            <a:ext cx="764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Times New Roman"/>
              </a:rPr>
              <a:t>Apmācība, izprat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Times New Roman"/>
              </a:rPr>
              <a:t>un kompeten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Times New Roman"/>
              </a:rPr>
              <a:t>Kāpēc apmācība ir svarīga sekmīgas VPS nodrošināšanai </a:t>
            </a:r>
            <a:r>
              <a:rPr b="0" i="1" lang="fi-FI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1800" y="955800"/>
          <a:ext cx="322416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955800"/>
                    <a:ext cx="322416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E29-2D68-4CFB-87AA-9A8D571F5B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990720"/>
            <a:ext cx="899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800" spc="-1" strike="noStrike">
                <a:solidFill>
                  <a:srgbClr val="ff3300"/>
                </a:solidFill>
                <a:latin typeface="Arial"/>
              </a:rPr>
              <a:t>Iekšējo iespēju nostiprināšan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8720" y="548640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0066"/>
                </a:solidFill>
                <a:latin typeface="Arial"/>
              </a:rPr>
              <a:t>VPS ieviešana prasa ikviena līdzdal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581280" y="1905120"/>
          <a:ext cx="203364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05120"/>
                    <a:ext cx="20336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FD6-4D75-4595-963C-5555DA5040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914400"/>
            <a:ext cx="4724280" cy="541008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410080"/>
              <a:gd name="textAreaBottom" fmla="*/ 5179680 h 5410080"/>
            </a:gdLst>
            <a:ahLst/>
            <a:rect l="textAreaLeft" t="textAreaTop" r="textAreaRight" b="textAreaBottom"/>
            <a:pathLst>
              <a:path w="21600" h="24735">
                <a:moveTo>
                  <a:pt x="3600" y="0"/>
                </a:moveTo>
                <a:arcTo wR="3600" hR="3600" stAng="16200000" swAng="-5400000"/>
                <a:lnTo>
                  <a:pt x="0" y="21135"/>
                </a:lnTo>
                <a:arcTo wR="3600" hR="3600" stAng="10800000" swAng="-5400000"/>
                <a:lnTo>
                  <a:pt x="18000" y="24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mācības mērķ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Motivā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Izprat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aistīb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Prasmes/Spēj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Atbilst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nieg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54B-7186-44AD-9142-502C0FF477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6360" y="1090440"/>
            <a:ext cx="8771400" cy="46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660066"/>
                </a:solidFill>
                <a:latin typeface="Arial"/>
              </a:rPr>
              <a:t>Apmācības programm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660066"/>
                </a:solidFill>
                <a:latin typeface="Arial"/>
              </a:rPr>
              <a:t>īstenošanas pamatsoļ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1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Nosakiet,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kādas ir apmācības vajadzīb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2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Definēj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pmācības mērķ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3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Izvēlietie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piemērotas programmas un met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4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Sastādiet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pmācības plānu (kas,ko,kad,kur,k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5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Īstenoj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pmācības program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6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Izpētiet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pmācības programmas gaitu (pieraks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7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Novērtēj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pmācības efektivitā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2400" spc="-1" strike="noStrike">
                <a:solidFill>
                  <a:srgbClr val="ff3300"/>
                </a:solidFill>
                <a:latin typeface="Arial"/>
              </a:rPr>
              <a:t>Solis 8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Uzlabojiet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ogrammu (ja nepiecieš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A20-7F44-44BA-BB2A-D305AA7979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838080"/>
            <a:ext cx="8381880" cy="556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ācību materiā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ieaicinātie lektori / Eksper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onsult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Vietējās koledž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ārdevēji/Piegādātā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Kli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ehniskās/Tirdzniecība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/Biznesa Asociācij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ašmācība vai studiju gru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pmācība, izmantojot dato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0D2-F6BA-4EE4-8BB3-DF014CE525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762120"/>
            <a:ext cx="838188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09480"/>
            <a:ext cx="8153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ad apmācība varētu būt nepiecieš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bā pieņemts jauns darbinie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binieks pārcelts uz citu darb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binieks nespēj sekot instrukcij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īts pasākumu plā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viesti jauni procesi, materiāli vai iekā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zņēmums izdara izmaiņas mērķos un/vai uzdev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eņemts jauns likums, kurš skar uzņēmuma darb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ba kvalitāte nav apmierino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5FA-B38B-44FE-83D9-1A8A5A913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609480" y="716040"/>
            <a:ext cx="9753480" cy="71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ff3300"/>
                </a:solidFill>
                <a:uFillTx/>
                <a:latin typeface="Arial"/>
              </a:rPr>
              <a:t>Dažas tēzes par pieaugušo izglītības īpatnībā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augušajiem ir nepieciešams jaunās idejas saskaņot ar jau zinā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formācija, kura ir krasā pretrunā ar eksistējošiem pieņēmumiem, vai kura ir ”ļoti” jauna un tikai nedaud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ārklājas” ar jau zināmo, tiek apgūta lēnā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augušie dod priekšroku pašu virzītam mācību procesam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bprāt piedalās apmācību aprogrammas izveidē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augušie no apmācības sagaida noteiktu iznākumu, tāpēc viņiem ir svarīgi to uzzināt jau pirms kursa uzsākša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augušie dod priekšroku interaktīvām nodarbībām, nev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šai lekcij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-  Adaptēts no “30 Things We Know for Sure About Adults Learn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(Training Magazine, Jūlijs, 198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12A-ADFF-4737-8DD5-9F990F949B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42360" y="1517760"/>
            <a:ext cx="702936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3333cc"/>
                </a:solidFill>
                <a:latin typeface="Times New Roman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noteik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apmācības vajadzīb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apmācības programm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nodrošinā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nepieciešamo apmācību visos līmeņ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izskaidro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iegūto zināšanu pielietošanas nozī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analizē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lang="fi-FI" sz="2400" spc="-1" strike="noStrike" u="sng">
                <a:solidFill>
                  <a:srgbClr val="00cc99"/>
                </a:solidFill>
                <a:uFillTx/>
                <a:latin typeface="Times New Roman"/>
              </a:rPr>
              <a:t>dokumentē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apmācības noris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0880" y="838080"/>
          <a:ext cx="24098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24098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308-508B-4807-847A-7315909DEC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1360" y="3581280"/>
            <a:ext cx="8873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Komunikāci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pēc komunikācija ir vitāli svarīga VPS sekmīgai darbīb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19520" y="787320"/>
          <a:ext cx="3429000" cy="26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787320"/>
                    <a:ext cx="34290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E2-F905-4CCD-B376-7B8AF571EA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828080" y="990720"/>
            <a:ext cx="5334120" cy="533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7840" y="1143000"/>
            <a:ext cx="5074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zstrādājiet stratēģi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omunikācijai ar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aimiņ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ietējiem iedzīvotāj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itām interešu grup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vietējām varas iestādē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gulējošām aģentūr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vārijas seku likvidator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789-93F1-40C6-960E-2C9E2903A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96640" y="533520"/>
            <a:ext cx="6584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Arial"/>
              </a:rPr>
              <a:t>Struktūra u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0099"/>
                </a:solidFill>
                <a:uFillTx/>
                <a:latin typeface="Arial"/>
              </a:rPr>
              <a:t>atbildīb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jūsu uzņēmuma struktūra ietekm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vides pārvaldīb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29000" y="3581280"/>
          <a:ext cx="2401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81280"/>
                    <a:ext cx="2401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052-00D9-4ABD-BA35-CD19789F1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5400" y="1066680"/>
            <a:ext cx="814464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Komunikācija palīdzēs</a:t>
            </a:r>
            <a:r>
              <a:rPr b="0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motivēt 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darbiniek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skaidro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vides politiku (uzņēmumā un ārpus tā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un tās saikni ar biznesa pamatplānu un/v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tratēģiju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noskaidro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lomu sadalījumu kā arī to, 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personāls sagaida no visa pasākuma kopum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monstrē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apņemšanos pildīt saistīb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sistemātiski sekot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 pārmaiņu procesiem; u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 u="sng">
                <a:solidFill>
                  <a:srgbClr val="ff3300"/>
                </a:solidFill>
                <a:uFillTx/>
                <a:latin typeface="Times New Roman"/>
              </a:rPr>
              <a:t>saskatīt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potenciālos sistēmas uzlaboju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E49-25D3-42B0-90CD-D677C48B43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136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1295280"/>
            <a:ext cx="655344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21240" y="1371600"/>
            <a:ext cx="5552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es uzņēmu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ekšienē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formatīvais izdev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ersonāla sapul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redkolēģijas sē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“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brīno papī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maisiņu” pusdie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8EF-30A1-4042-91E0-845EC9607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371600"/>
            <a:ext cx="678204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9480" y="1447920"/>
            <a:ext cx="5296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odes ārp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zņēmum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tvērto durvju die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ktīvistu grup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reses paziņojum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kgadējie ziņojum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klā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C07-E929-4E5B-BECD-C833C96969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2362320"/>
            <a:ext cx="1002996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9900ff"/>
                </a:solidFill>
                <a:uFillTx/>
                <a:latin typeface="Times New Roman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ārējās un iekšējās komunikācijas kārtīb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9900ff"/>
                </a:solidFill>
                <a:uFillTx/>
                <a:latin typeface="Times New Roman"/>
              </a:rPr>
              <a:t>noteikuši,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kurš ir atbildīgs par ārējo komunikācij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9900ff"/>
                </a:solidFill>
                <a:uFillTx/>
                <a:latin typeface="Times New Roman"/>
              </a:rPr>
              <a:t>noteik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mērķauditorij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9900ff"/>
                </a:solidFill>
                <a:uFillTx/>
                <a:latin typeface="Times New Roman"/>
              </a:rPr>
              <a:t>formulē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katrai mērķauditorij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atbilstošu komunikācijas metožu kopum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990720"/>
          <a:ext cx="2479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2479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5FB-C09B-4CCC-AE02-FA5CD61B9B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975040" y="1554120"/>
          <a:ext cx="3192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5040" y="1554120"/>
                    <a:ext cx="3192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246320" y="1509840"/>
            <a:ext cx="6921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VPS Dokumentāci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pēc mums ir vajadzīga VPS dokumentāci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86760" y="4257720"/>
            <a:ext cx="9459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ff3300"/>
                </a:solidFill>
                <a:latin typeface="Arial"/>
              </a:rPr>
              <a:t>VPS raksturojums, un skats uz to, kā atsevišķ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ff3300"/>
                </a:solidFill>
                <a:latin typeface="Arial"/>
              </a:rPr>
              <a:t>fragmenti veido vienotu a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749-1A03-4587-B68F-A226EB0F3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762120"/>
            <a:ext cx="8153280" cy="5638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Polit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VPS Rokasgrām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Pasākum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ormas, shēmas ut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32767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495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638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38D-FB2B-4F78-A648-EB318ECCBD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76520" y="1371600"/>
          <a:ext cx="624816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62481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FFE-0CEC-4FE8-AB43-579BA9EF95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660240"/>
            <a:ext cx="10487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Kas ietilpst VP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dokumentācijā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66ccff"/>
                </a:solidFill>
                <a:latin typeface="Arial"/>
              </a:rPr>
              <a:t>Tur būtu jāiekļauj sekojoš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jūsu izstrādātā vides 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jūsu organizācijas struktūra un galvenās atbildīgās pers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lāns, kā jūsu uzņēmums gatavojas pildīt ISO 14001  prasīb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galveno veicamo pasākumu realizācijas plāns un aprak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norādes uz citiem dokumentiem šajā jom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9B1-7E20-4102-812F-814A73AA4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7400" y="2362320"/>
            <a:ext cx="8145720" cy="348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i-FI" sz="4000" spc="-1" strike="noStrike">
                <a:solidFill>
                  <a:srgbClr val="3333cc"/>
                </a:solidFill>
                <a:latin typeface="Arial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Times New Roman"/>
              </a:rPr>
              <a:t>Dokumentē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vides politiku, darba organizācij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galvenos pasākumus un citus sistēmas elementu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Times New Roman"/>
              </a:rPr>
              <a:t>Norādījuši,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ur cilvēki var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sameklēt uzskaitī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n citus dokumentu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Times New Roman"/>
              </a:rPr>
              <a:t>Paskaidro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saiknes starp visiem sistēmas elementi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480" y="990720"/>
          <a:ext cx="22669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2266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5F7-1621-4E02-A99A-C299B47E36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78200" y="3733920"/>
            <a:ext cx="684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400" spc="-1" strike="noStrike" u="sng">
                <a:solidFill>
                  <a:srgbClr val="3333cc"/>
                </a:solidFill>
                <a:uFillTx/>
                <a:latin typeface="Arial"/>
              </a:rPr>
              <a:t>Dokumentu kontro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mēs varam nodrošināt, ka katrs strād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ar pareizo informācij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895480" y="1219320"/>
          <a:ext cx="274320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274320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A19-F95D-4FA4-8A05-61D4BB18E7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143000"/>
            <a:ext cx="6019560" cy="4495680"/>
          </a:xfrm>
          <a:prstGeom prst="wedgeRoundRectCallout">
            <a:avLst>
              <a:gd name="adj1" fmla="val -44143"/>
              <a:gd name="adj2" fmla="val 69666"/>
              <a:gd name="adj3" fmla="val 16667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  <a:effectLst>
            <a:outerShdw dist="368453" dir="26168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48520" y="1523880"/>
            <a:ext cx="528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r resursiem sapr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personālu un t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peciālās prasme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tehnoloģijas 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naudas līdzekļus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316-3829-4890-814B-60A9C3360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762120"/>
            <a:ext cx="7086600" cy="56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49720" y="838080"/>
            <a:ext cx="5525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kumentu kontro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ment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evīzijas datums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priekšm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izdevīgākais lai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apstiprinājums (paraks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revīzijas num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dokumenta num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vai cita pazī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kopijas num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9E3-D288-4377-B771-2B492FC1BC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72760" y="1457280"/>
            <a:ext cx="643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3333cc"/>
                </a:solidFill>
                <a:latin typeface="Arial"/>
              </a:rPr>
              <a:t>Dokumenti, kuri būt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jākontrol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23560" y="3429000"/>
            <a:ext cx="5665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okasgrāma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arba instrukc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i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alizējamie pasāk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mas &amp; shē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(tehniskie zīmējumi, rasējum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087-3C5C-41DD-B63D-F71903DA6F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0960" y="4267080"/>
            <a:ext cx="863424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Būtisks jautājums</a:t>
            </a: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ai visi strādā ar vienu un to pašu dokumentu komplek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733920" y="1066680"/>
          <a:ext cx="17827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066680"/>
                    <a:ext cx="1782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E1E-0A44-44F9-9969-A12BAAB00F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295280"/>
            <a:ext cx="964872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3300"/>
                </a:solidFill>
                <a:uFillTx/>
                <a:latin typeface="Arial"/>
              </a:rPr>
              <a:t>     </a:t>
            </a: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Arial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VPS dokumentu kontroles kārtīb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Arial"/>
              </a:rPr>
              <a:t>Noteikuš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cik dokumentu kopijas mums būs vajadzīg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Arial"/>
              </a:rPr>
              <a:t>Sadalījuš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tbildību par dokumentu sagatavošan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vīziju, pārvaldi un glabāšan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914400"/>
          <a:ext cx="21272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21272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F76-E125-4F4A-BE77-43C29AB024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143000" y="3124080"/>
          <a:ext cx="6858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85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94280" y="1527120"/>
            <a:ext cx="82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3333cc"/>
                </a:solidFill>
                <a:latin typeface="Arial"/>
              </a:rPr>
              <a:t>Sakarības starp VPS dokumentācij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600" spc="-1" strike="noStrike">
                <a:solidFill>
                  <a:srgbClr val="3333cc"/>
                </a:solidFill>
                <a:latin typeface="Arial"/>
              </a:rPr>
              <a:t>dokumentu  kontroli un pierakst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B4F-AD09-4CE3-96F9-63D7949705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2880" y="2676600"/>
            <a:ext cx="85809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Ražošanas kontr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das ražošanas operācijas un pasākumi būtu jākontrol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attiecībā uz vides prasību izpild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219320"/>
          <a:ext cx="2479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2479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1F7-00BF-4D2D-86BD-4BD69D7C35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1752480"/>
            <a:ext cx="2210040" cy="10670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429000"/>
            <a:ext cx="3353040" cy="121932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304812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562360" y="2971800"/>
            <a:ext cx="6094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572000" y="47239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1600" y="20574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00"/>
                </a:solidFill>
                <a:latin typeface="Times New Roman"/>
              </a:rPr>
              <a:t>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08920" y="1523880"/>
            <a:ext cx="195480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00"/>
                </a:solidFill>
                <a:latin typeface="Times New Roman"/>
              </a:rPr>
              <a:t>Nozīmīgā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00"/>
                </a:solidFill>
                <a:latin typeface="Times New Roman"/>
              </a:rPr>
              <a:t>ietekm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00"/>
                </a:solidFill>
                <a:latin typeface="Times New Roman"/>
              </a:rPr>
              <a:t>identificēš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24440" y="358128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3300"/>
                </a:solidFill>
                <a:latin typeface="Times New Roman"/>
              </a:rPr>
              <a:t>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3300"/>
                </a:solidFill>
                <a:latin typeface="Times New Roman"/>
              </a:rPr>
              <a:t>k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6160" y="5527800"/>
            <a:ext cx="258876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6600"/>
                </a:solidFill>
                <a:latin typeface="Times New Roman"/>
              </a:rPr>
              <a:t>Mērķi un uzdev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B2A-0FEF-401A-8716-AED50386B9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762120"/>
            <a:ext cx="8610480" cy="56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762120"/>
            <a:ext cx="86104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žu procesu un pasākumu piemēri,  kuriem būtu nepieciešama kontro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atkritumu pārvalde/noglabāš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unu ķīmisko vielu izvē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izejvielu uzglabāšana un apstrā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notekūdeņu pārstrā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rāsošanas proc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alvanizācijas proces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adarbība ar kontraktor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3C2-9ED8-4CEB-B2D5-A8AD921F9A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1066680"/>
            <a:ext cx="7848720" cy="525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5440" y="1447920"/>
            <a:ext cx="651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ktori, kuri varētu apdraudē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kumentēšanas procedū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pasākuma ri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pasākumu un metož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sarežģītais rakst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uzraudzības pakāp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prasmes/darbaspēka apmācī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65E-CA96-4D5B-8569-F5FBA19C87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1523880"/>
            <a:ext cx="8686800" cy="5237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3333cc"/>
                </a:solidFill>
                <a:uFillTx/>
                <a:latin typeface="Arial"/>
              </a:rPr>
              <a:t>Daži padomi par procedū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Izprotiet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ošo procesu (ja iespējams, sāciet ar shēmu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r iespējams, </a:t>
            </a: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ietver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rī neformālās procedū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Koncentrēj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uzmanību uz atbilstošu ieviešanas proces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Izmantojie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tbilstošu formātu un piee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icamo pasākumu  plānu </a:t>
            </a: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pārskatiet kopā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ar darbiniekiem, kuru pienākumos ietilpst attiecīgo pasākumu realizēšana. Tomēr viņus pēc iespējas iesaistiet jau pašā plāna rakstīšan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Veicamos</a:t>
            </a:r>
            <a:r>
              <a:rPr b="0" lang="fi-FI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pasākumus definējiet īsi un skaid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vajadzīgas detaļas tikai sarežģīs kontr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1DF-D0D8-490B-87F7-61BD636E4A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762120"/>
          <a:ext cx="1104912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110491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460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AAC-B911-4EBB-A399-C6C7898DFF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425880" y="1344600"/>
            <a:ext cx="10011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66ff"/>
                </a:solidFill>
                <a:latin typeface="Arial"/>
              </a:rPr>
              <a:t>Vai mēs esam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cc0000"/>
                </a:solidFill>
                <a:uFillTx/>
                <a:latin typeface="Arial"/>
              </a:rPr>
              <a:t>Izstrādājuši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alveno operāciju un pasāku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ntroles mehānismu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cc0000"/>
                </a:solidFill>
                <a:uFillTx/>
                <a:latin typeface="Arial"/>
              </a:rPr>
              <a:t>Apmācījuš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darbiniekus attiecībā uz šo pasākumu īstenošanu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cc0000"/>
                </a:solidFill>
                <a:uFillTx/>
                <a:latin typeface="Arial"/>
              </a:rPr>
              <a:t>Esam ņēmuši vērā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normālos un ārkārtas darba režīm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08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876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364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7320" y="6553080"/>
            <a:ext cx="81536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838080"/>
          <a:ext cx="26668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2666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92B-85A8-4E34-A92B-70A1F99BCB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7240" y="1371600"/>
            <a:ext cx="897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Gatavība ārkārtas situācijā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un spēja tās likvidē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mums būtu jāgatavojas avārijā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un citām ārkārtas situācijā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05320" y="4267080"/>
          <a:ext cx="1942920" cy="21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67080"/>
                    <a:ext cx="194292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2CE-444A-497C-B306-64C8D2C8ED7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02080" y="373392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Nedomājiet tikai par se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likvidēšanu - par prioritā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jāuzskata negadīju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iespējas novēršan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3657600"/>
            <a:ext cx="396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Izanalizējiet iepriekšēj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negadījumus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mācieties no tiem prognozē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iespējamos atkārto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"/>
              </a:rPr>
              <a:t>negadījumu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3657600"/>
            <a:ext cx="3962520" cy="2057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3657600"/>
            <a:ext cx="3886200" cy="2057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819520" y="1219320"/>
          <a:ext cx="31860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31860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E0F-CC12-4C9B-A1BD-3C89C1E3CA5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362320" y="1447920"/>
            <a:ext cx="63864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 u="sng">
                <a:solidFill>
                  <a:srgbClr val="ff3300"/>
                </a:solidFill>
                <a:uFillTx/>
                <a:latin typeface="Arial"/>
              </a:rPr>
              <a:t>Vērtīgu informāciju satur</a:t>
            </a:r>
            <a:r>
              <a:rPr b="1" lang="fi-FI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teriālu drošības reģist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zņēmuma pā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cesu un plūsmu diagram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nstrukciju un to ekspluatācij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teikumi un standar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rošības sistē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i (trauks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zvans, ūdens aizkars, ut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295280"/>
            <a:ext cx="6781680" cy="5029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DD0-17D2-4BFD-AC2F-B449894E2F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380880" y="612720"/>
            <a:ext cx="1128060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3300"/>
                </a:solidFill>
                <a:latin typeface="Arial"/>
              </a:rPr>
              <a:t>Pārbaudiet savu gatavību negadīju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3300"/>
                </a:solidFill>
                <a:latin typeface="Arial"/>
              </a:rPr>
              <a:t>seku likvidēšan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66ff"/>
                </a:solidFill>
                <a:latin typeface="Arial"/>
              </a:rPr>
              <a:t>Vai jūsu plānā ir ietverta sekojoša informā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tenciālās avārijas situācijas (piem. ugunsgrēki, eksplozijas, noplū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.sk. bīstamo vielu, dabas katastrofa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zņēmumā izmantojamās vielas un to atrašanās viet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rganizatorisko pamatfunkciju sadalījums (ieskaitot atbildīgo perso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 negadījumiem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enošanās ar vietējiem avārijas seku likvidēšanas un glābšanas dienestiem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atavība novērst radušos ārkārtas situāciju, ieskait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rīdināšanas sistēm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Šādos gadījumos nepieciešamo instrumentu atrašanās viet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ekārtu / instrumentu apkope un uzturēšana darba kārtībā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ersonāla apmācība un pārbaude, ieskaitot vietējo glābšanas vienīb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edzīvotāju brīdinājuma / trauksmes signāla pārbaud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vakuācijas plāni un avārijas izejas, pulcēšanās vieta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F05-266F-4CEE-AF37-75FB99BAE5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1295280"/>
            <a:ext cx="78152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       </a:t>
            </a: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66ff"/>
                </a:solidFill>
                <a:latin typeface="Arial"/>
              </a:rPr>
              <a:t>Vai mēs esam 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zanalizējuši iespējamās avārijas situācijas?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Izstrādājuši darbības plānus šādām situācijā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Iegādājušies rīkus/iekārtas avārijas likvidēšanai un apmācījuši personālu ar tiem rīkoti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ācījušies no iepriekšējo negadījumu mācībstundām?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914400" y="1295280"/>
          <a:ext cx="21970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197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B85-1EA6-4335-884C-2A79C9C1C2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114800" y="609480"/>
            <a:ext cx="914400" cy="6098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1480" y="990720"/>
            <a:ext cx="2667240" cy="914400"/>
          </a:xfrm>
          <a:prstGeom prst="hexagon">
            <a:avLst>
              <a:gd name="adj" fmla="val 72923"/>
              <a:gd name="vf" fmla="val 115470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2133720"/>
            <a:ext cx="3429000" cy="1981080"/>
          </a:xfrm>
          <a:prstGeom prst="hexagon">
            <a:avLst>
              <a:gd name="adj" fmla="val 43272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962520"/>
            <a:ext cx="3581280" cy="2438280"/>
          </a:xfrm>
          <a:prstGeom prst="hexagon">
            <a:avLst>
              <a:gd name="adj" fmla="val 36719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2133720"/>
            <a:ext cx="3505320" cy="2133360"/>
          </a:xfrm>
          <a:prstGeom prst="hexagon">
            <a:avLst>
              <a:gd name="adj" fmla="val 41077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1066680"/>
            <a:ext cx="2514600" cy="838440"/>
          </a:xfrm>
          <a:prstGeom prst="hexagon">
            <a:avLst>
              <a:gd name="adj" fmla="val 74979"/>
              <a:gd name="vf" fmla="val 11547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5880" y="685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ā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966960"/>
            <a:ext cx="132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23400" y="2286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2666880"/>
            <a:ext cx="22096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Vides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fak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Juridiskie/C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ērķi un uzdev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Vides pārvaldīb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5840" y="40384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Ievie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6960" y="4419720"/>
            <a:ext cx="33613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truktūra un 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pmācība, Apziņa, Kompeten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munikĀcija   Dokumentācij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Darbības Kontrole, Gatavība avārij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situācijā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tgriezeniskā saik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520" y="228600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Kontrol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Korekc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76520" y="966960"/>
            <a:ext cx="192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vald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00"/>
                </a:solidFill>
                <a:latin typeface="Times New Roman"/>
              </a:rPr>
              <a:t>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3000" y="2895480"/>
            <a:ext cx="25909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Monitorings un Mērī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Koriģējoši un preventī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pasāk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Uzskaite, pierak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fi-FI" sz="1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endCxn id="359" idx="0"/>
          </p:cNvCxnSpPr>
          <p:nvPr/>
        </p:nvCxnSpPr>
        <p:spPr>
          <a:xfrm>
            <a:off x="5257440" y="761760"/>
            <a:ext cx="1258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endCxn id="361" idx="3"/>
          </p:cNvCxnSpPr>
          <p:nvPr/>
        </p:nvCxnSpPr>
        <p:spPr>
          <a:xfrm rot="5400000">
            <a:off x="6438240" y="4457520"/>
            <a:ext cx="915120" cy="534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/>
          <p:nvPr/>
        </p:nvCxnSpPr>
        <p:spPr>
          <a:xfrm rot="10800000">
            <a:off x="2285280" y="4266360"/>
            <a:ext cx="762840" cy="918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0"/>
          </p:cNvCxnSpPr>
          <p:nvPr/>
        </p:nvCxnSpPr>
        <p:spPr>
          <a:xfrm flipH="1" flipV="1" rot="5400000">
            <a:off x="2952360" y="209160"/>
            <a:ext cx="381600" cy="13341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693432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057400" y="1904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1600200"/>
            <a:ext cx="1371600" cy="114300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Nepārtrauk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ilvneid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6960" y="8748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60948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4ED-93FB-43EA-9786-1A87EE663C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68600" y="4267080"/>
            <a:ext cx="7421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Monitorings un mērī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Kā mēs varam zināt kā mums ve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05320" y="1066680"/>
          <a:ext cx="19936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1993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ED6-A50F-48A2-A837-22A49755AC8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10920" y="1141560"/>
            <a:ext cx="776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Ja jūs nevarat to izmērī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tad jūs to nevar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arī vadīt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- Peter Dru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666880" y="3886200"/>
          <a:ext cx="58676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886200"/>
                    <a:ext cx="58676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38F-F5C1-42AF-8907-893396252D8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932200" y="1447920"/>
            <a:ext cx="34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Kuriem proces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varētu būt ievēroj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ietekme uz vid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95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Kādi ir šo pasākumu pamatrādītāj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04880" y="4952880"/>
            <a:ext cx="24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Kā mēs 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varam izmērī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1371600"/>
            <a:ext cx="4952880" cy="1447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3124080"/>
            <a:ext cx="4572000" cy="1447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4800600"/>
            <a:ext cx="3581280" cy="1219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457200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0B1-AD92-489F-95BB-FF18CA8E73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838080"/>
            <a:ext cx="7924680" cy="556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6189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2880" y="838080"/>
            <a:ext cx="645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zo uzņēmu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ganizatoriskās priekšrocība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Īsāki komunikāciju ceļ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ienkāršāka organizā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onkrētāka pienākumu sad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ienkāršāka pārvaldī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9CF-FEBE-463B-A2DB-DA658EB7D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1143000"/>
            <a:ext cx="5486400" cy="525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57640" y="1219320"/>
            <a:ext cx="4384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ektīvas mērīšan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mas pazī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vienkār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elastī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atbilsto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darbojoš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rezultāti izplatī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iegūti ticami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E36-9BDA-4D1B-975F-C6DA60EEF1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1752480"/>
            <a:ext cx="6019920" cy="449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1905120"/>
            <a:ext cx="586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tbilstības vid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rasībā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novērtējums i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nepārtraukt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267-9E8C-4DD9-88C6-D5CB203BBE0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885960"/>
            <a:ext cx="8432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Vides pārvaldības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3300"/>
                </a:solidFill>
                <a:latin typeface="Arial"/>
              </a:rPr>
              <a:t>Programmas Elem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rganizācijas prasības un standarti, kuri norāda, k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sonālam ir jāpilda normatīvie a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zdevums pārraudzīt definēto saistību izpil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stemātiska pārraudzība pār prasību un standartu izpild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piem., monitorings un au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teikti personāla stimulēšanas un disciplinārie pasāku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egūtās informācijas brīva apsprieš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oblēmas tiek risinātas un attiecīgās kļūdas lab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(adapted from EPA’s final policy statement on self-audit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December 22, 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F39-4943-4F7E-A79A-B1EE2432266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838080"/>
            <a:ext cx="6781680" cy="541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7160" y="958680"/>
            <a:ext cx="535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pmācības lietderīb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dika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Par noplūdes novēršan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pmācīto cilvēku sk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Noplūdes gadījumu ska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22096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211-F724-4E3C-8BB5-5E9C6E60FDE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-138240" y="660240"/>
            <a:ext cx="89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66ff"/>
                </a:solidFill>
                <a:uFillTx/>
                <a:latin typeface="Arial"/>
              </a:rPr>
              <a:t>Audita un vides pasākum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66ff"/>
                </a:solidFill>
                <a:uFillTx/>
                <a:latin typeface="Arial"/>
              </a:rPr>
              <a:t>novērtējuma (VP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0066ff"/>
                </a:solidFill>
                <a:uFillTx/>
                <a:latin typeface="Arial"/>
              </a:rPr>
              <a:t>salīdzināju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048120"/>
            <a:ext cx="4114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3400" y="3048120"/>
            <a:ext cx="3911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d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erio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atseviķas datu pak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eatkarīgs novēro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ērtējums no gadīj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uz gadījum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048120"/>
            <a:ext cx="4114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3048120"/>
            <a:ext cx="4105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epārtrauk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bieži iegūti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tiešs novēroju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isa procesa vērtējums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CEE-8F37-43A9-90DC-A5683E1ACE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870120"/>
            <a:ext cx="939312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4800" spc="-1" strike="noStrike" u="sng">
                <a:solidFill>
                  <a:srgbClr val="3333cc"/>
                </a:solidFill>
                <a:uFillTx/>
                <a:latin typeface="Arial"/>
              </a:rPr>
              <a:t>VPS indikatoru piemēr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aistošo organisko vielu izmete uz vienu produkcijas vienīb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adā saražoto bīstamo atkritumu daudz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arbinieku skaits (procentos), kuri apmeklējuši ar vid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matiku saistītus kur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dējais laika patēriņš kļūmju un noviržu novēršan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ģijas patēriņš uz vienu produkcijas vienīb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ārstrādāto cieto atkritumu daudz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03C-418D-4A7D-A34C-EF5DA286D76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990720"/>
            <a:ext cx="965844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i-FI" sz="48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fi-FI" sz="4000" spc="-1" strike="noStrike">
                <a:solidFill>
                  <a:srgbClr val="3333cc"/>
                </a:solidFill>
                <a:latin typeface="Times New Roman"/>
              </a:rPr>
              <a:t>Vai mēs esam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Formulējuš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pamatprocesu raksturīgāk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ādītājus un to mērīšanas un novēroša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od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Noorganizējuši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gulāru uzņēmuma darbīb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tbilstības likumiem un noteikumiem izvērtēšanas (ar ārē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ditoru palīdzību) proces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Noteikuši,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kā vērtēt darbu izpildes atbilstīb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spraustajiem mērķiem un uzdevumi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buClr>
                <a:srgbClr val="00cc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cc99"/>
                </a:solidFill>
                <a:uFillTx/>
                <a:latin typeface="Arial"/>
              </a:rPr>
              <a:t>Izstrādājuš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onitoringa veikšanai nepiecieša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7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ēriekārtu uzturēšanas un kalibrēšanas kārtīb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33520" y="990720"/>
          <a:ext cx="20556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2055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C3D-4479-4468-81A9-C362B85A28E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914400"/>
            <a:ext cx="5257800" cy="5486400"/>
          </a:xfrm>
          <a:custGeom>
            <a:avLst/>
            <a:gdLst>
              <a:gd name="textAreaLeft" fmla="*/ 256680 w 5257800"/>
              <a:gd name="textAreaRight" fmla="*/ 5001120 w 5257800"/>
              <a:gd name="textAreaTop" fmla="*/ 256680 h 5486400"/>
              <a:gd name="textAreaBottom" fmla="*/ 5229720 h 5486400"/>
            </a:gdLst>
            <a:ahLst/>
            <a:rect l="textAreaLeft" t="textAreaTop" r="textAreaRight" b="textAreaBottom"/>
            <a:pathLst>
              <a:path w="21600" h="22539">
                <a:moveTo>
                  <a:pt x="3600" y="0"/>
                </a:moveTo>
                <a:arcTo wR="3600" hR="3600" stAng="16200000" swAng="-5400000"/>
                <a:lnTo>
                  <a:pt x="0" y="18939"/>
                </a:lnTo>
                <a:arcTo wR="3600" hR="3600" stAng="10800000" swAng="-5400000"/>
                <a:lnTo>
                  <a:pt x="18000" y="22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838080"/>
            <a:ext cx="556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Sāk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Pievērsiet uzmanīb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Programmas apjom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Vides aspekt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Iepriekšējiem auditi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Citām sistēmā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08E-B4A3-46FC-B3A9-FD59F2AB8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762120"/>
            <a:ext cx="6477120" cy="56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8440" y="763560"/>
            <a:ext cx="59749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trodiet iespēju VPS</a:t>
            </a:r>
            <a:r>
              <a:rPr b="1" lang="en-US" sz="3200" spc="-1" strike="noStrike">
                <a:solidFill>
                  <a:srgbClr val="008000"/>
                </a:solidFill>
                <a:latin typeface="RimTime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ntegrēt j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esošajās sistēmās, piemēram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formācijas sistē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epirkumu poli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Kvalitātes nodrošināšanas sistē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arba instru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mācības progra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Komunikācijas pasā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Ziņojumu sniegšanas kārtī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ersonāla vērtēšan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imulēšanas un disciplī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nodrošināšanas proc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BD5-F71D-4C22-A86C-DA5FF236F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9800" y="804960"/>
            <a:ext cx="75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 u="sng">
                <a:solidFill>
                  <a:srgbClr val="000099"/>
                </a:solidFill>
                <a:uFillTx/>
                <a:latin typeface="Times New Roman"/>
              </a:rPr>
              <a:t>Kā dažādi uzņēmuma darbības sektori var atbalstīt V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8640" y="1414440"/>
            <a:ext cx="8795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Times New Roman"/>
              </a:rPr>
              <a:t>Sektori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ff3300"/>
                </a:solidFill>
                <a:latin typeface="Times New Roman"/>
              </a:rPr>
              <a:t>Kā tie var palīdzēt (iespējamās lomas)</a:t>
            </a:r>
            <a:r>
              <a:rPr b="1" lang="fi-FI" sz="2400" spc="-1" strike="noStrike">
                <a:solidFill>
                  <a:srgbClr val="ff3300"/>
                </a:solidFill>
                <a:latin typeface="RimTime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Iepirkšana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Izstrādājiet un realizējiet notiktu ķīmisko un citu vielu iepirkšanas kārtīb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Personāls        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Definējiet kompetences prasības un darba aprakstus dažādiem amatiem V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Ieintegrējiet vides pārvaldības elementus stimulēšanas, novērtēšanas 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disciplīnas nodrošināšanas sistēmā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Uzturēšana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Ieviesiet preventīvu pamatiekārtu uzturēšanas programm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Finanses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Sekojiet datiem par vides pārvaldības realizēšanas izmaksā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Izstrādājiet vides pārvaldības programmas budžet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vērtējiet vides projektu ekonomisko efek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Ražošana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vērtējiet jauno vai pārveidoto produktu un procesu ietekmi uz vi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vērtējiet piesārņojuma novēršanas iespēj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Vadība            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VPS nozīmi skaidrojiet visam uzņēmuma personāl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drošiniet nepieciešamos resurs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nalizējiet VPS darbīb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Konveij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strādnieki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Sniedziet pamatzināšanas par atsevišķo operāciju ietekmi uz vi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tbalstiet jauno darbinieku apmācību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82880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6960" y="16344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232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FC7-EF26-4E88-94A3-7260B7A788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2160" y="1312920"/>
            <a:ext cx="8370720" cy="49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 u="sng">
                <a:solidFill>
                  <a:srgbClr val="ff3300"/>
                </a:solidFill>
                <a:uFillTx/>
                <a:latin typeface="Times New Roman"/>
              </a:rPr>
              <a:t>Kontroljautāj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3333cc"/>
                </a:solidFill>
                <a:latin typeface="Times New Roman"/>
              </a:rPr>
              <a:t>Vai mēs esam .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 u="sng">
                <a:solidFill>
                  <a:srgbClr val="3333cc"/>
                </a:solidFill>
                <a:uFillTx/>
                <a:latin typeface="Times New Roman"/>
              </a:rPr>
              <a:t>Sadalījuši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vides pārvaldības lom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zņēmuma iekšienē šīs lomas ir </a:t>
            </a:r>
            <a:r>
              <a:rPr b="0" lang="fi-FI" sz="2400" spc="-1" strike="noStrike" u="sng">
                <a:solidFill>
                  <a:srgbClr val="3333cc"/>
                </a:solidFill>
                <a:uFillTx/>
                <a:latin typeface="Times New Roman"/>
              </a:rPr>
              <a:t>izskaidrotas un zināmas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teikuši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nepieciešamos resurs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 u="sng">
                <a:solidFill>
                  <a:srgbClr val="3333cc"/>
                </a:solidFill>
                <a:uFillTx/>
                <a:latin typeface="Times New Roman"/>
              </a:rPr>
              <a:t>Iecēluši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pārvaldības pārstāv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ēc iespējas </a:t>
            </a:r>
            <a:r>
              <a:rPr b="0" lang="fi-FI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tegrējuši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vides pārvaldības sistē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citos uzņēmuma darbības sekto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960" y="239760"/>
            <a:ext cx="654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6600"/>
                </a:solidFill>
                <a:latin typeface="Times New Roman"/>
              </a:rPr>
              <a:t>ENVIRONMENTAL MANAGEMENT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TRAINING COURSE IN CLEANER PRODUCTION FOR LATVIAN INDUSTRIAL ENTERP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40" y="6583320"/>
            <a:ext cx="82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CESAMS 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00"/>
                </a:solidFill>
                <a:latin typeface="Times New Roman"/>
              </a:rPr>
              <a:t>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1066680"/>
          <a:ext cx="21970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2197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A4E-435B-4CAB-998A-5EFE3BFFFB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04:50Z</dcterms:created>
  <dc:creator>Marja Innanen</dc:creator>
  <dc:description/>
  <dc:language>en-US</dc:language>
  <cp:lastModifiedBy>CESAMS</cp:lastModifiedBy>
  <cp:lastPrinted>2000-05-09T11:48:36Z</cp:lastPrinted>
  <dcterms:modified xsi:type="dcterms:W3CDTF">2000-05-24T22:32:36Z</dcterms:modified>
  <cp:revision>136</cp:revision>
  <dc:subject/>
  <dc:title>Ei dian otsikkoa</dc:title>
</cp:coreProperties>
</file>