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6C0F-6990-4C83-A1C8-FB0C12DE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A57-DF61-41CA-A623-69D73E42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F9E-06C3-4C91-BAC7-626DD691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BD7-44E5-40BB-A288-1ECD78C0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499-1220-45B2-A60B-663A18CB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B23-2D85-4504-A086-FBB06A27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898-04B6-4AFC-8298-0C875D94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779-A554-4FE7-90A3-54333559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6AB-487D-4DB0-8EFD-D05DDD16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C20-5CA7-4E67-ACD5-1E005007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58B-44E0-4C6F-8EBB-F69120FD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B67-C6D4-4B11-BEA6-ACD51054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1AFD-BE0B-4A37-9ACB-5719F0FD9D84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70280" y="609480"/>
            <a:ext cx="6741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 u="sng">
                <a:solidFill>
                  <a:srgbClr val="ff0000"/>
                </a:solidFill>
                <a:uFillTx/>
                <a:latin typeface="Times New Roman"/>
              </a:rPr>
              <a:t>Neatbilstība un koriģējošie/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 u="sng">
                <a:solidFill>
                  <a:srgbClr val="ff0000"/>
                </a:solidFill>
                <a:uFillTx/>
                <a:latin typeface="Times New Roman"/>
              </a:rPr>
              <a:t>preventīvie pasāku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Ko mēs darām, kad konstatējam problēm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3720" y="2971800"/>
            <a:ext cx="6878520" cy="3385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atbilstība nozīmē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istēma neatbilst VPS kritēriji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(piemēram  ISO 1400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va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praktiskā realizēšana neatbil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izstrādātās VPS apraksta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1019160"/>
            <a:ext cx="8556840" cy="55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3333cc"/>
                </a:solidFill>
                <a:latin typeface="Times New Roman"/>
              </a:rPr>
              <a:t>Reģistru piemēr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likumi un dažādi normatīvie ak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vidi ietekmējošo faktoru atlases rezultā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secinājumi par mērķu un uzdevumu izpil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atļaujas, licences un citi apliecinošie doku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pieraksti par apmācības veikšan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auditu ziņoj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atklāto nepilnību, koriģējošo pasākumu un to rezultātu da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ziņojumi par bīstamo vielu noplūdi un citiem negadījumie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komunikācija ar klientiem, piegādātājiem, kontraktoriem, u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pārvaldības procesa analīzes rezultā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monitoringa da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iekārtu uzturēšanas reģis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aparātu kalibrēšanas reģis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Arial"/>
              </a:rPr>
              <a:t>ISO 14001 prasa, lai uzņēmumu lietvedībā ietilptu dokumentācija par apmācības veikšanu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Arial"/>
              </a:rPr>
              <a:t>auditu un citu pārbaužu rezultātiem.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2514600"/>
            <a:ext cx="1464012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ff5050"/>
                </a:solidFill>
                <a:uFillTx/>
                <a:latin typeface="Arial"/>
              </a:rPr>
              <a:t>	</a:t>
            </a:r>
            <a:r>
              <a:rPr b="1" lang="fi-FI" sz="4800" spc="-1" strike="noStrike" u="sng">
                <a:solidFill>
                  <a:srgbClr val="ff5050"/>
                </a:solidFill>
                <a:uFillTx/>
                <a:latin typeface="Arial"/>
              </a:rPr>
              <a:t>	</a:t>
            </a:r>
            <a:r>
              <a:rPr b="1" lang="fi-FI" sz="4800" spc="-1" strike="noStrike" u="sng">
                <a:solidFill>
                  <a:srgbClr val="ff5050"/>
                </a:solidFill>
                <a:uFillTx/>
                <a:latin typeface="Arial"/>
              </a:rPr>
              <a:t>Kontroljautājumi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fi-FI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fi-FI" sz="4000" spc="-1" strike="noStrike">
                <a:solidFill>
                  <a:srgbClr val="3333cc"/>
                </a:solidFill>
                <a:latin typeface="Arial"/>
              </a:rPr>
              <a:t>Vai mēs esam</a:t>
            </a:r>
            <a:r>
              <a:rPr b="0" lang="fi-FI" sz="4000" spc="-1" strike="noStrike">
                <a:solidFill>
                  <a:srgbClr val="3333cc"/>
                </a:solidFill>
                <a:latin typeface="Arial"/>
              </a:rPr>
              <a:t>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cc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 u="sng">
                <a:solidFill>
                  <a:srgbClr val="00cc99"/>
                </a:solidFill>
                <a:uFillTx/>
                <a:latin typeface="Arial"/>
              </a:rPr>
              <a:t>Definējuši,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ko reģistrēs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cc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 u="sng">
                <a:solidFill>
                  <a:srgbClr val="00cc99"/>
                </a:solidFill>
                <a:uFillTx/>
                <a:latin typeface="Arial"/>
              </a:rPr>
              <a:t>Noteikuši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reģistrēšanas periodiskumu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cc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 u="sng">
                <a:solidFill>
                  <a:srgbClr val="00cc99"/>
                </a:solidFill>
                <a:uFillTx/>
                <a:latin typeface="Arial"/>
              </a:rPr>
              <a:t>Iekārtojuši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ērtu dokumentu uzglabāšanas 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eklēšanas sistēm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3520" y="1295280"/>
          <a:ext cx="2576520" cy="27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2576520" cy="27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47240" y="1219320"/>
            <a:ext cx="72003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3333cc"/>
                </a:solidFill>
                <a:uFillTx/>
                <a:latin typeface="Arial"/>
              </a:rPr>
              <a:t>VPS audi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Vai mēs tiešām darām to, ko teicām, ka darīsi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505320" y="2819520"/>
          <a:ext cx="2509560" cy="35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819520"/>
                    <a:ext cx="250956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1905120"/>
            <a:ext cx="6400800" cy="32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Audits ir vitāl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svarīgs nepārtraukt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uzlabojumu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nodrošināšana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066680"/>
            <a:ext cx="8610480" cy="5334120"/>
          </a:xfrm>
          <a:prstGeom prst="wedgeRoundRectCallout">
            <a:avLst>
              <a:gd name="adj1" fmla="val -29865"/>
              <a:gd name="adj2" fmla="val 514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PS  AUDI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istemātisks un dokumentējoš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ārbaudes process, kurā tie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ērķtiecīgi savākti un novērtēt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ati, lai noteiktu, vai uzņēmu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VPS atbilst vides pārvaldīb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udita kritērijiem, ko noteic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uzņēmums, un, lai iegūto informācij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nalizētu un ņemtu vērā tālākaj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ārvaldības procesā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066680"/>
            <a:ext cx="7238880" cy="5257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1295280"/>
            <a:ext cx="681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UDITA PROCEDŪRĀ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VAJADZĒTU APRAKSTĪT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audita darba apjom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(auditējamās jomas un funkcija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audita biežum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audita meto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atbildīgo personāl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ziņošanas mehānis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438280" y="914400"/>
          <a:ext cx="67057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914400"/>
                    <a:ext cx="67057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371600"/>
            <a:ext cx="6933960" cy="480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67652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ATU VĀKŠAN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METOD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intervij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dokumentu analīz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ražošanas procesu novēroj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1755720"/>
            <a:ext cx="94680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3333cc"/>
                </a:solidFill>
                <a:latin typeface="Arial"/>
              </a:rPr>
              <a:t>ISO sistēmā uz auditu attiec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3333cc"/>
                </a:solidFill>
                <a:latin typeface="Arial"/>
              </a:rPr>
              <a:t>3 standarti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5050"/>
                </a:solidFill>
                <a:latin typeface="Arial"/>
              </a:rPr>
              <a:t>ISO 14010, ISO 14011, and ISO 14012</a:t>
            </a: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Šīs vadlīnijas var jums palīdzēt izstrādā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uzņēmuma VPS audita programmu.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232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-114120" y="1371600"/>
            <a:ext cx="8891280" cy="44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3333cc"/>
                </a:solidFill>
                <a:uFillTx/>
                <a:latin typeface="Arial"/>
              </a:rPr>
              <a:t>Daži padom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3333cc"/>
                </a:solidFill>
                <a:uFillTx/>
                <a:latin typeface="Arial"/>
              </a:rPr>
              <a:t>alternatīvajam audit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Pasūtot auditu, kooperējieties 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citiem mazajiem uzņēmumi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Izmantojiet pieaicinātos audito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Biroja darbinieki auditē ražoša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sektoru (un otrād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914400"/>
            <a:ext cx="2590920" cy="25146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657600"/>
            <a:ext cx="6858000" cy="259092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3809880"/>
            <a:ext cx="6172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Par atkārtotām  kļūdām/problēmām ir dārgi jāmaksā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219320" y="2971800"/>
          <a:ext cx="76197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71800"/>
                    <a:ext cx="76197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39560" y="762120"/>
            <a:ext cx="80794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4800" spc="-1" strike="noStrike">
                <a:solidFill>
                  <a:srgbClr val="3333cc"/>
                </a:solidFill>
                <a:latin typeface="Arial"/>
              </a:rPr>
              <a:t>Sakarības starp VPS </a:t>
            </a:r>
            <a:r>
              <a:rPr b="1" i="1" lang="fi-FI" sz="4000" spc="-1" strike="noStrike">
                <a:solidFill>
                  <a:srgbClr val="3333cc"/>
                </a:solidFill>
                <a:latin typeface="Arial"/>
              </a:rPr>
              <a:t>auditu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4000" spc="-1" strike="noStrike">
                <a:solidFill>
                  <a:srgbClr val="3333cc"/>
                </a:solidFill>
                <a:latin typeface="Arial"/>
              </a:rPr>
              <a:t>koriģējošajiem pasākumiem 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4000" spc="-1" strike="noStrike">
                <a:solidFill>
                  <a:srgbClr val="3333cc"/>
                </a:solidFill>
                <a:latin typeface="Arial"/>
              </a:rPr>
              <a:t>pārvaldības analīz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914400"/>
            <a:ext cx="9478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ff5050"/>
                </a:solidFill>
                <a:uFillTx/>
                <a:latin typeface="Arial"/>
              </a:rPr>
              <a:t>	</a:t>
            </a:r>
            <a:r>
              <a:rPr b="1" lang="fi-FI" sz="4800" spc="-1" strike="noStrike" u="sng">
                <a:solidFill>
                  <a:srgbClr val="ff5050"/>
                </a:solidFill>
                <a:uFillTx/>
                <a:latin typeface="Arial"/>
              </a:rPr>
              <a:t>	</a:t>
            </a:r>
            <a:r>
              <a:rPr b="1" lang="fi-FI" sz="4800" spc="-1" strike="noStrike" u="sng">
                <a:solidFill>
                  <a:srgbClr val="ff5050"/>
                </a:solidFill>
                <a:uFillTx/>
                <a:latin typeface="Times New Roman"/>
              </a:rPr>
              <a:t>Kontroljautājum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fi-FI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fi-FI" sz="4000" spc="-1" strike="noStrike">
                <a:solidFill>
                  <a:srgbClr val="3333cc"/>
                </a:solidFill>
                <a:latin typeface="Times New Roman"/>
              </a:rPr>
              <a:t>Vai mēs esam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cc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 u="sng">
                <a:solidFill>
                  <a:srgbClr val="00cc99"/>
                </a:solidFill>
                <a:uFillTx/>
                <a:latin typeface="Arial"/>
              </a:rPr>
              <a:t>Izstrādājuši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audita programm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cc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 u="sng">
                <a:solidFill>
                  <a:srgbClr val="00cc99"/>
                </a:solidFill>
                <a:uFillTx/>
                <a:latin typeface="Arial"/>
              </a:rPr>
              <a:t>Noteikuši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piemērotāko audita biežum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cc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 u="sng">
                <a:solidFill>
                  <a:srgbClr val="00cc99"/>
                </a:solidFill>
                <a:uFillTx/>
                <a:latin typeface="Arial"/>
              </a:rPr>
              <a:t>Izvēlējušies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un apmācījuši VPS auditor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cc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 u="sng">
                <a:solidFill>
                  <a:srgbClr val="00cc99"/>
                </a:solidFill>
                <a:uFillTx/>
                <a:latin typeface="Arial"/>
              </a:rPr>
              <a:t>Realizējuši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VPS auditu, kā bija paredzē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rogramm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cc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 u="sng">
                <a:solidFill>
                  <a:srgbClr val="00cc99"/>
                </a:solidFill>
                <a:uFillTx/>
                <a:latin typeface="Arial"/>
              </a:rPr>
              <a:t>Izstrādājuši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audita rezultātu arhivēša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rocesu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28600" y="1219320"/>
          <a:ext cx="2055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2055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114800" y="609480"/>
            <a:ext cx="914400" cy="6098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990720"/>
            <a:ext cx="2667240" cy="914400"/>
          </a:xfrm>
          <a:prstGeom prst="hexagon">
            <a:avLst>
              <a:gd name="adj" fmla="val 72923"/>
              <a:gd name="vf" fmla="val 115470"/>
            </a:avLst>
          </a:prstGeom>
          <a:solidFill>
            <a:srgbClr val="66ccff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2133720"/>
            <a:ext cx="3429000" cy="1981080"/>
          </a:xfrm>
          <a:prstGeom prst="hexagon">
            <a:avLst>
              <a:gd name="adj" fmla="val 43272"/>
              <a:gd name="vf" fmla="val 11547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3962520"/>
            <a:ext cx="3581280" cy="2438280"/>
          </a:xfrm>
          <a:prstGeom prst="hexagon">
            <a:avLst>
              <a:gd name="adj" fmla="val 36719"/>
              <a:gd name="vf" fmla="val 11547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133720"/>
            <a:ext cx="3505320" cy="2133360"/>
          </a:xfrm>
          <a:prstGeom prst="hexagon">
            <a:avLst>
              <a:gd name="adj" fmla="val 41077"/>
              <a:gd name="vf" fmla="val 11547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1066680"/>
            <a:ext cx="2514600" cy="838440"/>
          </a:xfrm>
          <a:prstGeom prst="hexagon">
            <a:avLst>
              <a:gd name="adj" fmla="val 74979"/>
              <a:gd name="vf" fmla="val 11547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17320" y="6858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Sāk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966960"/>
            <a:ext cx="132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V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Polit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5560" y="2185920"/>
            <a:ext cx="17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Plān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2666880"/>
            <a:ext cx="190512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Vides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fakt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Juridiskie/C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Mērķi un uzdevu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Vides pārvaldīb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Program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920" y="393876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Ievie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8400" y="4419720"/>
            <a:ext cx="33231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Struktūra un atbildī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Apmācība, Apziņa, Kompetenc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KomunikĀ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Dokumentācija, Darbības Kontrol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Gatavība avārijas situācijā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Atgriezeniskā saik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2185920"/>
            <a:ext cx="174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Kontrol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Korekci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966960"/>
            <a:ext cx="192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Pārvaldī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pārsk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895480"/>
            <a:ext cx="25146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Monitorings un Mērīju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Koriģējoši un preventīv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pasāku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Uzskaite, pierak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Aud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endCxn id="173" idx="0"/>
          </p:cNvCxnSpPr>
          <p:nvPr/>
        </p:nvCxnSpPr>
        <p:spPr>
          <a:xfrm>
            <a:off x="5257440" y="761760"/>
            <a:ext cx="1258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endCxn id="175" idx="3"/>
          </p:cNvCxnSpPr>
          <p:nvPr/>
        </p:nvCxnSpPr>
        <p:spPr>
          <a:xfrm rot="5400000">
            <a:off x="6438240" y="4457520"/>
            <a:ext cx="915120" cy="5342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3" idx="1"/>
          </p:cNvCxnSpPr>
          <p:nvPr/>
        </p:nvCxnSpPr>
        <p:spPr>
          <a:xfrm rot="10800000">
            <a:off x="2361600" y="4479120"/>
            <a:ext cx="762480" cy="918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77" idx="0"/>
          </p:cNvCxnSpPr>
          <p:nvPr/>
        </p:nvCxnSpPr>
        <p:spPr>
          <a:xfrm flipH="1" flipV="1" rot="5400000">
            <a:off x="2952360" y="209160"/>
            <a:ext cx="381600" cy="13341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693432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057400" y="1904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1600200"/>
            <a:ext cx="1371600" cy="1143000"/>
          </a:xfrm>
          <a:prstGeom prst="ellipse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Nepārtrau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pilnveid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6960" y="8748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60948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-51840" y="1143000"/>
            <a:ext cx="918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0066ff"/>
                </a:solidFill>
                <a:uFillTx/>
                <a:latin typeface="Arial"/>
              </a:rPr>
              <a:t>Pārvaldības analīz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Kā mēs varam pārbaudīt, vai mūsu VPS vēl arvien ir efektīv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362320" y="3200400"/>
          <a:ext cx="404640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200400"/>
                    <a:ext cx="40464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1905120"/>
            <a:ext cx="6705720" cy="3352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9640" y="2209680"/>
            <a:ext cx="6541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Pārvaldības analīzi v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izmantot, lai nodemonstrētu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ka rūpes par vidi ietilp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uzņēmuma  pārvaldīb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politikā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762120"/>
            <a:ext cx="8610480" cy="556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9720" y="838080"/>
            <a:ext cx="74498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990033"/>
                </a:solidFill>
                <a:uFillTx/>
                <a:latin typeface="Times New Roman"/>
              </a:rPr>
              <a:t>DAŽI NODERĪGI  INFORMĀCIJAS AVO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auditu rezultā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iekšienē” izstrādātie ieros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ārējā komunik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mērķu un uzdevumu sasniegš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citu vides prasību izpil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ziņojumi par avārijām,noplūdē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citiem negadījum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jauni vai laboti likumi un noteik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jauni zinātniskie/tehniskie dati par uzņēmum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izmantojamiem materiāl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un proces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51480" y="3200400"/>
            <a:ext cx="7329960" cy="25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ff5050"/>
                </a:solidFill>
                <a:latin typeface="Times New Roman"/>
              </a:rPr>
              <a:t>5. Sadaļa :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ff5050"/>
                </a:solidFill>
                <a:uFillTx/>
                <a:latin typeface="Times New Roman"/>
              </a:rPr>
              <a:t>Reģistrēšanas Proc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Sadaļa apraksta reģistrēšanu un palīdzēs izlem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vai jūsu uzņēmumam tā ir nepieciešam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0" y="990720"/>
          <a:ext cx="3657600" cy="28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990720"/>
                    <a:ext cx="3657600" cy="28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79640" y="1752480"/>
            <a:ext cx="771984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 u="sng">
                <a:solidFill>
                  <a:srgbClr val="ff5050"/>
                </a:solidFill>
                <a:uFillTx/>
                <a:latin typeface="Arial"/>
              </a:rPr>
              <a:t>1. Grupas Aud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Ārējais Aud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 u="sng">
                <a:solidFill>
                  <a:srgbClr val="0066ff"/>
                </a:solidFill>
                <a:uFillTx/>
                <a:latin typeface="Arial"/>
              </a:rPr>
              <a:t>2. Grupas Audits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Klienta audits pie piegādātā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 u="sng">
                <a:solidFill>
                  <a:srgbClr val="00cc99"/>
                </a:solidFill>
                <a:uFillTx/>
                <a:latin typeface="Arial"/>
              </a:rPr>
              <a:t>3. Grupas Aud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Audits, neatkarīgs ne no klienta, ne arī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no piegādātāji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486400" y="1066680"/>
          <a:ext cx="3300480" cy="33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066680"/>
                    <a:ext cx="3300480" cy="33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" y="2743200"/>
            <a:ext cx="848988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4800" spc="-1" strike="noStrike">
                <a:solidFill>
                  <a:srgbClr val="00cc99"/>
                </a:solidFill>
                <a:latin typeface="Arial"/>
              </a:rPr>
              <a:t>Reģistrēšana</a:t>
            </a:r>
            <a:r>
              <a:rPr b="1" lang="fi-FI" sz="4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fi-FI" sz="2800" spc="-1" strike="noStrike">
                <a:solidFill>
                  <a:srgbClr val="00cc99"/>
                </a:solidFill>
                <a:latin typeface="Arial"/>
              </a:rPr>
              <a:t>un</a:t>
            </a:r>
            <a:r>
              <a:rPr b="1" lang="fi-FI" sz="4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i="1" lang="fi-FI" sz="4800" spc="-1" strike="noStrike">
                <a:solidFill>
                  <a:srgbClr val="00cc99"/>
                </a:solidFill>
                <a:latin typeface="Arial"/>
              </a:rPr>
              <a:t>Sertificēša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Lai aprakstītu ”trešās grupas” procesu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var izmantot abus terminus.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ASV terminu ”reģistrēšana” parasti izmanto pārvaldī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istēmām, turpretī ”sertificēšanu” - produkti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429000" y="762120"/>
          <a:ext cx="2438280" cy="19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762120"/>
                    <a:ext cx="2438280" cy="19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232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505320"/>
            <a:ext cx="3733920" cy="289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istē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ud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505320"/>
            <a:ext cx="3886200" cy="28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Koriģējoš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asā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1523880"/>
            <a:ext cx="3581280" cy="266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ārvaldīb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ārska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5400" y="2133720"/>
            <a:ext cx="239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=Sistē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uzlaboj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838080"/>
            <a:ext cx="8458200" cy="556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7600" y="838080"/>
            <a:ext cx="78282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KĀPĒC RODAS VPS PROBLĒMAS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Daži tipiskākie cēloņ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slikti organizēta komunikācij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kļūdaini pasākumi vai to trūk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bojātas vai “nolaistas” iekārt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pmācības trūku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prasību nepietiekoša izprat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noteikumu neievēroša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066680"/>
            <a:ext cx="8229600" cy="5105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143000"/>
            <a:ext cx="784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00"/>
                </a:solidFill>
                <a:uFillTx/>
                <a:latin typeface="Times New Roman"/>
              </a:rPr>
              <a:t>GALVENIE SOĻI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definējiet problēm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izpētiet tās cēloņu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piedāvājiet risinājum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pielietojiet šo risinājumu praks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reģistrējiet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informējiet par padarīto ci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762120" y="1447920"/>
          <a:ext cx="7467480" cy="434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74674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29600" y="1447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19320" y="1295280"/>
            <a:ext cx="73404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i-FI" sz="4800" spc="-1" strike="noStrike" u="sng">
                <a:solidFill>
                  <a:srgbClr val="ff0000"/>
                </a:solidFill>
                <a:uFillTx/>
                <a:latin typeface="Times New Roman"/>
              </a:rPr>
              <a:t>Kontroljautājum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fi-FI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fi-FI" sz="4000" spc="-1" strike="noStrike">
                <a:solidFill>
                  <a:srgbClr val="3333cc"/>
                </a:solidFill>
                <a:latin typeface="Arial"/>
              </a:rPr>
              <a:t>Vai mēs esam</a:t>
            </a:r>
            <a:r>
              <a:rPr b="1" lang="fi-FI" sz="4000" spc="-1" strike="noStrike">
                <a:solidFill>
                  <a:srgbClr val="3333cc"/>
                </a:solidFill>
                <a:latin typeface="Times New Roman"/>
              </a:rPr>
              <a:t>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00cc99"/>
                </a:solidFill>
                <a:uFillTx/>
                <a:latin typeface="Times New Roman"/>
              </a:rPr>
              <a:t>noteikuš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kārtību, kādā atklājamas un novēršamas sistēmas darbības nepilnīb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00cc99"/>
                </a:solidFill>
                <a:uFillTx/>
                <a:latin typeface="Times New Roman"/>
              </a:rPr>
              <a:t>izstrādājuš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koriģējošo pasākumu plānu un sadalījuši pienākumus koriģējošo pasākumu realizēšanai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00cc99"/>
                </a:solidFill>
                <a:uFillTx/>
                <a:latin typeface="Times New Roman"/>
              </a:rPr>
              <a:t>izstrādājuš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procedūru preventīvo vai koriģējošo pasākumu novērtēšanai saskaņā ar VPS un citu dokumetācij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62120" y="1066680"/>
          <a:ext cx="219708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2197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10840" y="3657600"/>
            <a:ext cx="80445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3333cc"/>
                </a:solidFill>
                <a:uFillTx/>
                <a:latin typeface="Arial"/>
              </a:rPr>
              <a:t>Reģistr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Kā mēs varam pārliecināties, ka mūsu VPS ir efektīv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76720" y="914400"/>
          <a:ext cx="285408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914400"/>
                    <a:ext cx="285408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990720"/>
            <a:ext cx="7620120" cy="541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143000"/>
            <a:ext cx="824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DAŽI  SVARĪGI JAUTĀJUM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Ko reģistrē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Kas reģistrē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Kur reģistrē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Kā reģistrē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ik ilgi reģistrē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Kā reģistrētie dati tiek novērtēt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Kā tie tiek uzglabāti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4:46:26Z</dcterms:created>
  <dc:creator>Marja Innanen</dc:creator>
  <dc:description/>
  <dc:language>en-US</dc:language>
  <cp:lastModifiedBy>CESAMS</cp:lastModifiedBy>
  <dcterms:modified xsi:type="dcterms:W3CDTF">2000-05-24T22:33:10Z</dcterms:modified>
  <cp:revision>95</cp:revision>
  <dc:subject/>
  <dc:title>Ei dian otsikkoa</dc:title>
</cp:coreProperties>
</file>