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E42-7519-4C2B-B2AC-49FE6C79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E8D-425D-44E7-AF01-80785657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4B8-4D4D-44ED-B25D-BBAE58D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9F8-6A08-4F4C-A9CB-614A26D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0C1-B06C-472A-90C9-BF4108A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65C-F500-4EE8-BF3C-4457FA2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C35-2296-4289-B7DA-C8B685B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C53-320A-48FE-8C44-CF2BE77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155-663C-4A06-9C78-DC7217B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228-511F-45A2-8236-2F03265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F76-6687-4B80-AAB9-D0B3F04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A89-6E4C-4567-ACED-398E61A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3278F0-50D8-455D-99BF-2065D21FE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37240" y="1079640"/>
            <a:ext cx="34034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0" y="1079640"/>
            <a:ext cx="3479760" cy="507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3520" y="1994040"/>
            <a:ext cx="1955880" cy="431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2440" y="3060720"/>
            <a:ext cx="2260440" cy="812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80240" y="3213000"/>
            <a:ext cx="2260440" cy="889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0520" y="5041800"/>
            <a:ext cx="233676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7240" y="5041800"/>
            <a:ext cx="3022560" cy="812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6633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12716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deklar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2640" y="1050840"/>
            <a:ext cx="156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ākotnēj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alī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96524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ārb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4960" y="3108240"/>
            <a:ext cx="178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au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72000" y="3260880"/>
            <a:ext cx="11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61920" y="5013360"/>
            <a:ext cx="160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ārvald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7760" y="5013360"/>
            <a:ext cx="234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pasāku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905120"/>
            <a:ext cx="380880" cy="121896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286000"/>
            <a:ext cx="1981080" cy="76212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95520" y="4267080"/>
            <a:ext cx="762120" cy="68580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962160" y="5410080"/>
            <a:ext cx="685800" cy="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828800" y="3962160"/>
            <a:ext cx="838080" cy="99036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76520" y="2514600"/>
            <a:ext cx="1676160" cy="45720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14240" y="1676160"/>
            <a:ext cx="1066680" cy="228600"/>
          </a:xfrm>
          <a:prstGeom prst="line">
            <a:avLst/>
          </a:prstGeom>
          <a:ln w="50760">
            <a:solidFill>
              <a:srgbClr val="00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8240" y="2844720"/>
            <a:ext cx="1930320" cy="1854360"/>
          </a:xfrm>
          <a:custGeom>
            <a:avLst/>
            <a:gdLst>
              <a:gd name="textAreaLeft" fmla="*/ 440640 w 1930320"/>
              <a:gd name="textAreaRight" fmla="*/ 1489680 w 1930320"/>
              <a:gd name="textAreaTop" fmla="*/ 423360 h 1854360"/>
              <a:gd name="textAreaBottom" fmla="*/ 1431000 h 185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b18db1"/>
              </a:gs>
            </a:gsLst>
            <a:lin ang="5400000"/>
          </a:gradFill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42900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5320" y="3352320"/>
            <a:ext cx="1752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35268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Palīdzība no āri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819520"/>
            <a:ext cx="80010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aistības par atbilstību visiem aktuālajiem noteikumi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saistības nepārtraukti uzlabot uzņēmuma vides rādītāj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523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Vides Polit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514600"/>
            <a:ext cx="850896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rakstveida doku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apstiprināta visaugstākaj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uzņēmuma pārvaldības līmen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periodiski pārskatī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visiem pieej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057400"/>
            <a:ext cx="464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Vides polit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971800"/>
            <a:ext cx="76392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Sākotnēja, visaptveroša vides problēmu, ietekmes un atbilstības vides prasībām  analīze kādā noteiktā viet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imes New Roman"/>
              </a:rPr>
              <a:t>Vides pārsk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0"/>
            <a:ext cx="822960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uzņēmuma radīto vides efektu uzskaitījum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likumu, normatīvo aktu un citu politiski definētu prasību apkopojum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Times New Roman"/>
              </a:rPr>
              <a:t>Pārskatu nobeidzot iegū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400" y="1295280"/>
            <a:ext cx="78768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kontrolētas un nekontrolētas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emisijas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atkrit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augsnes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piesārņ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zemes, ūdens, kurināmā un enerģij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un citu dabisko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resursu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izmanto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siltuma, trokšņa, smakas, putekļu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ut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noplū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ietekme uz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īpašiem dabas vi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  </a:t>
            </a:r>
            <a:r>
              <a:rPr b="1" lang="en-GB" sz="3600" spc="-1" strike="noStrike" u="sng">
                <a:solidFill>
                  <a:srgbClr val="996633"/>
                </a:solidFill>
                <a:uFillTx/>
                <a:latin typeface="Times New Roman"/>
              </a:rPr>
              <a:t>apgabaliem</a:t>
            </a: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3300"/>
                </a:solidFill>
                <a:latin typeface="Times New Roman"/>
              </a:rPr>
              <a:t>Vērā ņemamie aspek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828800"/>
            <a:ext cx="83055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normāli apstākļ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novirzes no normāliem     apstākļi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starpgadījumi, negadījumi, ārkārtas situāc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agrāk veiktie pasākumi, patreiz veicamie un plānotie pasāku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Times New Roman"/>
              </a:rPr>
              <a:t>Dažādi darbības apstākļ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8240" y="2438280"/>
            <a:ext cx="72669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1. Vides problēmu identificē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2. Vides problēmu klasificē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3. Vides likumu apkopo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4. Pārskata novērtē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Pārskata 4 uzdev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640" y="1752480"/>
            <a:ext cx="76312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010000"/>
                </a:solidFill>
                <a:uFillTx/>
                <a:latin typeface="Times New Roman"/>
              </a:rPr>
              <a:t>Programma</a:t>
            </a:r>
            <a:r>
              <a:rPr b="1" lang="en-GB" sz="3600" spc="-1" strike="noStrike">
                <a:solidFill>
                  <a:srgbClr val="010000"/>
                </a:solidFill>
                <a:latin typeface="Times New Roman"/>
              </a:rPr>
              <a:t>: Uzņēmumam definēto uzdevumu un atsevišķo pasākumu, kas vērsti uz vides aizsardzību konkrētajā vietā, aprak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010000"/>
                </a:solidFill>
                <a:uFillTx/>
                <a:latin typeface="Times New Roman"/>
              </a:rPr>
              <a:t>Uzdevumi</a:t>
            </a:r>
            <a:r>
              <a:rPr b="1" lang="en-GB" sz="3600" spc="-1" strike="noStrike">
                <a:solidFill>
                  <a:srgbClr val="010000"/>
                </a:solidFill>
                <a:latin typeface="Times New Roman"/>
              </a:rPr>
              <a:t>: Konkrēti pasākumi mērķu sasniegšanai, kurus uzņēmums ir sev noteici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Vides uzdevumi un progr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2133720"/>
            <a:ext cx="7543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visos uzņēmuma darbīb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līmeņ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saskaņā ar politik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apliecina saistības veik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nepārtrauktu pilnveidoš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Uzdevumi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193840"/>
            <a:ext cx="80769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skar atbilstību vides prasībā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apraksta ietekmi uz vi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prasa saudzīgu pārvaldīb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mode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066680"/>
            <a:ext cx="487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3300"/>
                </a:solidFill>
                <a:latin typeface="Times New Roman"/>
              </a:rPr>
              <a:t>VPS (EMAS) prasīb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5480" y="3962520"/>
            <a:ext cx="7066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atbildības / lomu sada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līdzekļi uzdevumu izpildīšan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Rīcības Progra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84880" y="3048120"/>
            <a:ext cx="50799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1. Ieva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2. Vides uzdevum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3. Atbildī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4. Pasākumi / darbī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5. Vides rīcības plā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īcības Progra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6840" y="2651040"/>
            <a:ext cx="14972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ā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Vides rīcības plā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6840" y="3048120"/>
            <a:ext cx="64411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vides uzdev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uzdevumu izpildes mehānis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pārmaiņu un daļēju izmaiņ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īstenošanas kārtī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koriģējošie mehānis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imes New Roman"/>
              </a:rPr>
              <a:t>Prasības attīstības projektie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3640" y="1523880"/>
            <a:ext cx="8550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pamat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mērķ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projekta aprak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pienākumu sadale projekta grup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darba plāns un budž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mērījumu indikatori/vienīb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paraugu vākšanas program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660066"/>
                </a:solidFill>
                <a:latin typeface="Times New Roman"/>
              </a:rPr>
              <a:t>novērtējums un tālākas darbības plā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8380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Times New Roman"/>
              </a:rPr>
              <a:t>Projektu aprak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09680"/>
            <a:ext cx="82234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Visaptverošās pārvaldības sistēmas daļa, kura ietver organizatorisko struktūru, pienākumu sadali, pieejas, procesus, un resursus vides politikas izstrādei un realizēšanai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3300"/>
                </a:solidFill>
                <a:latin typeface="Times New Roman"/>
              </a:rPr>
              <a:t>Vides pārvaldības sistē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6880" y="844560"/>
            <a:ext cx="977760" cy="10540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1468d"/>
              </a:gs>
              <a:gs pos="50000">
                <a:srgbClr val="ff66cc"/>
              </a:gs>
              <a:gs pos="100000">
                <a:srgbClr val="b1468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97040" y="1987560"/>
            <a:ext cx="2197080" cy="1130400"/>
          </a:xfrm>
          <a:custGeom>
            <a:avLst/>
            <a:gdLst>
              <a:gd name="textAreaLeft" fmla="*/ 483120 w 2197080"/>
              <a:gd name="textAreaRight" fmla="*/ 1713960 w 2197080"/>
              <a:gd name="textAreaTop" fmla="*/ 248400 h 1130400"/>
              <a:gd name="textAreaBottom" fmla="*/ 8820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b1468d"/>
              </a:gs>
              <a:gs pos="50000">
                <a:srgbClr val="ff66cc"/>
              </a:gs>
              <a:gs pos="100000">
                <a:srgbClr val="b1468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78080" y="3206880"/>
            <a:ext cx="4635360" cy="2349360"/>
          </a:xfrm>
          <a:custGeom>
            <a:avLst/>
            <a:gdLst>
              <a:gd name="textAreaLeft" fmla="*/ 1019160 w 4635360"/>
              <a:gd name="textAreaRight" fmla="*/ 3616200 w 4635360"/>
              <a:gd name="textAreaTop" fmla="*/ 516600 h 2349360"/>
              <a:gd name="textAreaBottom" fmla="*/ 1832760 h 23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b1468d"/>
              </a:gs>
              <a:gs pos="50000">
                <a:srgbClr val="ff66cc"/>
              </a:gs>
              <a:gs pos="100000">
                <a:srgbClr val="b1468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88760" y="1233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8876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88760" y="4205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990720"/>
            <a:ext cx="2895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politi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rbības plā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ienāk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cedū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3763800"/>
            <a:ext cx="304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kspluatācijas  instrukcij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līglīdzekļ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828800"/>
            <a:ext cx="251460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124080"/>
            <a:ext cx="274320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562720"/>
            <a:ext cx="228600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791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790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Vides pārvaldības sistē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4880" y="2057400"/>
            <a:ext cx="83044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nodoma skaidro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jomas/aspekta definē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plānoto akciju kopuma aprak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uzskaites dokumentu apraksts u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atrašanās vi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atsauces uz svarīgākajā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instrukcijā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Times New Roman"/>
              </a:rPr>
              <a:t>Procedū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523880"/>
            <a:ext cx="134888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īss instrukciju aprak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ekspluatācijas instrukcijas ārkārtas situācijā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speciālas kvalitātes instru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instrukcijas attiecībā uz ārējo apstākļu ietek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instrukcijas par darba drošību un arodveselī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instrukcijas par piesārņojuma se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likvidēšanas pasākumi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ugunsdzēsības instru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drošības instru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Ekspluatācijas instrukcij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266920"/>
            <a:ext cx="7620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plakāti/uzraksti/zī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kabatas formāta kartī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kontroljautājumu v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atgādinājumu sarakst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attiecīgas sadaļas rokasgrāmatā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03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819000"/>
            <a:ext cx="54864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Times New Roman"/>
              </a:rPr>
              <a:t>Instrukciju ve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45720" y="3336840"/>
            <a:ext cx="6572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vides likumd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saistības nepārtraukti veik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uzlabojum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mazināt ietekmi uz vi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133720"/>
            <a:ext cx="6705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Times New Roman"/>
              </a:rPr>
              <a:t>Vides prasību ievēro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2280" y="901800"/>
            <a:ext cx="257796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2280" y="1587600"/>
            <a:ext cx="2577960" cy="60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2280" y="2502000"/>
            <a:ext cx="257796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280" y="3568680"/>
            <a:ext cx="2577960" cy="5968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2280" y="4406760"/>
            <a:ext cx="2577960" cy="5968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2280" y="5168880"/>
            <a:ext cx="257796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64080" y="901800"/>
            <a:ext cx="4787640" cy="21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64080" y="128268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64080" y="166356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64080" y="2044800"/>
            <a:ext cx="4787640" cy="21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64080" y="242568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64080" y="280656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64080" y="3187800"/>
            <a:ext cx="4787640" cy="21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4080" y="356868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64080" y="394956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64080" y="4330800"/>
            <a:ext cx="4787640" cy="21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64080" y="4788000"/>
            <a:ext cx="4787640" cy="21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64080" y="5168880"/>
            <a:ext cx="47876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24080" y="1047600"/>
            <a:ext cx="6098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200400" y="1352520"/>
            <a:ext cx="5335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200400" y="1733400"/>
            <a:ext cx="6858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180972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00400" y="25714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00440"/>
            <a:ext cx="68580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2800440"/>
            <a:ext cx="685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124080" y="3714480"/>
            <a:ext cx="6858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86712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86712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70520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124080" y="5314680"/>
            <a:ext cx="6858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" y="871560"/>
            <a:ext cx="256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. Vides politik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zdevumi, Program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9600" y="1557360"/>
            <a:ext cx="170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. Struktūra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sonā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8160" y="2548080"/>
            <a:ext cx="156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3. Vides ef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8880" y="3691080"/>
            <a:ext cx="273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. Ekspluatācijas k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8880" y="4529160"/>
            <a:ext cx="191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5. Dokumentā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9600" y="521496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94040" y="819000"/>
            <a:ext cx="23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. Sistēmu uzturēš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94040" y="1200240"/>
            <a:ext cx="1409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ienā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94040" y="1581120"/>
            <a:ext cx="271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I. Apmācība un Izglītīb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94040" y="1962000"/>
            <a:ext cx="261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II. Informācija par vi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4040" y="2343240"/>
            <a:ext cx="46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V. Vides efektu novērtējums un reģistr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94040" y="27241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. Ietekmes uz vidi novērtēju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94040" y="3105000"/>
            <a:ext cx="44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. Darbība ārkārtas un avārijas apstākļ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94040" y="3486240"/>
            <a:ext cx="331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I. Ekspluatācijas Instrukci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3867120"/>
            <a:ext cx="142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II. Sag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248000"/>
            <a:ext cx="231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X. Vides uzlaboju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94040" y="4705200"/>
            <a:ext cx="250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X. Dokumentu k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94040" y="508644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XI. Sistēmas uztur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561960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5543640"/>
            <a:ext cx="4267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arba uzdev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6040" y="3181320"/>
            <a:ext cx="8340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Rezultāts: Ziņojums par Pārvaldīb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                 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analī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181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504800"/>
            <a:ext cx="5867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Sistēmas uzturē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038320"/>
            <a:ext cx="77058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tiesību, pienākumu un personā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subordinācijas definēšana 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dokumentē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atbildīgās personas par pārvaldības sektoru iecel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226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895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Tiesības un pienāk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0240" y="3714840"/>
            <a:ext cx="5637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cc"/>
                </a:solidFill>
                <a:latin typeface="Times New Roman"/>
              </a:rPr>
              <a:t>Apmācības progr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409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962000"/>
            <a:ext cx="6172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Apmācība un izglīt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9440" y="2114640"/>
            <a:ext cx="78800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omunikācijas plā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sūdzību par vides prasību neievērošanu reģist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omunikācijas ar valsts ietādēm    reģistrs  (apstiprinājumi, ut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211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819000"/>
            <a:ext cx="5791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Informācija par v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44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590400"/>
            <a:ext cx="784836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420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2895480"/>
            <a:ext cx="158767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990099"/>
                </a:solidFill>
                <a:uFillTx/>
                <a:latin typeface="Times New Roman"/>
              </a:rPr>
              <a:t>Līdzekļ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vides paraugu ņemšanas un analīz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rezultātu protokolu for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vides problēmu novērtējums 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klasifikā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89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971640"/>
            <a:ext cx="77724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imes New Roman"/>
              </a:rPr>
              <a:t>Vides efektu novērtējums un reģistri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400" y="2647800"/>
            <a:ext cx="7685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Times New Roman"/>
              </a:rPr>
              <a:t>Rezultā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vides pārbaudes/mērījum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nozīmīgāko vides efektu sarak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likumdošanas aktu prasības, ut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59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971640"/>
            <a:ext cx="6553080" cy="14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imes New Roman"/>
              </a:rPr>
              <a:t>Vides efektu novērtējums un reģist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9960" y="2298600"/>
            <a:ext cx="8093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996633"/>
                </a:solidFill>
                <a:uFillTx/>
                <a:latin typeface="Times New Roman"/>
              </a:rPr>
              <a:t>Līdzekļ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jaunu vielu, materiālu un tehnoloģiju izvēles met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996633"/>
                </a:solidFill>
                <a:uFillTx/>
                <a:latin typeface="Times New Roman"/>
              </a:rPr>
              <a:t>Rezultā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vides novērtējuma ziņoju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12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97164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3300"/>
                </a:solidFill>
                <a:latin typeface="Times New Roman"/>
              </a:rPr>
              <a:t>Vides novērtēj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7600" y="2952720"/>
            <a:ext cx="49759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prognozē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663300"/>
                </a:solidFill>
                <a:uFillTx/>
                <a:latin typeface="Times New Roman"/>
              </a:rPr>
              <a:t>Rezultā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negadījumu reģist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657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276200"/>
            <a:ext cx="7772400" cy="16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Times New Roman"/>
              </a:rPr>
              <a:t>Ekspluatācija ārkārtas un avārijas situācijā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1200" y="2133720"/>
            <a:ext cx="78850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garantē ekspluatācijas instrukcij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sagatavoša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ietver arī ēku un materiāl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uzturēšanu un ekspluatācij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uzliek pienākumus sagatav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9900"/>
                </a:solidFill>
                <a:latin typeface="Times New Roman"/>
              </a:rPr>
              <a:t>instrukc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Ekspluatācijas Instrukcij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79246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ietekmes novērtējums, kontrole un samazinā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enerģijas pārvaldī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izejvie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atkritumu pārvald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Times New Roman"/>
              </a:rPr>
              <a:t>trokšņa kont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480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Pārvaldības vides aspek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828800"/>
            <a:ext cx="88041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003300"/>
                </a:solidFill>
                <a:uFillTx/>
                <a:latin typeface="Times New Roman"/>
              </a:rPr>
              <a:t>Līdzekļ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preču pakalpojumu, kontrakto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novērtēšanas met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003300"/>
                </a:solidFill>
                <a:uFillTx/>
                <a:latin typeface="Times New Roman"/>
              </a:rPr>
              <a:t>Rezultā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izvēlēto kontraktoru sarak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piegādes/iepirkumu katalogs, kur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atspoguļoti arī vides kritēri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Times New Roman"/>
              </a:rPr>
              <a:t>Piegā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2590920"/>
            <a:ext cx="7165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 u="sng">
                <a:solidFill>
                  <a:srgbClr val="cc0000"/>
                </a:solidFill>
                <a:uFillTx/>
                <a:latin typeface="Times New Roman"/>
              </a:rPr>
              <a:t>Rezultā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vides rīcības program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pabeigto projektu sarak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koriģējošo pasākumu sarak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Uzlabojumi vides jom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52480" y="3962520"/>
            <a:ext cx="6127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800000"/>
                </a:solidFill>
                <a:latin typeface="Times New Roman"/>
              </a:rPr>
              <a:t>dokumentu noformēju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okumentu kont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3276720"/>
            <a:ext cx="7620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Vides pārvaldības līdzeklis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veicina pārvaldības kontr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novērtē atbilstību politik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Vides au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447920"/>
            <a:ext cx="80773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pasākumu raksturs, mērogs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komplicēt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izmešu, atkritumu, izmantotās enerģijas utt. raksturs un apjo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problēmu svarīgums un steidzam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vēsturiski izveidojušās problē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Audita biež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22360" y="5544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59040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9120" y="658008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653400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5960" y="901800"/>
            <a:ext cx="2120760" cy="444240"/>
          </a:xfrm>
          <a:prstGeom prst="rect">
            <a:avLst/>
          </a:prstGeom>
          <a:solidFill>
            <a:srgbClr val="ffccff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82840" y="901800"/>
            <a:ext cx="2273400" cy="444240"/>
          </a:xfrm>
          <a:prstGeom prst="rect">
            <a:avLst/>
          </a:prstGeom>
          <a:solidFill>
            <a:srgbClr val="ffccff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02360" y="901800"/>
            <a:ext cx="2120760" cy="444240"/>
          </a:xfrm>
          <a:prstGeom prst="rect">
            <a:avLst/>
          </a:prstGeom>
          <a:solidFill>
            <a:srgbClr val="ffccff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Plāno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960" y="1739880"/>
            <a:ext cx="2044800" cy="5968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5960" y="2654280"/>
            <a:ext cx="2044800" cy="5968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5960" y="3568680"/>
            <a:ext cx="204480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82840" y="2959200"/>
            <a:ext cx="2273400" cy="67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1752480"/>
            <a:ext cx="2273040" cy="8254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2360" y="1739880"/>
            <a:ext cx="2120760" cy="5968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82840" y="4025880"/>
            <a:ext cx="2273400" cy="5968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82840" y="5016600"/>
            <a:ext cx="2273400" cy="67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640" y="947880"/>
            <a:ext cx="191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Plāno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97600" y="947880"/>
            <a:ext cx="200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realizēš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9960" y="1733400"/>
            <a:ext cx="19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koma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zve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640" y="2624040"/>
            <a:ext cx="210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icamo pasāk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zvē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9960" y="3638520"/>
            <a:ext cx="13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rba plā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36840" y="1828800"/>
            <a:ext cx="212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ārvaldības stiprā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n vājās p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68520" y="3005280"/>
            <a:ext cx="17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kumentāci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36840" y="4148280"/>
            <a:ext cx="119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pe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67440" y="5062680"/>
            <a:ext cx="205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rezultāti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32680" y="1733400"/>
            <a:ext cx="192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dita ziņojuma sagatavoš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02360" y="2959200"/>
            <a:ext cx="2120760" cy="59688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88400" y="3005280"/>
            <a:ext cx="147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urpināj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1352520"/>
            <a:ext cx="0" cy="380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2343240"/>
            <a:ext cx="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3257640"/>
            <a:ext cx="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4095720"/>
            <a:ext cx="0" cy="1219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3880" y="5315040"/>
            <a:ext cx="12956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819520" y="2038320"/>
            <a:ext cx="0" cy="3276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2038320"/>
            <a:ext cx="4572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2571840"/>
            <a:ext cx="0" cy="380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638520"/>
            <a:ext cx="0" cy="380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629240"/>
            <a:ext cx="0" cy="380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5695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5924520"/>
            <a:ext cx="13716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791320" y="2037960"/>
            <a:ext cx="0" cy="38862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2038320"/>
            <a:ext cx="3045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2419200"/>
            <a:ext cx="0" cy="533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531504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39100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2120" y="1523880"/>
            <a:ext cx="827100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pasākumu izklā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visu svarīgāko vides problēmu novērtēj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informācijas apkopojums  p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izmešiem, atkritumiem, izejvielā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enerģiju, ūdeni, troksni, ut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Vides politika, programma u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pārvaldības sistē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Times New Roman"/>
              </a:rPr>
              <a:t>nākošās deklarācijas termiņ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Times New Roman"/>
              </a:rPr>
              <a:t>Vides deklarāci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3276720"/>
            <a:ext cx="480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pamato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reā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salīdzinā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0066"/>
                </a:solidFill>
                <a:latin typeface="Times New Roman"/>
              </a:rPr>
              <a:t>saprot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Times New Roman"/>
              </a:rPr>
              <a:t>Vides deklarā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2743200"/>
            <a:ext cx="74448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vērtīgs mārketinga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palīdz noteikt pieprasījum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pēc informācijas (ārp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6633"/>
                </a:solidFill>
                <a:latin typeface="Times New Roman"/>
              </a:rPr>
              <a:t>uzņēmuma, piem. klientie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663300"/>
                </a:solidFill>
                <a:latin typeface="Times New Roman"/>
              </a:rPr>
              <a:t>Vides deklarā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8960" y="1454040"/>
            <a:ext cx="5321160" cy="478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63880" y="1758960"/>
            <a:ext cx="4711680" cy="41781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e4f1f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362320"/>
            <a:ext cx="7607520" cy="444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8240" y="3054240"/>
            <a:ext cx="7607520" cy="444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8240" y="3816360"/>
            <a:ext cx="7607520" cy="444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8240" y="4578480"/>
            <a:ext cx="7607520" cy="444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8240" y="5264280"/>
            <a:ext cx="7607520" cy="444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4960" y="2825640"/>
            <a:ext cx="520560" cy="2923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44960" y="3511440"/>
            <a:ext cx="520560" cy="2923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44960" y="4273560"/>
            <a:ext cx="520560" cy="2919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44960" y="5035680"/>
            <a:ext cx="520560" cy="2919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99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98560" y="2392200"/>
            <a:ext cx="313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klarācijas sagatavoš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33720" y="3078000"/>
            <a:ext cx="464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Uzņēmumā veiktie pasāku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17880" y="3840120"/>
            <a:ext cx="458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ides apziņas princi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27360" y="4602240"/>
            <a:ext cx="336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ides prasību izpi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42640" y="5288040"/>
            <a:ext cx="296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klarācijas prezen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des deklarā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209680"/>
            <a:ext cx="411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920" y="1905120"/>
            <a:ext cx="72666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jauni/mainīti ražošanas proce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ražošanas plān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līgumslēdzēji, piegādātā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ekoloģiskie negadīju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informācija un apmācī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komunikā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Pārvaldības vides aspek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33640" y="2400480"/>
            <a:ext cx="2819520" cy="274320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626040 h 2743200"/>
              <a:gd name="textAreaBottom" fmla="*/ 21171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cc"/>
              </a:gs>
              <a:gs pos="100000">
                <a:srgbClr val="b1468d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73560" y="1835280"/>
            <a:ext cx="216000" cy="368280"/>
          </a:xfrm>
          <a:prstGeom prst="upArrow">
            <a:avLst>
              <a:gd name="adj1" fmla="val 50000"/>
              <a:gd name="adj2" fmla="val 85242"/>
            </a:avLst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9980000">
            <a:off x="3130560" y="2063880"/>
            <a:ext cx="216000" cy="368280"/>
          </a:xfrm>
          <a:prstGeom prst="upArrow">
            <a:avLst>
              <a:gd name="adj1" fmla="val 50000"/>
              <a:gd name="adj2" fmla="val 85242"/>
            </a:avLst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920000">
            <a:off x="5264280" y="2062080"/>
            <a:ext cx="215640" cy="371520"/>
          </a:xfrm>
          <a:prstGeom prst="upArrow">
            <a:avLst>
              <a:gd name="adj1" fmla="val 50000"/>
              <a:gd name="adj2" fmla="val 86136"/>
            </a:avLst>
          </a:prstGeom>
          <a:solidFill>
            <a:srgbClr val="00cc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260000">
            <a:off x="2590920" y="2742840"/>
            <a:ext cx="380880" cy="228600"/>
          </a:xfrm>
          <a:prstGeom prst="leftArrow">
            <a:avLst>
              <a:gd name="adj1" fmla="val 50000"/>
              <a:gd name="adj2" fmla="val 8329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3886200"/>
            <a:ext cx="381240" cy="228600"/>
          </a:xfrm>
          <a:prstGeom prst="leftArrow">
            <a:avLst>
              <a:gd name="adj1" fmla="val 50000"/>
              <a:gd name="adj2" fmla="val 8337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9920000">
            <a:off x="2590920" y="4723920"/>
            <a:ext cx="380880" cy="228600"/>
          </a:xfrm>
          <a:prstGeom prst="leftArrow">
            <a:avLst>
              <a:gd name="adj1" fmla="val 50000"/>
              <a:gd name="adj2" fmla="val 8329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9560000">
            <a:off x="5865840" y="2819160"/>
            <a:ext cx="384120" cy="228600"/>
          </a:xfrm>
          <a:prstGeom prst="rightArrow">
            <a:avLst>
              <a:gd name="adj1" fmla="val 50000"/>
              <a:gd name="adj2" fmla="val 8402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5340000">
            <a:off x="6095160" y="3579840"/>
            <a:ext cx="228600" cy="384120"/>
          </a:xfrm>
          <a:prstGeom prst="upArrow">
            <a:avLst>
              <a:gd name="adj1" fmla="val 50000"/>
              <a:gd name="adj2" fmla="val 8400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260000">
            <a:off x="5752800" y="4616280"/>
            <a:ext cx="380880" cy="250920"/>
          </a:xfrm>
          <a:prstGeom prst="rightArrow">
            <a:avLst>
              <a:gd name="adj1" fmla="val 50000"/>
              <a:gd name="adj2" fmla="val 7590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20280000">
            <a:off x="5257800" y="5105160"/>
            <a:ext cx="228600" cy="380880"/>
          </a:xfrm>
          <a:prstGeom prst="downArrow">
            <a:avLst>
              <a:gd name="adj1" fmla="val 50000"/>
              <a:gd name="adj2" fmla="val 8331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900000">
            <a:off x="3274920" y="5113080"/>
            <a:ext cx="308160" cy="384120"/>
          </a:xfrm>
          <a:prstGeom prst="downArrow">
            <a:avLst>
              <a:gd name="adj1" fmla="val 50000"/>
              <a:gd name="adj2" fmla="val 6233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5257800"/>
            <a:ext cx="228600" cy="380880"/>
          </a:xfrm>
          <a:prstGeom prst="downArrow">
            <a:avLst>
              <a:gd name="adj1" fmla="val 50000"/>
              <a:gd name="adj2" fmla="val 8331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82840" y="1378080"/>
            <a:ext cx="2121120" cy="44424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1371600"/>
            <a:ext cx="2590920" cy="9144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83240" y="2597040"/>
            <a:ext cx="128268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9560" y="3740040"/>
            <a:ext cx="181620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83240" y="4730760"/>
            <a:ext cx="151128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410080"/>
            <a:ext cx="2971800" cy="90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35480" y="5645160"/>
            <a:ext cx="227304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73160" y="5721480"/>
            <a:ext cx="2197080" cy="44424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4560" y="4959360"/>
            <a:ext cx="1892160" cy="44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3664080"/>
            <a:ext cx="2361960" cy="44424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92280" y="2514600"/>
            <a:ext cx="189216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25440" y="1606680"/>
            <a:ext cx="1739880" cy="44424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42240" y="1265400"/>
            <a:ext cx="190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Patērētā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129528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Regulējošā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institūcij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00800" y="2514600"/>
            <a:ext cx="154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Mēd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34720" y="3627360"/>
            <a:ext cx="183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Kredi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59840" y="4618080"/>
            <a:ext cx="109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990066"/>
                </a:solidFill>
                <a:latin typeface="Times New Roman"/>
              </a:rPr>
              <a:t>N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Apdrošināš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kompān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38000" y="5532480"/>
            <a:ext cx="204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Nozar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asociāc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94400" y="5684760"/>
            <a:ext cx="1608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Kaimiņ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6600" y="4923000"/>
            <a:ext cx="1859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Personā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" y="3551400"/>
            <a:ext cx="284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Piegādātā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2120" y="2438280"/>
            <a:ext cx="144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K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01320" y="1569960"/>
            <a:ext cx="174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990066"/>
                </a:solidFill>
                <a:latin typeface="Times New Roman"/>
              </a:rPr>
              <a:t>Inves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685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ides deklarācijas mērķa grup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2240" y="2286000"/>
            <a:ext cx="74836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Pārbaudes Proces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Tuvinātais novērtēj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Dokumentu analī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Sagatavošanas vizī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663300"/>
                </a:solidFill>
                <a:latin typeface="Times New Roman"/>
              </a:rPr>
              <a:t>Sertificēšanas Au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Times New Roman"/>
              </a:rPr>
              <a:t>Pārbaude un Sertificēša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81400" y="2665440"/>
            <a:ext cx="2155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ECO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AUDIT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1752480"/>
            <a:ext cx="380880" cy="38124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2971800"/>
            <a:ext cx="38124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190512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236232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65760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411480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00600" y="419112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441972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1905120"/>
            <a:ext cx="38124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2971800"/>
            <a:ext cx="38124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2362320"/>
            <a:ext cx="38124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3657600"/>
            <a:ext cx="380880" cy="380880"/>
          </a:xfrm>
          <a:prstGeom prst="star5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24480" y="510552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7760" y="548604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Zīme / marķēju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" y="1676520"/>
            <a:ext cx="7788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atbildība par v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visu jauno / plānoto  pasākumu ietekmes uz vidi novērtē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praktizējamās darbības ietekmes uz vidi novērtē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piesārņojuma samazināšana un novēr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avārijas emisijas novēr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990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Videi draudzīga pārvald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79516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monitoringa sistēmas izve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procedūras neatbilstības prasībām   gadīju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sadarbība ar dažādām iestādē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sabiedrības inform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padomi klient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Times New Roman"/>
              </a:rPr>
              <a:t>vides standarti un kontrakt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Videi draudzīga pārvald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Times New Roman"/>
              </a:rPr>
              <a:t>Uzņēmums šodien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Uzņēmums rītd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9880" y="2749680"/>
            <a:ext cx="596880" cy="1130040"/>
          </a:xfrm>
          <a:prstGeom prst="downArrow">
            <a:avLst>
              <a:gd name="adj1" fmla="val 50000"/>
              <a:gd name="adj2" fmla="val 94671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2236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Times New Roman"/>
              </a:rPr>
              <a:t>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120" y="659916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Papildus apmācība un izglīt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07T10:03:46Z</dcterms:created>
  <dc:creator>Kaarina Hanninen</dc:creator>
  <dc:description/>
  <dc:language>en-US</dc:language>
  <cp:lastModifiedBy>CESAMS</cp:lastModifiedBy>
  <cp:lastPrinted>2000-05-12T17:49:16Z</cp:lastPrinted>
  <dcterms:modified xsi:type="dcterms:W3CDTF">2000-05-24T22:34:12Z</dcterms:modified>
  <cp:revision>104</cp:revision>
  <dc:subject/>
  <dc:title>No Slide Title</dc:title>
</cp:coreProperties>
</file>