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0204-4697-4F21-810F-BF2E879B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9A6-93E0-4160-81C7-12868E10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1EA-6DF9-4FC4-A03F-73F921FC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BE2-398F-4CF7-8C15-4D91903A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361-D38B-44E8-BA94-A98258E8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44B-F392-49B2-AC59-79ABF5A5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66B0-6D48-4F9D-8E20-2A2A6690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6756-CFE9-478B-A2A6-3CF1477F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B16-D485-4AF9-839E-19FE42FA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9C7-00B3-4005-BE2F-75E4281C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1FC-E769-41A3-85CF-45A45739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F8C-79FA-49A6-B195-A95BA6AF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653A02-1971-4300-A3C1-67631FF76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05720" y="2057400"/>
            <a:ext cx="1944720" cy="2362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. ISO 9000 AND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11430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ff0000"/>
                </a:solidFill>
                <a:latin typeface="Times New Roman"/>
              </a:rPr>
              <a:t>ISO 14001,</a:t>
            </a:r>
            <a:br>
              <a:rPr sz="4800"/>
            </a:br>
            <a:r>
              <a:rPr b="1" lang="fi-FI" sz="4800" spc="-1" strike="noStrike">
                <a:solidFill>
                  <a:srgbClr val="ff0000"/>
                </a:solidFill>
                <a:latin typeface="Times New Roman"/>
              </a:rPr>
              <a:t>ISO 9000</a:t>
            </a:r>
            <a:br>
              <a:rPr sz="4800"/>
            </a:br>
            <a:r>
              <a:rPr b="1" lang="fi-FI" sz="4800" spc="-1" strike="noStrike">
                <a:solidFill>
                  <a:srgbClr val="ff0000"/>
                </a:solidFill>
                <a:latin typeface="Times New Roman"/>
              </a:rPr>
              <a:t>UN</a:t>
            </a:r>
            <a:br>
              <a:rPr sz="4800"/>
            </a:br>
            <a:r>
              <a:rPr b="1" lang="fi-FI" sz="4800" spc="-1" strike="noStrike">
                <a:solidFill>
                  <a:srgbClr val="ff0000"/>
                </a:solidFill>
                <a:latin typeface="Times New Roman"/>
              </a:rPr>
              <a:t>EM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2400" y="5029200"/>
            <a:ext cx="504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ff0000"/>
                </a:solidFill>
                <a:latin typeface="Dutch TL"/>
              </a:rPr>
              <a:t>SALĪDZINĀJU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24F8-DDBC-4E7F-B36C-174A01DDBF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218880" y="3505320"/>
            <a:ext cx="95500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800000"/>
                </a:solidFill>
                <a:latin typeface="Times New Roman"/>
              </a:rPr>
              <a:t>ISO 14001</a:t>
            </a:r>
            <a:r>
              <a:rPr b="1" lang="fi-FI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4800" spc="-1" strike="noStrike">
                <a:solidFill>
                  <a:srgbClr val="ff0000"/>
                </a:solidFill>
                <a:latin typeface="Times New Roman"/>
              </a:rPr>
              <a:t>–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ff0000"/>
                </a:solidFill>
                <a:latin typeface="Dutch TL"/>
              </a:rPr>
              <a:t>neprasa ietekmes uz vid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ff0000"/>
                </a:solidFill>
                <a:latin typeface="Dutch TL"/>
              </a:rPr>
              <a:t>vai likumdošanas reģistrēšan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800000"/>
                </a:solidFill>
                <a:latin typeface="Times New Roman"/>
              </a:rPr>
              <a:t>EMAS</a:t>
            </a:r>
            <a:r>
              <a:rPr b="1" lang="fi-FI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4800" spc="-1" strike="noStrike">
                <a:solidFill>
                  <a:srgbClr val="ff0000"/>
                </a:solidFill>
                <a:latin typeface="Times New Roman"/>
              </a:rPr>
              <a:t>- ietekmes uz vidi </a:t>
            </a:r>
            <a:r>
              <a:rPr b="1" lang="fi-FI" sz="4800" spc="-1" strike="noStrike">
                <a:solidFill>
                  <a:srgbClr val="ff0000"/>
                </a:solidFill>
                <a:latin typeface="Dutch TL"/>
              </a:rPr>
              <a:t>reģistrēša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s01580_" descr=""/>
          <p:cNvPicPr/>
          <p:nvPr/>
        </p:nvPicPr>
        <p:blipFill>
          <a:blip r:embed="rId1"/>
          <a:stretch/>
        </p:blipFill>
        <p:spPr>
          <a:xfrm>
            <a:off x="5715000" y="1822320"/>
            <a:ext cx="2755800" cy="25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538-2B2F-4999-9BAB-95F06B5FC4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905120"/>
            <a:ext cx="654696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80808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808080"/>
                </a:solidFill>
                <a:latin typeface="Times New Roman"/>
              </a:rPr>
              <a:t>EMAS - politika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808080"/>
                </a:solidFill>
                <a:latin typeface="Dutch TL"/>
              </a:rPr>
              <a:t>programma, vides </a:t>
            </a:r>
            <a:r>
              <a:rPr b="1" lang="fi-FI" sz="4000" spc="-1" strike="noStrike">
                <a:solidFill>
                  <a:srgbClr val="808080"/>
                </a:solidFill>
                <a:latin typeface="Dutch TL"/>
              </a:rPr>
              <a:t>	</a:t>
            </a:r>
            <a:r>
              <a:rPr b="1" lang="fi-FI" sz="4000" spc="-1" strike="noStrike">
                <a:solidFill>
                  <a:srgbClr val="808080"/>
                </a:solidFill>
                <a:latin typeface="Dutch TL"/>
              </a:rPr>
              <a:t>   pārvaldības sistēm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808080"/>
                </a:solidFill>
                <a:latin typeface="Dutch TL"/>
              </a:rPr>
              <a:t>un veikšanas detaļas</a:t>
            </a:r>
            <a:r>
              <a:rPr b="1" lang="fi-FI" sz="4000" spc="-1" strike="noStrike">
                <a:solidFill>
                  <a:srgbClr val="80808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4000" spc="-1" strike="noStrike">
                <a:solidFill>
                  <a:srgbClr val="000000"/>
                </a:solidFill>
                <a:latin typeface="Times New Roman"/>
              </a:rPr>
              <a:t>ISO - tika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000000"/>
                </a:solidFill>
                <a:latin typeface="Times New Roman"/>
              </a:rPr>
              <a:t>politik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81480" y="3733920"/>
            <a:ext cx="3778200" cy="2666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808080"/>
                </a:solidFill>
                <a:latin typeface="Dutch TL"/>
              </a:rPr>
              <a:t>Sabiedriski pieej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FC89-FEFC-442D-9E1C-47A378B889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521320" y="2286000"/>
            <a:ext cx="2936880" cy="4038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360" y="2362320"/>
            <a:ext cx="629640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008080"/>
                </a:solidFill>
                <a:latin typeface="Dutch TL"/>
              </a:rPr>
              <a:t>ISO 1400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008080"/>
                </a:solidFill>
                <a:latin typeface="Dutch TL"/>
              </a:rPr>
              <a:t>tā biežum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008080"/>
                </a:solidFill>
                <a:latin typeface="Dutch TL"/>
              </a:rPr>
              <a:t>nav noteikt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008080"/>
                </a:solidFill>
                <a:latin typeface="Dutch TL"/>
              </a:rPr>
              <a:t>arī audita metodoloģij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008080"/>
                </a:solidFill>
                <a:latin typeface="Dutch TL"/>
              </a:rPr>
              <a:t>nav specificēta tik liel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008080"/>
                </a:solidFill>
                <a:latin typeface="Dutch TL"/>
              </a:rPr>
              <a:t>mērā kā EMAS</a:t>
            </a:r>
            <a:r>
              <a:rPr b="0" lang="fi-FI" sz="4000" spc="-1" strike="noStrike">
                <a:solidFill>
                  <a:srgbClr val="008080"/>
                </a:solidFill>
                <a:latin typeface="Dutch TL"/>
              </a:rPr>
              <a:t>.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000000"/>
                </a:solidFill>
                <a:latin typeface="Dutch TL"/>
              </a:rPr>
              <a:t>Abām sistēmām nepieciešams audits</a:t>
            </a:r>
            <a:r>
              <a:rPr b="0" lang="fi-F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DEAF-08D3-4E54-BCBD-83A75C40DB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69120" y="4114800"/>
            <a:ext cx="18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71800" y="609480"/>
            <a:ext cx="2990880" cy="32133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3505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fi-FI" sz="4800" spc="-1" strike="noStrike" u="sng">
                <a:solidFill>
                  <a:srgbClr val="ff0000"/>
                </a:solidFill>
                <a:uFillTx/>
                <a:latin typeface="Dutch TL"/>
              </a:rPr>
              <a:t>EMAS</a:t>
            </a:r>
            <a:r>
              <a:rPr b="1" lang="fi-FI" sz="4800" spc="-1" strike="noStrike">
                <a:solidFill>
                  <a:srgbClr val="ff0000"/>
                </a:solidFill>
                <a:latin typeface="Dutch TL"/>
              </a:rPr>
              <a:t> - darba uzņēmēju, piegādātāju u.c. kontroles līmenis ir </a:t>
            </a:r>
            <a:r>
              <a:rPr b="1" lang="fi-FI" sz="4800" spc="-1" strike="noStrike" u="sng">
                <a:solidFill>
                  <a:srgbClr val="ff0000"/>
                </a:solidFill>
                <a:uFillTx/>
                <a:latin typeface="Dutch TL"/>
              </a:rPr>
              <a:t>augstāks</a:t>
            </a:r>
            <a:br>
              <a:rPr sz="4800"/>
            </a:br>
            <a:r>
              <a:rPr b="1" lang="fi-FI" sz="4800" spc="-1" strike="noStrike">
                <a:solidFill>
                  <a:srgbClr val="ff0000"/>
                </a:solidFill>
                <a:latin typeface="Dutch TL"/>
              </a:rPr>
              <a:t>nekā ISO 1400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997B-AC39-4743-8376-89C42CE86B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920" y="1828800"/>
            <a:ext cx="817956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ff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ff00ff"/>
                </a:solidFill>
                <a:latin typeface="Dutch TL"/>
              </a:rPr>
              <a:t>strādājoš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ff00ff"/>
                </a:solidFill>
                <a:latin typeface="Dutch TL"/>
              </a:rPr>
              <a:t>iekļaušana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ff00ff"/>
                </a:solidFill>
                <a:latin typeface="Dutch TL"/>
              </a:rPr>
              <a:t>vides sasniegumu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ff00ff"/>
                </a:solidFill>
                <a:latin typeface="Dutch TL"/>
              </a:rPr>
              <a:t>uzlabojum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ff00ff"/>
                </a:solidFill>
                <a:latin typeface="Dutch TL"/>
              </a:rPr>
              <a:t>turpinājums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ff00ff"/>
                </a:solidFill>
                <a:latin typeface="Dutch TL"/>
              </a:rPr>
              <a:t>likumdošanas ievēroša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800000"/>
                </a:solidFill>
                <a:latin typeface="Times New Roman"/>
              </a:rPr>
              <a:t>EMAS: </a:t>
            </a:r>
            <a:r>
              <a:rPr b="1" lang="fi-FI" sz="4800" spc="-1" strike="noStrike" u="sng">
                <a:solidFill>
                  <a:srgbClr val="ff00ff"/>
                </a:solidFill>
                <a:uFillTx/>
                <a:latin typeface="Dutch TL"/>
              </a:rPr>
              <a:t>integrētās daļ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s00554_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3060720" cy="267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31F-8E7F-4D59-AE7E-EAA0303496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209160" y="1447920"/>
            <a:ext cx="9182880" cy="49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400" spc="-1" strike="noStrike">
                <a:solidFill>
                  <a:srgbClr val="800000"/>
                </a:solidFill>
                <a:latin typeface="Times New Roman"/>
              </a:rPr>
              <a:t>EMAS:</a:t>
            </a:r>
            <a:r>
              <a:rPr b="1" lang="fi-FI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4400" spc="-1" strike="noStrike">
                <a:solidFill>
                  <a:srgbClr val="ff00ff"/>
                </a:solidFill>
                <a:latin typeface="Times New Roman"/>
              </a:rPr>
              <a:t>”</a:t>
            </a:r>
            <a:r>
              <a:rPr b="1" lang="fi-FI" sz="4400" spc="-1" strike="noStrike">
                <a:solidFill>
                  <a:srgbClr val="ff00ff"/>
                </a:solidFill>
                <a:latin typeface="Dutch TL"/>
              </a:rPr>
              <a:t>samazināt līdz līmenim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400" spc="-1" strike="noStrike">
                <a:solidFill>
                  <a:srgbClr val="ff00ff"/>
                </a:solidFill>
                <a:latin typeface="Dutch TL"/>
              </a:rPr>
              <a:t>kas nepārsniedz ekonomisk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400" spc="-1" strike="noStrike">
                <a:solidFill>
                  <a:srgbClr val="ff00ff"/>
                </a:solidFill>
                <a:latin typeface="Dutch TL"/>
              </a:rPr>
              <a:t>izdevīgu (dzīvotspējīgu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400" spc="-1" strike="noStrike">
                <a:solidFill>
                  <a:srgbClr val="ff00ff"/>
                </a:solidFill>
                <a:latin typeface="Dutch TL"/>
              </a:rPr>
              <a:t>labāko pieejamo tehnisk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400" spc="-1" strike="noStrike">
                <a:solidFill>
                  <a:srgbClr val="ff00ff"/>
                </a:solidFill>
                <a:latin typeface="Dutch TL"/>
              </a:rPr>
              <a:t>risinājumu pielietošanu"</a:t>
            </a:r>
            <a:r>
              <a:rPr b="1" lang="fi-FI" sz="4400" spc="-1" strike="noStrike">
                <a:solidFill>
                  <a:srgbClr val="000000"/>
                </a:solidFill>
                <a:latin typeface="Dutch T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400" spc="-1" strike="noStrike">
                <a:solidFill>
                  <a:srgbClr val="800000"/>
                </a:solidFill>
                <a:latin typeface="Dutch TL"/>
              </a:rPr>
              <a:t>ISO 14001</a:t>
            </a:r>
            <a:r>
              <a:rPr b="1" lang="fi-FI" sz="4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1" lang="fi-FI" sz="4400" spc="-1" strike="noStrike">
                <a:solidFill>
                  <a:srgbClr val="ff00ff"/>
                </a:solidFill>
                <a:latin typeface="Dutch TL"/>
              </a:rPr>
              <a:t>- nav pilnīgi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400" spc="-1" strike="noStrike">
                <a:solidFill>
                  <a:srgbClr val="ff00ff"/>
                </a:solidFill>
                <a:latin typeface="Dutch TL"/>
              </a:rPr>
              <a:t>precīzi formulēts</a:t>
            </a:r>
            <a:r>
              <a:rPr b="1" lang="fi-FI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400" spc="-1" strike="noStrike">
                <a:solidFill>
                  <a:srgbClr val="ff00ff"/>
                </a:solidFill>
                <a:latin typeface="Times New Roman"/>
              </a:rPr>
              <a:t>Ietekmes uz vi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hm00363_" descr=""/>
          <p:cNvPicPr/>
          <p:nvPr/>
        </p:nvPicPr>
        <p:blipFill>
          <a:blip r:embed="rId1"/>
          <a:stretch/>
        </p:blipFill>
        <p:spPr>
          <a:xfrm>
            <a:off x="6095880" y="3657600"/>
            <a:ext cx="2808360" cy="28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C8E-A8A1-4C15-A2A8-248FD4ED4C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6720" y="1523880"/>
            <a:ext cx="85640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400" spc="-1" strike="noStrike">
                <a:solidFill>
                  <a:srgbClr val="800000"/>
                </a:solidFill>
                <a:latin typeface="Dutch TL"/>
              </a:rPr>
              <a:t>ISO 14001</a:t>
            </a:r>
            <a:r>
              <a:rPr b="1" lang="fi-FI" sz="4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1" lang="fi-FI" sz="4400" spc="-1" strike="noStrike">
                <a:solidFill>
                  <a:srgbClr val="ff00ff"/>
                </a:solidFill>
                <a:latin typeface="Dutch TL"/>
              </a:rPr>
              <a:t>- jebkura veida u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400" spc="-1" strike="noStrike">
                <a:solidFill>
                  <a:srgbClr val="ff00ff"/>
                </a:solidFill>
                <a:latin typeface="Dutch TL"/>
              </a:rPr>
              <a:t>apjoma organizācijā, dažād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400" spc="-1" strike="noStrike">
                <a:solidFill>
                  <a:srgbClr val="ff00ff"/>
                </a:solidFill>
                <a:latin typeface="Dutch TL"/>
              </a:rPr>
              <a:t>ģeogrāfiskajo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400" spc="-1" strike="noStrike">
                <a:solidFill>
                  <a:srgbClr val="ff00ff"/>
                </a:solidFill>
                <a:latin typeface="Dutch TL"/>
              </a:rPr>
              <a:t>sociālajos un kultū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400" spc="-1" strike="noStrike">
                <a:solidFill>
                  <a:srgbClr val="ff00ff"/>
                </a:solidFill>
                <a:latin typeface="Dutch TL"/>
              </a:rPr>
              <a:t> </a:t>
            </a:r>
            <a:r>
              <a:rPr b="1" lang="fi-FI" sz="4400" spc="-1" strike="noStrike">
                <a:solidFill>
                  <a:srgbClr val="ff00ff"/>
                </a:solidFill>
                <a:latin typeface="Dutch TL"/>
              </a:rPr>
              <a:t>apstākļos.</a:t>
            </a:r>
            <a:r>
              <a:rPr b="1" lang="fi-FI" sz="4400" spc="-1" strike="noStrike">
                <a:solidFill>
                  <a:srgbClr val="000000"/>
                </a:solidFill>
                <a:latin typeface="Dutch T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400" spc="-1" strike="noStrike">
                <a:solidFill>
                  <a:srgbClr val="800000"/>
                </a:solidFill>
                <a:latin typeface="Dutch TL"/>
              </a:rPr>
              <a:t>EMAS</a:t>
            </a:r>
            <a:r>
              <a:rPr b="1" lang="fi-FI" sz="4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1" lang="fi-FI" sz="4400" spc="-1" strike="noStrike">
                <a:solidFill>
                  <a:srgbClr val="ff00ff"/>
                </a:solidFill>
                <a:latin typeface="Dutch TL"/>
              </a:rPr>
              <a:t>- galvenokār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400" spc="-1" strike="noStrike">
                <a:solidFill>
                  <a:srgbClr val="ff00ff"/>
                </a:solidFill>
                <a:latin typeface="Dutch TL"/>
              </a:rPr>
              <a:t>rūpniecības sfērā.</a:t>
            </a:r>
            <a:r>
              <a:rPr b="1" lang="fi-FI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24480" y="3048120"/>
            <a:ext cx="2614680" cy="3429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400" spc="-1" strike="noStrike">
                <a:solidFill>
                  <a:srgbClr val="993300"/>
                </a:solidFill>
                <a:latin typeface="Dutch TL"/>
              </a:rPr>
              <a:t>Derī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F72-02BF-4E53-9BDA-433E1D3171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261120" cy="30193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ff6600"/>
                </a:solidFill>
                <a:latin typeface="Dutch TL"/>
              </a:rPr>
              <a:t>Sertifikāta ticamība, derīgu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4595-87BB-4897-B625-EE6AE5046D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595760" cy="30542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0000ff"/>
                </a:solidFill>
                <a:latin typeface="Dutch TL"/>
              </a:rPr>
              <a:t>Konkurētspēja, kura jāpārbau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673-7536-40E5-89C7-35F6532BE9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8960" y="762120"/>
            <a:ext cx="18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3105000" cy="34815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009999"/>
                </a:solidFill>
                <a:latin typeface="Dutch TL"/>
              </a:rPr>
              <a:t>Sākotnējais pārskats un vides pārvaldības sistēma</a:t>
            </a:r>
            <a:br>
              <a:rPr sz="24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628F-0F79-46D1-9241-7BD5D30959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1944720" cy="2361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71080" y="2362320"/>
            <a:ext cx="2579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4400" spc="-1" strike="noStrike">
                <a:solidFill>
                  <a:srgbClr val="ff0000"/>
                </a:solidFill>
                <a:latin typeface="Times New Roman"/>
              </a:rPr>
              <a:t>Noteiku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00280" y="2362320"/>
            <a:ext cx="226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4400" spc="-1" strike="noStrike">
                <a:solidFill>
                  <a:srgbClr val="0000ff"/>
                </a:solidFill>
                <a:latin typeface="Times New Roman"/>
              </a:rPr>
              <a:t>Stand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97400" y="3795840"/>
            <a:ext cx="334872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ff0000"/>
                </a:solidFill>
                <a:latin typeface="Dutch TL"/>
              </a:rPr>
              <a:t>vi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ff0000"/>
                </a:solidFill>
                <a:latin typeface="Dutch TL"/>
              </a:rPr>
              <a:t>pārvaldīb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ff0000"/>
                </a:solidFill>
                <a:latin typeface="Dutch TL"/>
              </a:rPr>
              <a:t>sistēma var bū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 u="sng">
                <a:solidFill>
                  <a:srgbClr val="ff0000"/>
                </a:solidFill>
                <a:uFillTx/>
                <a:latin typeface="Dutch TL"/>
              </a:rPr>
              <a:t>pārbaudīta 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 u="sng">
                <a:solidFill>
                  <a:srgbClr val="ff0000"/>
                </a:solidFill>
                <a:uFillTx/>
                <a:latin typeface="Dutch TL"/>
              </a:rPr>
              <a:t>reģistrē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3800" y="3809880"/>
            <a:ext cx="34542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ff"/>
                </a:solidFill>
                <a:latin typeface="Dutch TL"/>
              </a:rPr>
              <a:t>vi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ff"/>
                </a:solidFill>
                <a:latin typeface="Dutch TL"/>
              </a:rPr>
              <a:t>pārvaldīb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ff"/>
                </a:solidFill>
                <a:latin typeface="Dutch TL"/>
              </a:rPr>
              <a:t>sistēma var bū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 u="sng">
                <a:solidFill>
                  <a:srgbClr val="0000ff"/>
                </a:solidFill>
                <a:uFillTx/>
                <a:latin typeface="Dutch TL"/>
              </a:rPr>
              <a:t>sertificē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ff0000"/>
                </a:solidFill>
                <a:latin typeface="Times New Roman"/>
              </a:rPr>
              <a:t>EMAS     –    </a:t>
            </a:r>
            <a:r>
              <a:rPr b="1" lang="fi-FI" sz="4800" spc="-1" strike="noStrike">
                <a:solidFill>
                  <a:srgbClr val="0000ff"/>
                </a:solidFill>
                <a:latin typeface="Times New Roman"/>
              </a:rPr>
              <a:t>ISO 1400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ff0000"/>
                </a:solidFill>
                <a:latin typeface="Times New Roman"/>
              </a:rPr>
              <a:t>EMAS     –    </a:t>
            </a:r>
            <a:r>
              <a:rPr b="1" lang="fi-FI" sz="4800" spc="-1" strike="noStrike">
                <a:solidFill>
                  <a:srgbClr val="0000ff"/>
                </a:solidFill>
                <a:latin typeface="Times New Roman"/>
              </a:rPr>
              <a:t>ISO 1400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D64E-3A4E-4D3E-9523-51F4EB159C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4595760" cy="20257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0099cc"/>
                </a:solidFill>
                <a:latin typeface="Dutch TL"/>
              </a:rPr>
              <a:t>Likumdošanas ievēroša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169E-D037-4B19-B872-243492BBE1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6160" y="4952880"/>
            <a:ext cx="18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2857680" cy="3222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008000"/>
                </a:solidFill>
                <a:latin typeface="Times New Roman"/>
              </a:rPr>
              <a:t>Ietekmes uz vid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D85A-7C40-4A5D-8C94-C09151B89A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56600" cy="5897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2971800"/>
            <a:ext cx="45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666633"/>
                </a:solidFill>
                <a:latin typeface="Dutch TL"/>
              </a:rPr>
              <a:t>Audita biežu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0A2-1C89-448D-86F3-F5475FBA4A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3899160" cy="22953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464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800000"/>
                </a:solidFill>
                <a:latin typeface="Dutch TL"/>
              </a:rPr>
              <a:t>Vides ziņojuma pārbaud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93AA-2C82-42A5-9A45-E22DB55CBE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ISO 9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781680" y="3124080"/>
            <a:ext cx="1944720" cy="23623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29528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 u="sng">
                <a:solidFill>
                  <a:srgbClr val="3333cc"/>
                </a:solidFill>
                <a:uFillTx/>
                <a:latin typeface="Dutch TL"/>
              </a:rPr>
              <a:t>ISO</a:t>
            </a:r>
            <a:r>
              <a:rPr b="1" lang="fi-FI" sz="4800" spc="-1" strike="noStrike" u="sng">
                <a:solidFill>
                  <a:srgbClr val="3333cc"/>
                </a:solidFill>
                <a:uFillTx/>
                <a:latin typeface="Times New Roman"/>
              </a:rPr>
              <a:t> 14001</a:t>
            </a:r>
            <a:br>
              <a:rPr sz="4800"/>
            </a:br>
            <a:r>
              <a:rPr b="1" lang="fi-FI" sz="4800" spc="-1" strike="noStrike" u="sng">
                <a:solidFill>
                  <a:srgbClr val="3333cc"/>
                </a:solidFill>
                <a:uFillTx/>
                <a:latin typeface="Times New Roman"/>
              </a:rPr>
              <a:t>UN</a:t>
            </a:r>
            <a:br>
              <a:rPr sz="4800"/>
            </a:br>
            <a:r>
              <a:rPr b="1" lang="fi-FI" sz="4800" spc="-1" strike="noStrike" u="sng">
                <a:solidFill>
                  <a:srgbClr val="3333cc"/>
                </a:solidFill>
                <a:uFillTx/>
                <a:latin typeface="Times New Roman"/>
              </a:rPr>
              <a:t>ISO 9000 </a:t>
            </a:r>
            <a:br>
              <a:rPr sz="4800"/>
            </a:br>
            <a:r>
              <a:rPr b="1" lang="fi-FI" sz="4800" spc="-1" strike="noStrike" u="sng">
                <a:solidFill>
                  <a:srgbClr val="3333cc"/>
                </a:solidFill>
                <a:uFillTx/>
                <a:latin typeface="Dutch TL"/>
              </a:rPr>
              <a:t>SALĪDZINĀŠA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F15-3E08-49CE-897F-5F41890FCA9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ISO 9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5400" y="1828800"/>
            <a:ext cx="586764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buClr>
                <a:srgbClr val="9966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9966ff"/>
                </a:solidFill>
                <a:latin typeface="Times New Roman"/>
              </a:rPr>
              <a:t>Politik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9966ff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9966ff"/>
                </a:solidFill>
                <a:latin typeface="Dutch TL"/>
              </a:rPr>
              <a:t>Pārvaldības atbildīb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9966ff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9966ff"/>
                </a:solidFill>
                <a:latin typeface="Dutch TL"/>
              </a:rPr>
              <a:t>Pārvaldības pārska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9966ff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9966ff"/>
                </a:solidFill>
                <a:latin typeface="Dutch TL"/>
              </a:rPr>
              <a:t>Apmācība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9966ff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9966ff"/>
                </a:solidFill>
                <a:latin typeface="Dutch TL"/>
              </a:rPr>
              <a:t>Audits</a:t>
            </a:r>
            <a:r>
              <a:rPr b="1" lang="fi-FI" sz="4000" spc="-1" strike="noStrike">
                <a:solidFill>
                  <a:srgbClr val="9966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943600" y="2362320"/>
            <a:ext cx="2603520" cy="2619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 u="sng">
                <a:solidFill>
                  <a:srgbClr val="3333cc"/>
                </a:solidFill>
                <a:uFillTx/>
                <a:latin typeface="Dutch TL"/>
              </a:rPr>
              <a:t>Kopīgie elemen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62B-C36F-4B95-93C1-93B803F877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ISO 9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504720" y="1600200"/>
            <a:ext cx="698184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buClr>
                <a:srgbClr val="9966ff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9966ff"/>
                </a:solidFill>
                <a:latin typeface="Dutch TL"/>
              </a:rPr>
              <a:t>Darbības/Proce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9966ff"/>
                </a:solidFill>
                <a:latin typeface="Dutch TL"/>
              </a:rPr>
              <a:t>kontro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9966ff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9966ff"/>
                </a:solidFill>
                <a:latin typeface="Dutch TL"/>
              </a:rPr>
              <a:t>Dokumentu kontr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9966ff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9966ff"/>
                </a:solidFill>
                <a:latin typeface="Dutch TL"/>
              </a:rPr>
              <a:t>Neatbilstības kontro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9966ff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9966ff"/>
                </a:solidFill>
                <a:latin typeface="Dutch TL"/>
              </a:rPr>
              <a:t>Precizēšanas/Novērša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9966ff"/>
                </a:solidFill>
                <a:latin typeface="Dutch TL"/>
              </a:rPr>
              <a:t>darbīb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9966ff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9966ff"/>
                </a:solidFill>
                <a:latin typeface="Dutch TL"/>
              </a:rPr>
              <a:t>Dokumentēšana</a:t>
            </a:r>
            <a:r>
              <a:rPr b="0" lang="fi-F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943600" y="2362320"/>
            <a:ext cx="2603520" cy="2619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 u="sng">
                <a:solidFill>
                  <a:srgbClr val="3333cc"/>
                </a:solidFill>
                <a:uFillTx/>
                <a:latin typeface="Dutch TL"/>
              </a:rPr>
              <a:t>Kopīgie elemen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FA8-A701-4A01-8D01-728677A633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ISO 9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-111240" y="4267080"/>
            <a:ext cx="68565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ff66ff"/>
                </a:solidFill>
                <a:latin typeface="Times New Roman"/>
              </a:rPr>
              <a:t>- visu </a:t>
            </a:r>
            <a:r>
              <a:rPr b="1" lang="fi-FI" sz="4800" spc="-1" strike="noStrike">
                <a:solidFill>
                  <a:srgbClr val="ff66ff"/>
                </a:solidFill>
                <a:latin typeface="Dutch TL"/>
              </a:rPr>
              <a:t>procesu</a:t>
            </a:r>
            <a:r>
              <a:rPr b="1" lang="fi-FI" sz="4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fi-FI" sz="4800" spc="-1" strike="noStrike">
                <a:solidFill>
                  <a:srgbClr val="ff66ff"/>
                </a:solidFill>
                <a:latin typeface="Dutch TL"/>
              </a:rPr>
              <a:t>sistēm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3060720" cy="2133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80880" y="1219320"/>
            <a:ext cx="6172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ff66ff"/>
                </a:solidFill>
                <a:latin typeface="Times New Roman"/>
              </a:rPr>
              <a:t>"</a:t>
            </a:r>
            <a:r>
              <a:rPr b="1" lang="fi-FI" sz="4800" spc="-1" strike="noStrike">
                <a:solidFill>
                  <a:srgbClr val="ff66ff"/>
                </a:solidFill>
                <a:latin typeface="Dutch TL"/>
              </a:rPr>
              <a:t>plāns, ieviešana, </a:t>
            </a:r>
            <a:br>
              <a:rPr sz="4800"/>
            </a:br>
            <a:r>
              <a:rPr b="1" lang="fi-FI" sz="4800" spc="-1" strike="noStrike">
                <a:solidFill>
                  <a:srgbClr val="ff66ff"/>
                </a:solidFill>
                <a:latin typeface="Dutch TL"/>
              </a:rPr>
              <a:t>pārbaude, un pārskats</a:t>
            </a:r>
            <a:r>
              <a:rPr b="1" lang="fi-FI" sz="4800" spc="-1" strike="noStrike">
                <a:solidFill>
                  <a:srgbClr val="ff66ff"/>
                </a:solidFill>
                <a:latin typeface="Times New Roman"/>
              </a:rPr>
              <a:t>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90F-DF39-42D8-A489-1070998433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ISO 9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d04972_" descr=""/>
          <p:cNvPicPr/>
          <p:nvPr/>
        </p:nvPicPr>
        <p:blipFill>
          <a:blip r:embed="rId1"/>
          <a:stretch/>
        </p:blipFill>
        <p:spPr>
          <a:xfrm>
            <a:off x="2362320" y="800280"/>
            <a:ext cx="3962160" cy="2970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09480" y="41148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9966ff"/>
                </a:solidFill>
                <a:latin typeface="Dutch TL"/>
              </a:rPr>
              <a:t>Nepārtraukta ieviešanas demonstrēša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7A4-5860-440D-B675-89F7A70DEA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ISO 9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7440" y="2819520"/>
            <a:ext cx="858348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400" spc="-1" strike="noStrike">
                <a:solidFill>
                  <a:srgbClr val="ff00cc"/>
                </a:solidFill>
                <a:latin typeface="Dutch TL"/>
              </a:rPr>
              <a:t>veidojot koordinētu pārvaldīb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400" spc="-1" strike="noStrike">
                <a:solidFill>
                  <a:srgbClr val="ff00cc"/>
                </a:solidFill>
                <a:latin typeface="Dutch TL"/>
              </a:rPr>
              <a:t>procesu, kas </a:t>
            </a:r>
            <a:r>
              <a:rPr b="1" lang="fi-FI" sz="4400" spc="-1" strike="noStrike" u="sng">
                <a:solidFill>
                  <a:srgbClr val="ff00cc"/>
                </a:solidFill>
                <a:uFillTx/>
                <a:latin typeface="Dutch TL"/>
              </a:rPr>
              <a:t>palielina</a:t>
            </a:r>
            <a:r>
              <a:rPr b="1" lang="fi-FI" sz="4400" spc="-1" strike="noStrike">
                <a:solidFill>
                  <a:srgbClr val="ff00cc"/>
                </a:solidFill>
                <a:latin typeface="Dutch T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400" spc="-1" strike="noStrike">
                <a:solidFill>
                  <a:srgbClr val="ff00cc"/>
                </a:solidFill>
                <a:latin typeface="Dutch TL"/>
              </a:rPr>
              <a:t>ieguvumus un </a:t>
            </a:r>
            <a:r>
              <a:rPr b="1" lang="fi-FI" sz="4400" spc="-1" strike="noStrike" u="sng">
                <a:solidFill>
                  <a:srgbClr val="ff00cc"/>
                </a:solidFill>
                <a:uFillTx/>
                <a:latin typeface="Dutch TL"/>
              </a:rPr>
              <a:t>samazina</a:t>
            </a:r>
            <a:r>
              <a:rPr b="1" lang="fi-FI" sz="4400" spc="-1" strike="noStrike">
                <a:solidFill>
                  <a:srgbClr val="ff00cc"/>
                </a:solidFill>
                <a:latin typeface="Dutch T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400" spc="-1" strike="noStrike">
                <a:solidFill>
                  <a:srgbClr val="ff00cc"/>
                </a:solidFill>
                <a:latin typeface="Dutch TL"/>
              </a:rPr>
              <a:t>abu atsevišķo sistēmu pārklāšanos.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7621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600" spc="-1" strike="noStrike">
                <a:solidFill>
                  <a:srgbClr val="990099"/>
                </a:solidFill>
                <a:latin typeface="Dutch TL"/>
              </a:rPr>
              <a:t>Gan kvalitātes, gan vides pārvaldības sistēmu ieviešana </a:t>
            </a:r>
            <a:r>
              <a:rPr b="1" lang="fi-FI" sz="3600" spc="-1" strike="noStrike" u="sng">
                <a:solidFill>
                  <a:srgbClr val="990099"/>
                </a:solidFill>
                <a:uFillTx/>
                <a:latin typeface="Dutch TL"/>
              </a:rPr>
              <a:t>iegū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DBA-4847-4EC3-A5F1-7687D63CC0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4724280"/>
            <a:ext cx="4419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008000"/>
                </a:solidFill>
                <a:latin typeface="Times New Roman"/>
              </a:rPr>
              <a:t>Abas  īste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051440" cy="2984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4120" y="464832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400" spc="-1" strike="noStrike">
                <a:solidFill>
                  <a:srgbClr val="008000"/>
                </a:solidFill>
                <a:latin typeface="Dutch TL"/>
              </a:rPr>
              <a:t>brīvprātīg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0A48-AE08-47BA-A1AA-E5C9120DEC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ISO 9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fi-FI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676520" y="3581280"/>
            <a:ext cx="6032520" cy="2132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858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9900cc"/>
                </a:solidFill>
                <a:latin typeface="Dutch TL"/>
              </a:rPr>
              <a:t>Izmaksu samazināša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B378-7084-42B3-8F43-468C5B1C58D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3094200" cy="4127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1066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ffcc66"/>
                </a:solidFill>
                <a:latin typeface="Dutch TL"/>
              </a:rPr>
              <a:t>Bez savstarpējas konkurenc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FF3-1AB5-4248-AEB6-1535EBB3F2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76720" y="990720"/>
            <a:ext cx="2555640" cy="3481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48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33ccff"/>
                </a:solidFill>
                <a:latin typeface="Dutch TL"/>
              </a:rPr>
              <a:t>Uzsvars  dažādās sfērā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77E-A551-436D-973A-9CC1686F74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150840" y="1981080"/>
            <a:ext cx="711720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808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fi-FI" sz="4000" spc="-1" strike="noStrike">
                <a:solidFill>
                  <a:srgbClr val="808000"/>
                </a:solidFill>
                <a:latin typeface="Times New Roman"/>
              </a:rPr>
              <a:t>vides sasniegumi</a:t>
            </a:r>
            <a:r>
              <a:rPr b="1" lang="fi-FI" sz="4000" spc="-1" strike="noStrike">
                <a:solidFill>
                  <a:srgbClr val="808000"/>
                </a:solidFill>
                <a:latin typeface="Dutch T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808000"/>
                </a:solidFill>
                <a:latin typeface="Dutch TL"/>
              </a:rPr>
              <a:t> </a:t>
            </a:r>
            <a:r>
              <a:rPr b="1" lang="fi-FI" sz="4000" spc="-1" strike="noStrike">
                <a:solidFill>
                  <a:srgbClr val="808000"/>
                </a:solidFill>
                <a:latin typeface="Dutch TL"/>
              </a:rPr>
              <a:t>uzlabojumi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808000"/>
                </a:solidFill>
                <a:latin typeface="Dutch TL"/>
              </a:rPr>
              <a:t> </a:t>
            </a:r>
            <a:r>
              <a:rPr b="1" lang="fi-FI" sz="4000" spc="-1" strike="noStrike">
                <a:solidFill>
                  <a:srgbClr val="808000"/>
                </a:solidFill>
                <a:latin typeface="Dutch TL"/>
              </a:rPr>
              <a:t>likumdošanas ievērošana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808000"/>
                </a:solidFill>
                <a:latin typeface="Dutch TL"/>
              </a:rPr>
              <a:t>rīcība  saskaņā  ar v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808000"/>
                </a:solidFill>
                <a:latin typeface="Dutch TL"/>
              </a:rPr>
              <a:t>prasībā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808000"/>
                </a:solidFill>
                <a:latin typeface="Dutch TL"/>
              </a:rPr>
              <a:t> </a:t>
            </a:r>
            <a:r>
              <a:rPr b="1" lang="fi-FI" sz="4000" spc="-1" strike="noStrike">
                <a:solidFill>
                  <a:srgbClr val="808000"/>
                </a:solidFill>
                <a:latin typeface="Dutch TL"/>
              </a:rPr>
              <a:t>ziņoš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00cc99"/>
                </a:solidFill>
                <a:latin typeface="Dutch TL"/>
              </a:rPr>
              <a:t>EMAS ir plašāks nekā  ISO14001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bd05296_" descr=""/>
          <p:cNvPicPr/>
          <p:nvPr/>
        </p:nvPicPr>
        <p:blipFill>
          <a:blip r:embed="rId1"/>
          <a:stretch/>
        </p:blipFill>
        <p:spPr>
          <a:xfrm>
            <a:off x="5410080" y="3809880"/>
            <a:ext cx="3276720" cy="27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ABF7-16A9-42CB-AE1D-F693BEA0FA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544680" y="4724280"/>
            <a:ext cx="101505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ff0000"/>
                </a:solidFill>
                <a:latin typeface="Dutch TL"/>
              </a:rPr>
              <a:t>To darbības pamatā nepārklāj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800000"/>
                </a:solidFill>
                <a:latin typeface="Times New Roman"/>
              </a:rPr>
              <a:t>ISO14001</a:t>
            </a:r>
            <a:r>
              <a:rPr b="1" lang="fi-FI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48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fi-FI" sz="4800" spc="-1" strike="noStrike">
                <a:solidFill>
                  <a:srgbClr val="ff0000"/>
                </a:solidFill>
                <a:latin typeface="Dutch TL"/>
              </a:rPr>
              <a:t>līdzeklis</a:t>
            </a:r>
            <a:r>
              <a:rPr b="1" lang="fi-FI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fi-FI" sz="4800" spc="-1" strike="noStrike">
                <a:solidFill>
                  <a:srgbClr val="800000"/>
                </a:solidFill>
                <a:latin typeface="Dutch TL"/>
              </a:rPr>
              <a:t>EMAS</a:t>
            </a:r>
            <a:r>
              <a:rPr b="1" lang="fi-FI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fi-FI" sz="4800" spc="-1" strike="noStrike">
                <a:solidFill>
                  <a:srgbClr val="ff0000"/>
                </a:solidFill>
                <a:latin typeface="Dutch TL"/>
              </a:rPr>
              <a:t>sasniegšana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d05297_" descr=""/>
          <p:cNvPicPr/>
          <p:nvPr/>
        </p:nvPicPr>
        <p:blipFill>
          <a:blip r:embed="rId1"/>
          <a:stretch/>
        </p:blipFill>
        <p:spPr>
          <a:xfrm>
            <a:off x="2971800" y="2179800"/>
            <a:ext cx="2895480" cy="270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FA89-51D9-410A-9E73-B2303D4BEC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4267080" cy="40035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ff00ff"/>
                </a:solidFill>
                <a:latin typeface="Dutch TL"/>
              </a:rPr>
              <a:t>Vienam otru pilnveid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624C-9CDE-45E3-80C1-BC52FFB0FD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19120" y="74520"/>
            <a:ext cx="760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6633"/>
                </a:solidFill>
                <a:latin typeface="Times New Roman"/>
              </a:rPr>
              <a:t>15. COMPARISON OF ISO 14001 AND 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400" spc="-1" strike="noStrike">
                <a:solidFill>
                  <a:srgbClr val="006633"/>
                </a:solidFill>
                <a:latin typeface="Times New Roman"/>
              </a:rPr>
              <a:t>TRAINING COURSE IN CLEANER PRODUCTION FOR LATVIAN INDUSTRIAL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609480"/>
            <a:ext cx="7848720" cy="0"/>
          </a:xfrm>
          <a:prstGeom prst="line">
            <a:avLst/>
          </a:prstGeom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9120" y="6523200"/>
            <a:ext cx="82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ESAMS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     TRANS-MOND ENVIRONMENT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7800" y="5029200"/>
            <a:ext cx="7615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800000"/>
                </a:solidFill>
                <a:latin typeface="Times New Roman"/>
              </a:rPr>
              <a:t>ISO 14001</a:t>
            </a:r>
            <a:r>
              <a:rPr b="1" lang="fi-FI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48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fi-FI" sz="4800" spc="-1" strike="noStrike">
                <a:solidFill>
                  <a:srgbClr val="ff0000"/>
                </a:solidFill>
                <a:latin typeface="Dutch TL"/>
              </a:rPr>
              <a:t>netiek prasī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29000" y="2133720"/>
            <a:ext cx="2104920" cy="28954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800" spc="-1" strike="noStrike">
                <a:solidFill>
                  <a:srgbClr val="800000"/>
                </a:solidFill>
                <a:latin typeface="Times New Roman"/>
              </a:rPr>
              <a:t>EMAS</a:t>
            </a:r>
            <a:r>
              <a:rPr b="1" lang="fi-FI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48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fi-FI" sz="4800" spc="-1" strike="noStrike">
                <a:solidFill>
                  <a:srgbClr val="ff0000"/>
                </a:solidFill>
                <a:latin typeface="Dutch TL"/>
              </a:rPr>
              <a:t>sākotnējais ziņoju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11B-F40A-4053-98CD-20162EECCC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6-04-03T10:40:22Z</dcterms:created>
  <dc:creator>Kaarina Hanninen</dc:creator>
  <dc:description/>
  <dc:language>en-US</dc:language>
  <cp:lastModifiedBy>CESAMS</cp:lastModifiedBy>
  <cp:lastPrinted>2000-05-12T19:14:06Z</cp:lastPrinted>
  <dcterms:modified xsi:type="dcterms:W3CDTF">2000-05-24T22:35:28Z</dcterms:modified>
  <cp:revision>72</cp:revision>
  <dc:subject/>
  <dc:title>No Slide Title</dc:title>
</cp:coreProperties>
</file>