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E3D-3C65-47AE-811D-D62F5BE2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A07-46A1-4202-B796-4478A01D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1A7-95CE-4B25-8390-FC26B2F9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7FE-A09C-43D3-B651-039AF934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EF5-DC13-4C1C-8098-C280FD9A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FC6-B043-4A84-AEC0-949CCC3C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008-8DB5-4C3F-9952-72F1634E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ED6-8C0B-4555-B020-B6DDCFD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736-8985-448A-8A04-3F770074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081-CDEE-46C5-B711-8E34BAC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27F-3C27-46C3-9DE7-34939101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2D2-96CA-40ED-AD60-96134038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A57B6B-02FB-43F4-A541-30DE4A4D7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4240" y="623880"/>
            <a:ext cx="529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veselīga tekstilprodu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SPĀRĒJAIS UZ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920" y="2133720"/>
            <a:ext cx="5796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gala produkts ir nekaitīgs pasūtītāj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cijas ietekme uz vi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cijas ietekme uz cilvē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cijas ietekme uz pilsētv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ecikl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zīves cikla novērtē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27640" y="4159080"/>
            <a:ext cx="2824200" cy="194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FA6-2C2C-4F31-BFF8-3F572FBD03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46280" y="426960"/>
            <a:ext cx="80928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Pesticī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esticīdu atlikumi ir kaitīgi cilvēk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robežojumi norādīti dažādos ekomarķēj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esticīdu atlieku rašanās avo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kokvilna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(insekticīdi, herbicīdi, fungicī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itu vilnas tīrīšana no parazīt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pesticīdu saturošās ķimikālijas audumu ražošanas procesā (aizsardzība no kodēm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šķiedru un audumu attīrīšana no puves aizsargājošām viel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960" y="2673360"/>
            <a:ext cx="8217000" cy="311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3400" y="250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131-BF82-4050-B518-4DE7F40C88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680" y="1600200"/>
            <a:ext cx="83613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Audumi, kuri izraisa alerģi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ilnas “alerģija”- niezēšana, arī no augu šķiedru tip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Lanolīns viln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Kairinājums no blīviem un neabsorbējošiem aud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Formaldehīds (300 ppm un vairā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Niķeļa alerģija (pieder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lerģiski izkliedējošām krāsviel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Nesē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irsmas aktīvās vi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2280" y="1073160"/>
            <a:ext cx="7988040" cy="494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3400" y="250920"/>
            <a:ext cx="178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r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BA8-557B-482F-BC5E-4885A4264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69960" y="243000"/>
            <a:ext cx="81691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veselīgu audumu ražošanai nav/vai ir viegli vadāma kaitīga ietekme uz da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Ražošanai nepieciešam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drošināt tās un dabas produktīvu savstarpēju harmon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drošināt tagadējās un nākošo paaudžu sociālās, ekonomiskās un citas prasīb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drošināt vides kvalitātes sasniegumus, kas veicina labklājību un cienīgu dzīvi</a:t>
            </a:r>
            <a:br>
              <a:rPr sz="20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Tas ir atkarīgs no šādiem apstākļi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gaisa kvalitātes pārvald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ūdens kvalitātes pārvaldīb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zemes izlietošanas pārvaldīb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dabas resursu pārvaldības un saglabāš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virszemes un pazemes ūdeņu saglabāšanas  un izlietoš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atkritumu saimniecības pārvald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iedzīvotāju un vides līdzsv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kultūrvides pasargāš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4D1-BCB3-4890-9385-287D60EB7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141320" y="326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2920" y="1050840"/>
            <a:ext cx="8579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BĪGĀS ŠĶIED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Kokvi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1) piesārņojuma cēlonis - kultivā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esticīdi, minerālmēs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rszemes un pazemes ūdeņu piesārņ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ugsnes piesārņ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zemes atst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2) piesārņojuma cēlonis - tīrīšana, transports un glab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46B-2B63-4AE8-AFF2-CB88FA385E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945840" y="2509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280" y="593640"/>
            <a:ext cx="265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523880"/>
            <a:ext cx="79246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Pesticīdi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ieto augu aizsardzībā un ražu palielināšanas ķimikāl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okvilna patērē ap 16 % no pasaules pesticīdu patēriņ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iazionon (visizplatītākais) - bioloģiski sadal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inerālmēs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esticī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fungicī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kļauti sarakstā un pesticīdu atlikumi tiek ierobežoti ar ekomarķēš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žu pesticīdu lietošanu ierobežo ar likumdošanu (DDT, gameksān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137-7DAA-4D1E-8E60-76C1BA1D6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327080" y="17460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60" y="0"/>
            <a:ext cx="90662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Pesticī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ādas ķimikālijas nelieto kokvilnas audzēšanā, ko nosaka Eiropas Savienības  ekomarķ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aukums       CAS nr       Nosauku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CAS n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ecticides and acaricid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bicid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309-00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az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1912-24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ld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60-57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az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2-34-9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72-20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fulra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1582-09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hechlor 8001-35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azifop buty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69806-50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ary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63-25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icc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50-29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qu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1910-42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hlorv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62-73-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fol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zon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333-41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4-Dichlorophenoxyl acetic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94-75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f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15-32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4,5-Trichlorophenoxyl acetate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93-76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sulf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15-29-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ngi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ricarb         23103-98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chlorpheny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7-86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nvalerate  51630-58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achlorobenze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18-74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loxychlor  72-43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12417-38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ntoze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2-68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133-06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D41-5C43-40B3-A474-BDF949C23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74440" y="17460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6320" y="974880"/>
            <a:ext cx="83552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BĪGĀS ŠĶIED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Linu audekls (li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dzēšana un ražošanas process ir mazāk kaitīgs dabai kā kokvil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d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inu mērcēšana - dabīgo ūdeņu piesārņ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ransportēšana un uzglab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Kaņe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dzēšana un ražošanas process - nav nepieciešamības liet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esticīdus un minerālmēs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ērcēšana līdzīgi kā lin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ažās valstīs ražošanu ierobežo ar likumdošanas palīdz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EA4-1908-43A4-B8B7-3CFB26DAF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45840" y="2509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228600"/>
            <a:ext cx="7407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BĪGĀS ŠĶIED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Vi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esticī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no vilnas iemērkšanas ūdenī ķimikālijas to piesārņ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no barības viel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itu audzēšana pazemina augsnes kvalitāti   un ierobežo ekosistē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Ziemeļu Vides Marķējums nosakaierobežojumus šādu ķimikāliju lietošanā, audzējot a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ldrin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arbaryl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hloropyrifo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ichlorovo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ieldrin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enthion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eptachlorin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CH             (Hexachlorocyclohexane)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alat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irex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ermethrin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oxaphene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richlorf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657600"/>
            <a:ext cx="730260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41F-F400-4956-BEEC-03A672103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746280"/>
            <a:ext cx="64152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ĀKSLĪGĀS ŠĶIED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Visko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lors balināšan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Ūdens un enerģijas patēriņ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aisa piesārņošana (enerģija) -slāpekļa savienoju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glekļa dioksīda un sērūdeņraža nokļūšana gais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ātrija un cinka sulfātu nokļūšana ūden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Lyo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ķimikāliju otrreizēja izmantošana (NM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nerģija un balināšana kā viskoz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98480" y="17460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066-35EE-4860-8AF6-2CAB8647E2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6280" y="900000"/>
            <a:ext cx="76356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INTĒTISKĀS ŠĶIED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atjaunojamo resursu “iztukšošana” - plastmasu ražošana izlieto  2 % no pašreizējā naftas patēriņ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ķiedru ražošanā enerģijas patēriņš ir augsts - gaisa piesārņošana, ozona slāņa ietek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aftas transports - enerģija, naftas noplū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Ķimikāliju ražošana - dažas nesadalā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Gaistošie Organiskie Savienojumi (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74440" y="2509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988-C867-49F7-A24E-1A0FC181E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23880"/>
            <a:ext cx="83059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veselīgs produkts ir nekaitīgs patērētāj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av toksiko vielu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krāsvielas, pesticīd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av kancerogēno vielu  azbests, krāsvielas, “beigu” ķimikā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ealerģisku vielu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brīvās krāsvielas, formaldehīds,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hlor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ādu nekairinošu vie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Dutch TL"/>
              </a:rPr>
              <a:t>Dažos ekomarķējumos norādīts,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kur kaitīgās vielas varē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* pārsniegt uzrādītos daudzumus v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* rasties noteiktos daudzumos to lietošanas laikā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* būt kāda veida kaitīga ietekme uz cilvēkiem to lietošanas laikā,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as var kaitīgs cilvēka veselī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523880"/>
            <a:ext cx="79120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6F4-AE9F-4015-8F15-BA0F62189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8480" y="32688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990720"/>
            <a:ext cx="86104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Vērp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mērvielas un  vērpšanas eļlas, kas nonāk notekūdeņ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Lī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ciete ir bioloģiski sadalāma, bet mikro-organismi spēj baroties no izplūdēm un izraisa skābekļa patēriņ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VA var tikt apstrādāti ar enzmiem, reciklēšanas sistēmas ir pieej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fungicīdi tādi kā PCP un smago metālu savienojumi (cinks, varš, dzīvsudrabs) var izraisīt problē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7C3-8059-4D55-BF57-00F3F6D600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327080" y="2509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0920" y="547560"/>
            <a:ext cx="323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2240" y="1295280"/>
            <a:ext cx="7178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Ba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patēriņ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hlors kokvilnas balināšanā - ūdeņraža peroksīds varētu būt videi draudzī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Krāsvi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udzas nav bioloģiski sadalā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pieciešama apstrāde (oksidēšana, absorbcija, filtrēšana), lai tās  likvidē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krās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magie metā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oksisko savienojumu iespējamība pēc attīrīš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un enerģijas patēriņ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1F8-1378-43A0-AE5A-590E7219F1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69880" y="2509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3720" y="318960"/>
            <a:ext cx="323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1050840"/>
            <a:ext cx="755964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Nobeiguma po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Flame Retar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iesārņojošās ķimikālijas sa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b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bora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osf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lāpek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Apšuvums, diegu ieaušana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(PVC, P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108-9C3D-495A-9490-A1F1706BA7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46280" y="1812960"/>
            <a:ext cx="763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Insekticīds/ Aizsardzība pret kodē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ar radīt toksiskas noplū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atur tādas ķimikālijas kā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ar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en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lorfen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2320" y="395280"/>
            <a:ext cx="323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dumu raž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2160" y="17460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4160" y="898560"/>
            <a:ext cx="302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Nobeiguma po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429-4CCB-46B6-86E7-B4B84D9865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55400" y="426960"/>
            <a:ext cx="3994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Globāli  apsvēru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17880" y="1096920"/>
            <a:ext cx="58831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iltumnīcas gā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zona slāņa noārdī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kābin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otoķīmiskie oksid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oksiskie metāli un organiskie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50840" y="3094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96800" y="4343400"/>
            <a:ext cx="3331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ūdens un emis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misijas augsnē un gais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OC, A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adi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74440" y="2509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Ietekme uz v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4040" y="1073160"/>
            <a:ext cx="5861160" cy="18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475080"/>
            <a:ext cx="796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Reģionālie un vietējie (lokālie) apsvēr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267080"/>
            <a:ext cx="388620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3A6-0133-4FF7-93F2-C7634A66A5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76160" y="776160"/>
            <a:ext cx="654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dumu ražošanas ietekme uz cilvē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3480" y="1508040"/>
            <a:ext cx="6645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atērē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udumu ražošanas darba spē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alīgmateriālu piegādātāju ražošanas darba spēks; krāsvielu ražošana, nobeiguma posma materiālu ražošan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3920" y="3641760"/>
            <a:ext cx="727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rodslim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Ražošanas kaitīg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Ķimikālijas (toksiskums, kancerogēns, alerģenti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adi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utekļ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roksnis, sma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371600"/>
            <a:ext cx="6616800" cy="213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0E3-7F5C-4D32-A874-8D5E691F77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93640" y="10368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2165400"/>
            <a:ext cx="7008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040" y="3687840"/>
            <a:ext cx="702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0520" y="1798560"/>
            <a:ext cx="797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Reģionālie un vietējie (lokālie) apsvēr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743200"/>
            <a:ext cx="35146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ūdens un emis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itr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misijas augsnē un gais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roks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OC, A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adi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rkulācijas traucējumi un atkri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441360"/>
            <a:ext cx="7711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i veselīga audumu ražošana saglabā pilsētas v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06F-06B1-45E6-9175-7F3EB979D4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55760" y="808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0"/>
            <a:ext cx="8474040" cy="64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Dutch TL"/>
              </a:rPr>
              <a:t>Toksiskās vielas (krāsviel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iemēram, ASV Toxic Release Inventory (TRI) sarakstā ir iekļautas šādas toksiskās tekstilkrāsvie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cid Green 3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irect Brown 95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olvent Yellow 3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Basic Green 4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isperse Yellow 3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olvent Yellow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Basic Red 1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ood Red 5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olvent Yellow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irect Black 38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ood Red 15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Vat Yellow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irect Blue 6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olvent Orange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ar toksiskām vielām uzskata arī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magos metālu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rsēns (defoliant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admijs (krāsviel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vins (krāsviela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zīvsudrabs (pesticīdi, krāsviel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arš, niķelis, kobalts and hroms kā krāsvielu metālu kompleksu pamatkomponent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roms - superwash treatment imaiprs wetfa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23880"/>
            <a:ext cx="845172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2000" y="17460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951-2FB8-4417-A4E2-518467D098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762120"/>
            <a:ext cx="83980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Kancerogēnās vi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ažas tekstilkrāsvielas un ķīmiskās vielas, no kurām ražo krāsvielas ir iekļautas kancerogēno vielu sarakstā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SV Nacionālajā toksikoloģijas programmā (NTP) un Starptautiskajā vēža pētījumu institūtā ir sastādīts šādu vielu sarak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Katras valsts nacionālajā likumdošanā ir šādu vielu un arī to lietošanas nosacījumu saraksts, piemēram, Somij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Violet 49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Pigment Yellow 33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ue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ack 38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            Acid Blue 9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Citrus Re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rown 9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Red 28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u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Red 26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Food Red 6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Gree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Basic Red 9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sperse Blue 1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Red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ēl joprojām nav pietiekošas zināšanas par šādu vielu ģenētisko ieteik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971800"/>
            <a:ext cx="8305920" cy="257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3400" y="250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05D-69E6-4A8E-B07D-4D5184300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69960" y="776160"/>
            <a:ext cx="824544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ekstilkrāsvielas, kuras var izraisīt vēzi (noteikts  eksperimentos ar dzīvnieki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(ETAD sarak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Nosaukums</a:t>
            </a: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           Numurs</a:t>
            </a: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            Tips                        Diazo sasstāvdaļ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ue 6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2261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benz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rown 9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3014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benz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ack  38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3023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benz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ue 14      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2385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tol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ue 1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2440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anis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rect Blue 53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2386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tol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Dye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1615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pseudo cum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Red 26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1615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xyl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Red 114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23635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zo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tol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Acid Violet 49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4264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   triphenylmeth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Basic Yellow 2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4100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        ketoni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Basic Red 9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42500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   triphenylmeth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Disperse Blue 1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64500          Anthraqui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3400" y="250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508-AD8F-4F3E-832E-99A26EFBCB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838080"/>
            <a:ext cx="78645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zokrāsvi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žām azokrāsvielām ir toksikoloģiska iedarbība, kas rodas  reducēšanās procesā, sadaloties azokrāsvielai un  veidojoties aromatiskam amīnam, kas atkal var būt kancerogē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Benzidīns rada cilvēku pūšļa karcin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Ķīmiskās vielas, kuras lieto krāsvielu sintēzē, izraisa ļaundabīgos audzēj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4-hlor-o-toluidī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2-naftilamī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4-aminodifen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91520" y="304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562-DE2B-44CF-A65D-D2AF823611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249200"/>
            <a:ext cx="87771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zokrāsvielas, kuras var radīt šādus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ancerogēnos amīnus, Vācijā ir aizliegtas liet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 N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4-aminodipheny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92-67-1  * p-cresid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120-71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nzid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92-87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o-toluid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95-53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4-chloro-o-toluid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95-69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,4-toluylendiamine           95-8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-naphthyla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91-59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,4-diaminoanis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15-0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o-aminoazotoluen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97-56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4,4´-diaminodophenylmeth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-amino-4-nitrotoluene      99-55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01-77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p-chloroani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106-47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,3´-dimethyl-4,4´-diamino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,3´-dichlorobenzidine       91-94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ylmeth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838-88-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,3´-dimethoxybenzidine 119-90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4,4´-methylene-bis-(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,3´-dimethylbenzidine    119-93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oanili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01-14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,4,5-trimethylani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137-17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4,4´-oxydiani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01-80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4,4´-thiodianiline                139-6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0160" y="547560"/>
            <a:ext cx="243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zokrāsvi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2209680"/>
            <a:ext cx="8216640" cy="403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8195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20968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3400" y="250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0BA-D35E-4025-96C4-F2A082D25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471600"/>
            <a:ext cx="8001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Formaldehī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kairina gļotādu un elpošanas t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dažās valstīs tā lietošana tiek ierobežota ar likumdošanas palīdzī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zraisa alerģiju un jūtīgu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tiek uzskatīts par kancerogēnu vi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8840" y="3230640"/>
            <a:ext cx="8308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Formaldehīda saturs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Fizioloģiskais ef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drēbēs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1300 - 4500 ppm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airina apakšējos elpošanas ceļus, kož acī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rom 750 ppm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izraisa alerģiskas reakc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rom 300 ppm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iespējama ādas kairin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124080"/>
            <a:ext cx="8381880" cy="30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9625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12408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5680" y="250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1A5-BEE0-4BC0-8587-988FEFD6B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27160" y="547560"/>
            <a:ext cx="748332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Formaldehī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crease-resist fini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lieto tiešo un reaktīvo krāsvielu pēcattīrīšanas proces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lieto kā savienojošo aģentu pigmentu apdrukāšanā cross-linking agents in pigment pr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lieto dažādu procesu nobeiguma stadījās (karstumizturīgai kokvilnai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Samazināšanas met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lietot materiālus, kas nesatur formaldehīdu vai ir mazs tā sat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mainīt darba met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225440"/>
            <a:ext cx="746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3400" y="250920"/>
            <a:ext cx="177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Kaitīgi patērētāj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3A5-2FFE-4FC5-A9A0-6F1B2A60F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9T09:16:57Z</dcterms:created>
  <dc:creator>BONCAMPER  IRMA</dc:creator>
  <dc:description/>
  <dc:language>en-US</dc:language>
  <cp:lastModifiedBy>CESAMS</cp:lastModifiedBy>
  <cp:lastPrinted>2000-04-17T11:56:25Z</cp:lastPrinted>
  <dcterms:modified xsi:type="dcterms:W3CDTF">2000-05-24T22:36:04Z</dcterms:modified>
  <cp:revision>22</cp:revision>
  <dc:subject/>
  <dc:title>No Slide Title</dc:title>
</cp:coreProperties>
</file>