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E8E-1093-4C6B-B202-C091A5B8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738-55D3-4CD2-9256-310E1F4A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C15-7A9D-47AE-A377-68F395E7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9A7-3CC2-4F6D-A262-09D18490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5AC-110B-4BBA-B1E7-113291C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576-6CB4-43C3-BD3B-CEBB898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F09-2293-4260-8A46-913F38F2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25C-EAB8-464D-B873-B0D24948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9C4-6842-43FB-BD41-3AFC71DA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6A2-061D-4ABB-8A72-6613762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E2B-1B6C-4618-8E9D-EE80E03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626-3AE1-4D0E-8A4E-142BEA2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63A5-4A58-4752-A6A9-341FE2A7D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32080"/>
            <a:ext cx="86868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des stratēģijas var iedalīt četrās pakāpē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1. LĪMENI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ikumdošanas ievēr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2. LĪMENI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izsargājošas darbības, pievēršot uzmanību   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des riskam un kaitējumam vidē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3. LĪMENI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ādas darbības, kas uzlabo konkuren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4. LĪMENI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rbības saskaņā ar ilgtspējīgas attīstības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incipi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12160" y="395280"/>
            <a:ext cx="58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i draudzīga audumu raž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A54-DBBE-471B-8876-25B168ED4A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36200" y="395280"/>
            <a:ext cx="58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i draudzīga audumu raž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3151440" cy="1898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0160" y="3002040"/>
            <a:ext cx="132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NERĢ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9520" y="3886200"/>
            <a:ext cx="204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ZEJMATERIĀ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ĶIMIKĀL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EPAKOJUM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MATERIĀ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40240" y="1325520"/>
            <a:ext cx="211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MISIJAS  GAIS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23880" y="5059440"/>
            <a:ext cx="21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MISIJAS  ŪDEN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560" y="2819520"/>
            <a:ext cx="1555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KRI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8840" y="5668920"/>
            <a:ext cx="238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MISIJAS  AUGSN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58560" y="3962520"/>
            <a:ext cx="153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RAŽO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21240" y="1295280"/>
            <a:ext cx="281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UZŅĒMUMA IEKŠIEN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rošīb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94360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429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2279520" cy="14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705720" y="320004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4197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8120" y="441972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449568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7360" y="1143000"/>
            <a:ext cx="380376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286000"/>
            <a:ext cx="91440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E8C-CC93-412A-85E0-824BF56AA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371600"/>
            <a:ext cx="66294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Dažādas pie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cijas vienības ietekme uz v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ietekmes uz dabu un pilsētvi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kritumi un noplū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des jautājumi ražošanas proces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arba procesa radītā riska pārvaldība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rošība darba proces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lgtspējīgas attīstības pie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CA kā darbību (operāciju) un pārvaldības daļ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CA arī kā plānošanas daļ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80880"/>
            <a:ext cx="679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i draudzīga audumu raž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6172200"/>
            <a:ext cx="377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CA - dzīves cikla novērt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F00-0C73-46FA-A8E9-910FCCD7A4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4920" y="487440"/>
            <a:ext cx="281376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ompon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až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Izejmateriā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Izstrād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iet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kri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ranspo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1040" y="463680"/>
            <a:ext cx="8674200" cy="58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9051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533520"/>
            <a:ext cx="0" cy="579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68320"/>
            <a:ext cx="5950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gaiss   ūdens  zeme flora    fauna     dabas        cilvē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esu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468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6668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5053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4197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100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57200"/>
            <a:ext cx="281916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790-7192-4E49-98E5-0C62B2C38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7680" y="136440"/>
            <a:ext cx="78642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sizplatītākās ietekmes audumu ražošan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nerģijas 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ažošana -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reģenerācija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sistē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ransportēšana - optimāla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samazin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jaunojamu, nekaitīgu un bioloģiski sadalāmu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avienojumu 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izejmateriāli -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otrreizēja liet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rāsvielas, nobeiguma posma ķimikālijas, palīgmateriāli -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amazināšana, lietojot jaunas tehnoloģijas, kaitīgu vielu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izstāšana ar mazāk kaitīgām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eterģenti - kaitīgu vielu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izstāšana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ar mazāk kaitīgām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kritumu un izplūžu pārvald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ateriālu maiņ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ehnoloģiju maiņ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aba saimniecības vadī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rodukcijas attīst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68A-A883-4749-ADA4-7000F2DE74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27160" y="318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0320" y="304920"/>
            <a:ext cx="39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Notekūdeņu attīrī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203480"/>
            <a:ext cx="868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rāsvielu un nobeiguma posma ķimikāliju pētī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Jaunu noteikumu ietek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10 - 15 % krāsvielu tiek zaudētas notekūdeņos (ap  0,7 mil ton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patērē enerģ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patēriņš tiek samazināts otrreizējā izlietošanā - iespējams  līdz  8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809880"/>
            <a:ext cx="7086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rāsotavas noplū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rāsa 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ažād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ainās atkarībā no ve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edzam mazās koncentrācijā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ālis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“lielas” koncentrāc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oksiski saldūdens organis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magie metā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912-B8B3-4A83-BEEC-A6DB762C28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4240" y="4586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990720"/>
            <a:ext cx="7483680" cy="50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Lai atrisinātu krāsotavu problē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oncentrātu likvid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ūņu likvidēš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arežģījumi ar membrānām un to samaz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zvairīšanās no atšķaidītu sāls šķīdumu liekas piegā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zvairīšanās no visu krāsošanas iekārtu liela skaita cauruļu un kontroles sistēmas uzstādīš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24C-17E8-4F3C-AA6D-95C7C3CEB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237960" y="228600"/>
            <a:ext cx="98089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Krāsotavas noplūžu vadī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vota samaz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ehnoloģijas maiņa, ķimikāliju maiņ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Krāsvielu šķīduma uztveršana, apstrāde un otrreizēja izman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080" y="3124080"/>
            <a:ext cx="2114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RĀSOŠANAS MAŠĪ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6880" y="4297320"/>
            <a:ext cx="2374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ISI  SKALOŠ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ŠĶĪD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93240" y="4876920"/>
            <a:ext cx="322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ITA VEIDA NOTEKŪDEŅ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4960" y="3352680"/>
            <a:ext cx="3239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IZLIETOTIE KRĀSOŠA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ŠĶĪD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1480" y="2209680"/>
            <a:ext cx="188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ŪDENS + SĀ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3000" y="3002040"/>
            <a:ext cx="163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EMBRĀ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34520" y="3962520"/>
            <a:ext cx="3086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RĀSVIELU ATKRITU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ONCENTRĀ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39280" y="4678200"/>
            <a:ext cx="194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PSTRĀDE 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IKVID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2040" y="5546880"/>
            <a:ext cx="343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AIRĀKUMS UZŅĒMU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TEKŪDEŅI 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ĶĪMISKIE ATKRITUMI  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TEKŪDEŅU ATTĪRĪ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080" y="2901960"/>
            <a:ext cx="219708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114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56272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8680" y="2825640"/>
            <a:ext cx="12826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819520"/>
            <a:ext cx="12952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352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886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4572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8168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666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BC5-01DA-436F-9592-30A4D4C4E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0200" y="304920"/>
            <a:ext cx="656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Filtrēšana ar membrān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523880"/>
            <a:ext cx="83203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IKROFILTRĒŠ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oloidālo daļiņu atdalīšana no izšķīdušiem  polimēr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ULTRAFILTRĒŠ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olimēru un koloīdu atdalīšana no izšķīdušiem mazmolekulāriem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avieno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ANOFILTRĒŠ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onovalento un divvalento jonu atdalī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PGRIEZTĀ OS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īs membrānas laiž cauri tikai ūd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79640" y="228600"/>
            <a:ext cx="714996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71E-407E-47AB-B73F-3623B2BB3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ONCAMPER  IRMA</dc:creator>
  <dc:description/>
  <dc:language>en-US</dc:language>
  <cp:lastModifiedBy>CESAMS</cp:lastModifiedBy>
  <cp:lastPrinted>2000-04-23T08:41:32Z</cp:lastPrinted>
  <dcterms:modified xsi:type="dcterms:W3CDTF">2000-05-24T22:36:40Z</dcterms:modified>
  <cp:revision>7</cp:revision>
  <dc:subject/>
  <dc:title>No Slide Title</dc:title>
</cp:coreProperties>
</file>