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274-DC86-49F2-8E5E-4B8641C4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54E-EF4E-48B3-9407-D1D06EF9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3EE-3A1D-435B-A6D4-46A8AF19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488A-0027-4582-B4B2-05B5ADE5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755-EFEE-4D8A-BB6B-0F31196E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28D2-7FBB-4A00-9170-5D8060C1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D3BC-FDDB-4413-B372-4F802252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6B0F-2A66-4B2F-85DF-1FC116D2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31B-820C-4EAA-946B-CEB3F583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5D0-B06C-47A5-A406-7301F9AD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572-FFD6-48F7-BB00-5829086A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60CF-5717-43EC-99CF-0C0930D8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4F3F1E-02CF-4689-B30E-3A458F788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8320" y="1066680"/>
            <a:ext cx="7006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AUDUMU OTRREIZĒJA IZLIETOŠ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8320" y="2270160"/>
            <a:ext cx="89935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Otrreizēja izliet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rodukta lietošana atbilstoši tā oriģinālam mērķ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iespējams uzlaboj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Kā palīgmateriā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rodukta vai materiālu izlietošana dažādiem mērķ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mehāniskie vadības proc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kausēšanas proc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arasti produkta vērtība ir mazāka nekā tā sākotnējā vērtī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65D-6513-4173-88BA-9A8443CF76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13160" y="700200"/>
            <a:ext cx="696852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Termiskā otrreizējā izlieto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piemērots  sintētiskām šķiedrām (PES; PA; P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materiālu kausē un ražo plastm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lastmasu loks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roduktu aizsardzī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ka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spaiņ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cau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arku s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o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utomašīnu paneļi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20880" y="1378080"/>
            <a:ext cx="7454880" cy="471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BBB-54B9-41D2-ADCB-C85397E15B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26960" y="304920"/>
            <a:ext cx="5023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Ķīmiskā otrreizējā izlieto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27160" y="1203480"/>
            <a:ext cx="7559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iemērots sintētiskām šķiedrā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dažādas metodes 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‘pielietojot apgriezeniskos ķīmiskos procesus,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roduktus var pārvērst sākotnējos materiā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pirolīse, hidrogenizācija, hidrolīze, glikolīze, metano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vēl dār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88280" y="4403880"/>
            <a:ext cx="5427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PET puteles   uz  poliēsteru šķiedrā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aitas vilna (uzkārsu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bura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996840"/>
            <a:ext cx="7537320" cy="295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1CF-12C7-4CA0-BF61-D72F9B87D7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27160" y="852480"/>
            <a:ext cx="672156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Otrreizēja audumu izlieto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ir lēns biz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ļoti bieži izlieto “second hand” veika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var tikt atrasts Internet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lielu daudzumu gadījumā ir izdevī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ir atjaunošanas iespē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20880" y="1682640"/>
            <a:ext cx="6921360" cy="303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8FFA-ECA0-4ED3-8CE5-E7D2C503F3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7720" y="746280"/>
            <a:ext cx="732960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TEKSTILATKRITUMI SOMIJ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Tekstilindustrijā otrreizēji izmanto tikai ļoti mazu atkritumu daudzu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Rūpnieciskie atkritumi ir 17 % no kopējā daudz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Tekstilatkritumi ir 1 % no rūpnieciskajiem atkritu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Tekstilatkritumi ir 1 % no komunālajiem atkritu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Novērtētais  kopējais tekstilatkritumu daudzums ir      1 - 0,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FC9B-5B05-4C39-82E8-F9D964BEE2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24360" y="457200"/>
            <a:ext cx="6559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IEPAZĪŠANĀS AR EIROPAS SAVIENĪ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DIREKTĪVU MĒRĶ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981080"/>
            <a:ext cx="75582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izvairīšanās no atkritumu veidošanās, attīstot ražošanas tehnoloģi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atkritumu atkārtota izmantošana vai otrreizēja pielietošana kā jaunus produktus vai  materiā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ja materiāls nav atkārtoti izmantojams vai otrreizēji pielietojams , tad tos var lietot enerģijas iegūš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atkritumu apstrāde, kur tas ir sākotnēji radī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drošas un videi veselīgas atkritumu apstrādes met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656-BA90-47D6-B321-CED6A651FA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46280" y="700200"/>
            <a:ext cx="78642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TEKSTIL -  UN IEPAKOJUMA  MATERIĀLU ATKRIT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Tekstilražošana 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tekstilatkritu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citus ražošanas atkritumus (papīrs, plastmasas, metāls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iepakojuma atkritu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bīstamos atkritumus (apdrukas līmes, baterijas, izlietotās eļļas, krāsas, impregnēšanas ķimikālijas, šķīdinātā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2240" y="356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6AB0-6B60-4527-8565-1D652FDE13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0"/>
            <a:ext cx="6873840" cy="71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Tekstilindustrijas atkrit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galvenokārt tiek apglabāti izgāztuvēs, kur 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var piesārņot gruntsūdeņ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piesārņo gaisu - izgāztuves gāzes, metā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ir estētiska problē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veido nepatīkamas smak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izraisa gaisa piesārņojumu transportēšanas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laik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tiek sadedzinā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gaisa piesārņojuma rašanās, bet ražo enerģi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otrreizēja izliet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nepieciešamas investīci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bīstamo atkritumu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 apstrāde (to veic speciālisti) - visbiežāk otrreizēja izliet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521D-412F-4034-A3C0-85C1624484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49760" y="243000"/>
            <a:ext cx="5474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Otrreizējās izlietošanas iespē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7680" y="1249200"/>
            <a:ext cx="824544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Šķiedru atkritumi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Enerģijas iegūšana sadedzi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tkārtota izmantošana pašā ražošanā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                       Pārdod citām kompānijām viņu vajadzīb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Dziju atkritumi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tkārtota izmantošana pašā ražošan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Pārdod citām kompānijām viņu vajadzīb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PES un PA var tikt izlietoti plastmasu ražošan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Drēbju gabali no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Grīdsegu ražo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piegriešanas ceha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Pildmateriāli  (matrači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Pārstrāde dzijā (vilna, zīds un daži ci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vērtīgi materiāl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Rokdarbu materiā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Enerģijas iegūšana sadedzi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3680" y="996840"/>
            <a:ext cx="8292960" cy="494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9907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28600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58128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A200-62BA-4D06-A7EE-0984310438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54680" y="471600"/>
            <a:ext cx="5474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Otrreizējās izlietošanas iespē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91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Vates atkritumi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Rotaļlietu, mēbeļu, ziemas cimdu,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konteineru pildmateriāls un lieto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lauksaimniecīb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Lieto rokdarb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ocenoti apģērb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gabali   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Pārdod kā tā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Lieto slaucīšan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Tehnisko taudumu materiāli;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geotekstīilija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konstrukciju tekstīlijas, agrotekstīli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Filtrējošais materiāls (zeķes - siev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5960" y="1606680"/>
            <a:ext cx="8217000" cy="40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1600200"/>
            <a:ext cx="0" cy="40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9718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092-D2D3-446B-819E-613928B1E5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96040" y="457200"/>
            <a:ext cx="797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Mehāniskās otrreizējās izmantošanas met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46480" y="1584360"/>
            <a:ext cx="1844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ārrau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Kārstu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Vērp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92480" y="1530360"/>
            <a:ext cx="189864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74920" y="2597040"/>
            <a:ext cx="166356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74920" y="3740040"/>
            <a:ext cx="173988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2209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3276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9718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65040" y="2514600"/>
            <a:ext cx="379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ildmateriāli, neaud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materiā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1920" y="3505320"/>
            <a:ext cx="153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Neska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materiā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43434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4114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57760" y="3870360"/>
            <a:ext cx="260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dzija adīšanai v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uš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A6D5-68E0-488B-90B6-1FD863B4F7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50480" y="471600"/>
            <a:ext cx="62809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Nonwovens from recycled materials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fusible interli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drēbju 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basic material in lam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vilnas se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pildīju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grīdsegu od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izolācijas materiāli (siltums, troksnis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automašīnu izolā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iesaiņošanas materiā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tīrīšanai (slaucīša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* lauksaimnieciskās tekstīli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C0AC-3B20-46E6-A452-87EDDF4149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8T14:42:58Z</dcterms:created>
  <dc:creator>BONCAMPER  IRMA</dc:creator>
  <dc:description/>
  <dc:language>en-US</dc:language>
  <cp:lastModifiedBy>CESAMS</cp:lastModifiedBy>
  <dcterms:modified xsi:type="dcterms:W3CDTF">2000-05-24T22:37:04Z</dcterms:modified>
  <cp:revision>7</cp:revision>
  <dc:subject/>
  <dc:title>No Slide Title</dc:title>
</cp:coreProperties>
</file>