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3BB-0715-41EB-8FDE-8441F1186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529-A94F-4A3E-A9FE-5CAEAE8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305-8547-4479-A387-F3AAC7E0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06C-6847-41BB-B1BC-7815EF8A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51B-B93F-4FD3-AAC3-1C5B842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712-E7CA-4D1C-BE33-00F9D2E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625-6335-4091-A22D-FE22713B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0565-4E11-43F1-A540-4CDEFFF8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2C2-45E0-4070-BCFF-1B4BE4F0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B6A6-DE52-4B05-A314-81B0D64E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CE3-615E-465D-8791-51A52522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8F6-14F4-43DE-A7C0-2B02B6C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CA13-876C-47E1-9AA5-381128730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7480" y="731880"/>
            <a:ext cx="2445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IKU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1630440"/>
            <a:ext cx="76356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Direktīvas -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dei un 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rodukcij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r  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likumdošanu u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/vai 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standar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ārvaldības standarti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ISO 9000  un ISO 14000, 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arba vides noteik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3840120"/>
            <a:ext cx="8321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roduktu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teiku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r 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marķējumu un lēmumu va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ar  likumdošanu,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piemēram, formaldehīda saturs tekstilprod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Dutch TL"/>
              </a:rPr>
              <a:t>drošības noteikum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bīstamos, nogurdinošos apstākļos vai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ehniskajām tekstīlijām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1DE-4521-496E-A764-5FEE2EB01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89120"/>
            <a:ext cx="877896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6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ŪD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kie halogensavienojumi un vielas, kuras ūdens vidē var veidot šādus savienoju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kie fosfora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kie alvas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pstiprinātas vielas un sagatavošanas darbi, kurām/-iem  piemīt kancerogēnas vai  mutagēnas 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īpašības vai īpašības, kuras var ietekmēt “caur” ūdens v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ko toksisko vielu  un stabilu ogļūdeņražu pastāvīga bioakumulēšanās spē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anī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āli un to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sēns un to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cīdi un plant health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pendētās vie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las, kuras veicina eitrofikāciju (it sevišķi, nitrāti un fosfā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las, kurām ir nelabvēlīga ietekme uz skābekļa  saturu (un var tikt noteikta, pielietojot tādus parametrus kā  BSP, ĶSP u.c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8240" y="0"/>
            <a:ext cx="8172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ĒTĀ   PPIESĀRŅOJUMA   NOVĒRŠ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  K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Pielikums 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71E-6554-45E1-A163-0BE5BFFB87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0080" y="243000"/>
            <a:ext cx="307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ŪDENS PRO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6880" y="1279440"/>
            <a:ext cx="854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teikumi par dabisko ūdeņu lietoš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1) virszemes ūdeņ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rocess nedrīkst izjaukt dabisko līdzsv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2) pazemes ūdeņ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jāgarantē ilgtspējīga (ilglaicīga) liet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egulē ar atļaujām,ja lietošana pārsniedz noteiktos limi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BBC-74EB-4F11-BD1D-B59408106E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2480" y="243000"/>
            <a:ext cx="33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ETIE ATKRIT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2760" y="1050840"/>
            <a:ext cx="8321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ekstilindustrija rada audumu  un iepakojuma  materiālu atkritu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Bīstamie rūpnieciskie atkritumi (baterijas, printēšanas atkritumi, līmes, smērvielas, šķīdinātāji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9520" y="2666880"/>
            <a:ext cx="8906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ritumiem jābū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kārtoti izmantoja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o daudzums jāsamaz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otrreizēji izlietoja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edzināmiem v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smaz iespējama to apglabāšana atkritumu polig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7320" y="5546880"/>
            <a:ext cx="785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žādas direktīvas ir spēkā ar nacionālo likumdoš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8BF-ECB5-4603-89D1-684C79070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5040" y="380880"/>
            <a:ext cx="1776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ENERĢ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160" y="1203480"/>
            <a:ext cx="504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sildī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ašīnu, mehānismu darbinā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6000" y="2422440"/>
            <a:ext cx="84207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Enerģijas ražošan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ēra dioksīdu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gsnes un dabisko ūdeņu paskābināš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lāpekļa oksīd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augsnes un dabisko ūdeņu paskābināš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zona veidošanās zemākos atmosfēras slāņ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itrofikā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ežu bojā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glekļa oksīd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“ siltumnīcas “  gāz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vins un cietās daļ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0D1-B9F1-4548-835C-EC448F6150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39160" y="471600"/>
            <a:ext cx="2388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IZVIETO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280" y="1355760"/>
            <a:ext cx="725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ūpnieciskajām teritorijām un procesiem (tehnoloģijām) piemīt ietekme uz pilsētv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roks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patīkamas sma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Organizējot ražošanu pilsētvidē nepieciešamas atļau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ākslīgo šķiedru ražo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ādu miec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3B7-E84C-4647-9F56-FCA5961CC3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6760" y="318960"/>
            <a:ext cx="452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AUGSNES PIESĀRŅO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3400" y="1050840"/>
            <a:ext cx="6332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Tīrītā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udumu atlikumi, iespiešana un krās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lnas tīrīš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37880" y="2376360"/>
            <a:ext cx="605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ĶIMIKĀLIJAS, RŪPNIECISKAIS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3124080"/>
            <a:ext cx="5877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oroziju veicinošas, skābās vai sārmainās 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oksiskās 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Uzliesmojošās 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tas bīstamās ķimikāl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048120"/>
            <a:ext cx="623556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1760" y="4784760"/>
            <a:ext cx="5823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pakojums un marķ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labāšana, vadīšana un transport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iska nov;ertēj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rošības pasāk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385-5986-450C-8E78-2DCC9897B6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86800" y="1944720"/>
            <a:ext cx="6869160" cy="31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 Safety Directives &amp; Reg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azardous Waste Directive, December 199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 Substances Directive (74/464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 Waste Water Treatment Directive (91/271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 Packaging and Packaging Waste Directive (94/62/EC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ate Directive (91/676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gent Directive (73(404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udge to Land Directive (86/278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bestos Directive (87/217/E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PC directive - for prevention of pollution,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0080" y="838080"/>
            <a:ext cx="758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DAŽAS  Eiropas Savienības DIREKTĪ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A8CE-63D8-4E8D-AAC9-C769D813D3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25160" y="304920"/>
            <a:ext cx="6814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utch TL"/>
              </a:rPr>
              <a:t>EIROPAS SAVIENĪBAS likumdoš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3640" y="1127160"/>
            <a:ext cx="778824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Eiropas Savienībasvides likums, kas ietekmē tekstilindustr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spārējais nodrošinājums un  program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iesārņojums un traucē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ūdens aizsardzība un pārvald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mosfēras piesārņošanas monito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rokšņa piesārņojuma aizsardzī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ķimikālijas, industriālais risks un biotehnoloģi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elpa, vide un dabas resur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ārvaldība un telpas lietošanas efektivitāte, vide un dabas resursi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tkritumu pārvaldība and tīrāka 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atērētāja lik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sbeidzot likumi par darba drošību un arodslimīb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248-D52A-4FA5-BBC6-7DD49A0D95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77840" y="533520"/>
            <a:ext cx="1181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GA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4200" y="1203480"/>
            <a:ext cx="8326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Organisko šķīdinātāju lietošana rūpniecībā: GOS emis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GOS emisiju maksimumus regulē ES lik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edarbīb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mak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bīstami cilvēka veselī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ozona veidošan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siltumnīcu gāzu rašan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daži krāsošanas proc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ES produk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pšuvums (PVC, 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rotācijas drukāšanas mašīnu un ekrānu tīrī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ādas  un  zvērādu ražo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7560"/>
            <a:ext cx="661644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376B-70D9-4180-BEE9-91D6EA9A76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0160" y="623880"/>
            <a:ext cx="136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utch TL"/>
              </a:rPr>
              <a:t>Ū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9960" y="1279440"/>
            <a:ext cx="79405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ndustrijas, kas lieto vai ražo krāsvielas un noslēguma ķimikāli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itrais tekstilprocess, vispārī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Visbiežšk kompānijas ir saistītas ar municipālo notekūdeņu sistē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080" y="3306600"/>
            <a:ext cx="86263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Proces                 Viela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Ietekme (iedarbī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tīrīšana               eļļas, smērviela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iesārņ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alināšana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  veselībai bīstami (vēža rašanās risk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dzetramajā ūdenī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gsta prasība pēc skābekļa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(laulības dzīves risk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krāsvielas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magie metāl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bīstami cilvēkam un faun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azgāšana          pesticīdu atliekas              bīstami cilvēkam un faunai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             toksiskās vie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(DD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760" y="3206880"/>
            <a:ext cx="8826480" cy="319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3200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200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4E07-0397-4AD5-AC69-D6AEADE1AD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880" y="289080"/>
            <a:ext cx="151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0520" y="838080"/>
            <a:ext cx="51534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Regulē emisijas dabiskajos ūdeņ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tīrīšana uzņēmumā ir prasī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 šādām vielām jāattī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rganiskās vi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inerālmēs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etās daļiņ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magie metāli (sarakstā iekļa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ļlas, smērvielas (sarakstā iekļa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esticīdu atliekas (sarakstā iekļa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9880" y="4267080"/>
            <a:ext cx="4452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epieciešamās atļauj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ākslīgo šķiedru raž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linu vai kaņepju miec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udumu bvalināšana un krāso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ilnas ķīmiskā tīrī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ādu miecēš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197240"/>
            <a:ext cx="6007320" cy="19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55E8-1FAC-43B1-8BE7-E6947DC06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03560" y="212760"/>
            <a:ext cx="144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...ŪD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760" y="822240"/>
            <a:ext cx="8245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Dutch TL"/>
              </a:rPr>
              <a:t>Regulē emisijas municipālajos notekūdeņ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 attīrīšana ir nepieciešama daudziem  (mitrās) ražošanas procesiem saskaņā ar jauno IPPC  direktī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Nošādām vielām jāattī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eļļas, smērviel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rganiskās vi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inerālmēs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etie atkrit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magie metāli (sarakstā iekļa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o tādiem ķīmiskajiem savienojumiem kā DDT, PCP (sarakstā iekļau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Attīrīšanai jābūt tādai, lai izplū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ebūtu bīstamas notekūdeņu attīrīšanas uzņēmuma personā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ebojātu cau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varētu tikt attīrītas municipālajās sistēmā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neradītu bīstamas vielas dūņā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855-8C6C-4FF6-A90F-C4809B3E1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64680" y="212760"/>
            <a:ext cx="201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ŪDEN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800" y="990720"/>
            <a:ext cx="794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Šādām vielām nav jābūt novadītām dabiskajos ūdeņ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chlorcylohex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achlorbenzed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2-dichloreth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D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achlorbutadie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chloety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chlorbenzed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hloetyl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ld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trichlo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achlorphen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dr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o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98440" y="4343400"/>
            <a:ext cx="6366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ES likumdošana attiecināma ūdens kvalitā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atēriņa regulēš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PPC - directīvas mērķis kopīgai praks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BC4-188B-43FE-AF75-A679128C4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69960" y="380880"/>
            <a:ext cx="7940520" cy="61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ĒTĀ   PPIESĀRŅOJUMA   NOVĒRŠANA UN   K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IPPC Direktīvai (EC/61/96) jābūt ieviestai visās dalībvalstīs. Tās ieviešana viscaur Eiropā - lai uzlabotu vides aizsardzības standart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ērķis ir  </a:t>
            </a:r>
            <a:r>
              <a:rPr b="0" i="1" lang="en-US" sz="2400" spc="-1" strike="noStrike">
                <a:solidFill>
                  <a:srgbClr val="000000"/>
                </a:solidFill>
                <a:latin typeface="Dutch TL"/>
              </a:rPr>
              <a:t>panākt izsargāšanos nopiesārņojuma un nodrošināt tā kontroli,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 kas  noteikts Annex III norādītajām darbīb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plānot pasākumus, lai </a:t>
            </a:r>
            <a:r>
              <a:rPr b="0" i="1" lang="en-US" sz="2400" spc="-1" strike="noStrike">
                <a:solidFill>
                  <a:srgbClr val="000000"/>
                </a:solidFill>
                <a:latin typeface="Dutch TL"/>
              </a:rPr>
              <a:t>pasargātu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vai,  kur tas nav praktiski iespējams,  </a:t>
            </a:r>
            <a:r>
              <a:rPr b="0" i="1" lang="en-US" sz="2400" spc="-1" strike="noStrike">
                <a:solidFill>
                  <a:srgbClr val="000000"/>
                </a:solidFill>
                <a:latin typeface="Dutch TL"/>
              </a:rPr>
              <a:t>samazinātu emisijas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 gaisā, zemē un ūdenī  no šīm darbībām arī, ietverot pasākumus, sakarā ar atkritumi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utch TL"/>
              </a:rPr>
              <a:t>mērķis ir - sasniegt augstu vides aizsardzības līmeni kopumā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E6C6-2827-4327-9E0A-45B606B483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2057400"/>
            <a:ext cx="860904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utch TL"/>
              </a:rPr>
              <a:t>GA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ēra dioksīds un citi sēra savienoju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Slāpekļa oksīdi un citi slāpekļa savienoju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Oglekļa monoksī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aistošie organiskie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Metāli un to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utekļ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zbests (suspendētā daļiņas, šķied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Hlors un tā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Fluors un tā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rsēns  un tā savienoju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Cianīdi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Polihlorētie dibenzodioksīni and polihlorētie dibenzofur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buClr>
                <a:srgbClr val="000000"/>
              </a:buClr>
              <a:buFont typeface="Dutch T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Apstiprinātas vielas un sagatavošanas darbi, kurām/-iem piemīt kancerogēnas vai  mutagēnas </a:t>
            </a:r>
            <a:r>
              <a:rPr b="0" lang="en-US" sz="1800" spc="-1" strike="noStrike">
                <a:solidFill>
                  <a:srgbClr val="000000"/>
                </a:solidFill>
                <a:latin typeface="Dutch T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īpašības vai īpašības, kuras var ietekmēt “caur” gaisa reproducēš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760" y="228600"/>
            <a:ext cx="885492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ĒTĀ   PPIESĀRŅOJUMA   NOVĒRŠANA UN   KONTR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Pielikums  I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utch TL"/>
              </a:rPr>
              <a:t>GALVENO PIESĀRŅOJOŠO VIELU SARAKSTS, KAS JĀIEVĒRO, JA TĀM IR NOTEIKTAS EMISIJU ROBEŽVĒRTĪ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518-7841-4F79-929F-91E76E91C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ONCAMPER  IRMA</dc:creator>
  <dc:description/>
  <dc:language>en-US</dc:language>
  <cp:lastModifiedBy>CESAMS</cp:lastModifiedBy>
  <cp:lastPrinted>2000-04-19T06:41:16Z</cp:lastPrinted>
  <dcterms:modified xsi:type="dcterms:W3CDTF">2000-05-24T22:38:20Z</dcterms:modified>
  <cp:revision>12</cp:revision>
  <dc:subject/>
  <dc:title>No Slide Title</dc:title>
</cp:coreProperties>
</file>