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F11-298E-4EBB-91C5-F29546E0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266-91A9-42F9-B207-3C68A4D7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B61-E326-4071-983D-1171072F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7E3-1F6E-4E49-A97B-0A49D873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5B8-DA44-40A0-B38A-6DBC8082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374-028A-4513-85A9-73B21FA4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CD4-DD34-4EA7-A16B-566C6F03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B3C-267C-4B8E-93E7-41185457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275-DB09-49C4-B3CF-F3371466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446-F0AC-4A8A-B0D2-3426184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2BD-A0D6-4174-8A7D-A7E696FB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8B5-E1B7-44C4-9BD9-19D7049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EB46-D747-4643-B955-E8FB5AB06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60680" y="928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55760" y="19810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90920" y="60660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3320" y="547560"/>
            <a:ext cx="550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Dzīves cikla novērtējums (DzC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7680" y="1981080"/>
            <a:ext cx="763560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īdzeklis, lai novērtētu vides  “sasniegum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īdzeklis vides pārvaldī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DzCN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pēta vides problēmas un produktu vai  procesu iespējamās ietekmes uz v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DzCN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-  pieeja  “no šūpuļa līdz kapam”, piemēram,  viss process, kas ietver šķiedru ražošana līdz to apglabāšanai poligon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DzCN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standarts ISO 14040 (1997) - ietver principus un darbības šajā sakarīb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CAF-9829-4613-8851-42D20C8122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42880" y="289080"/>
            <a:ext cx="370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DzCN MĒRĶIS un SFĒ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680" y="898560"/>
            <a:ext cx="80168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efinēt mērķi - kāpēc ņovērtējums jāve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robežojumu aprakstsDescription of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novērtējuma “plašum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 kuras ietekmes nepieciešams iekļ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kādi procesi varētu tikt novērtē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9000" y="3032280"/>
            <a:ext cx="45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INVENTARIZĀCIJAS  ANALĪ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9960" y="3657600"/>
            <a:ext cx="809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misiju, enerģijas patēriņa, izdevumu - ieņēmumu datu vāk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3800" y="4784760"/>
            <a:ext cx="506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IETEKMES NOVĒRTĒ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ozīmīgāko ietekmju novērtē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4EB-CAC8-45FC-A8FB-1F625320AE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10800" y="685800"/>
            <a:ext cx="353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DzCN IZSKAIDRO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91800" y="1523880"/>
            <a:ext cx="756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nventarizācijas analīzes un ietekmes novērtēj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ombinēšana (apvienoš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ecinājumu sagatav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rba ziņ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24080" y="3413160"/>
            <a:ext cx="328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TIEŠIE PIELIETOJ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098960"/>
            <a:ext cx="529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ažošanas vai produkcijas attīst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tratēģiskie pārvaldības līdzekļ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ārketinga fak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21F-B0BE-41D3-B9B0-FD7D148277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79440" y="1081080"/>
            <a:ext cx="551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2240" y="2270160"/>
            <a:ext cx="717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6840" y="60660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6480" y="395280"/>
            <a:ext cx="396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DzCN piemē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Riikkamaria Paakkunainen, 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5560" y="1523880"/>
            <a:ext cx="618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Divu kreklu Dzīves cikla enerģijas patēriņ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0280" y="2193840"/>
            <a:ext cx="792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eaust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dī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šķiedru ražoš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 11,4 M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 6,9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     2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ērpš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,8 M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šana, adīša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rāsošana un nobeigū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,4 M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7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Šūš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5 M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5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Kopējā ražoša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,1 M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,1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4560" y="2514600"/>
            <a:ext cx="7378560" cy="356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4290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0384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87692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4864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25146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5146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E48-5358-488D-9015-0C80803FDB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22440" y="212760"/>
            <a:ext cx="435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zCN  STAND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898560"/>
            <a:ext cx="8686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SO 14040 Vides pārvaldība - Dzīves cikla novērtējums -principi un darbība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Publicēts ISO (June 1997), un pieņemts kā CEN standarts  Eiropā un formāli arī adoptēts  ASV  kā  Amerikas Nacionālais Standar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SO 14041 Vides pārvaldība - Dzīves cikla novērtējums - Mērķi un  pamatdefinīcijas un inventarizācijas analīze 1998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SO 14042 Vides pārvaldība - Dzīves cikla novērtējums - Dzīves cikla ietekmes novērtējums 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Šis dokuments ir paredzēts, lai nodrošinātu vadlīnijas par DzCN ietekmes novērtējumu  (tā mērķis ir novērtēt nozīmīgākās ietekmes uz vidi, kas izriet no dzīves cikla invetarizācijas analīzes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SO 14043</a:t>
            </a:r>
            <a:r>
              <a:rPr b="1" lang="en-US" sz="1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Vides pārvaldība - Dzīves cikla novērtējums - Dzīves cikla izskaidrošana , 2000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Šis dokuments ir paredzēts, lai nodrošinātu DzCN izskaidrošan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A8C-37AF-456C-A152-6B636C1B6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11600" y="808200"/>
            <a:ext cx="7303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Vispārīgās DzCN  pielietošanas sfē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73160" y="2117880"/>
            <a:ext cx="530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de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ko-uzlīmju kritēriju defin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epieciešamo pētījumu noteik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žādu iespēju salīdz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tekmju uz vidi minimiz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īdzeklis stratēģiskai plāno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lānotāju “treniņ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nformācijas mērķ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DB1-0CD9-4468-89CA-3BE153322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9120" y="579600"/>
            <a:ext cx="79300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DzCN kā eko-uzlīmju kritēriju definē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S ekomarķēšanas shēmas pamatā ir DzC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(“no šūpuļa līdz kap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(ISO 14020-sēriju pamatā ir arī standar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560" y="3429000"/>
            <a:ext cx="75639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S  shē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elektivitāte - mazākā ietekme iespē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caurspīdība - plaša piedalīšan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ulti-kritēriju pieeja- produkta totālais dzīves cik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iropas dimens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abprātība - pielietošanas l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EC0-41EA-4A2B-A8A2-44EEAAEF74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74840" y="2514600"/>
            <a:ext cx="127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Šķiedr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až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49280" y="579600"/>
            <a:ext cx="466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AUDUMU DZĪVES CIK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97240" y="2087640"/>
            <a:ext cx="26384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dumu   raž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ērp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šana, adīšan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rāsošana, apdru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beiguma po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7480" y="2392200"/>
            <a:ext cx="1542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atērētā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azgā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9800" y="2514600"/>
            <a:ext cx="1721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tkritu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olig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edzinā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32600" y="4572000"/>
            <a:ext cx="290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tkārtota izmant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Otrreizēja liet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40" y="2292480"/>
            <a:ext cx="16639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8440" y="1835280"/>
            <a:ext cx="2654280" cy="242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6560" y="2292480"/>
            <a:ext cx="166356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2368440"/>
            <a:ext cx="1447560" cy="121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4495680"/>
            <a:ext cx="273672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895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2971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358128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029200" y="411480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321-1FCD-42D9-84E9-D07B96FBF4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269640" y="914400"/>
            <a:ext cx="96278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Kas tiek ietverts DzC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enerģijas 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ražo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ķimikāliju 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noplūdes (gaiss, ūdens, augsne) un ražošanas procesu atkrit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transport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arī ražošanas procesa nobeig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arī lietoto materiāl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DzCI (dzīves Cikla Inventarizācij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Ienākumu - izdevumu analī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Riska novērtējums (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7C7-3A18-4A9F-9638-A685D56032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3560" y="579600"/>
            <a:ext cx="6451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Dzīves cikla inventarizācija (DzC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828800"/>
            <a:ext cx="733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cesa un tā ietekmes faktu vāk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klātie fak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ērtējamā procesa posmi  nav pilnīgi pārvaldī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roša informācija lēmuma pieņemšanas proces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ažotāju informētības paaugstināšana (un arī patērētāju)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ekstilprocesa ietekmes pietiekoša informācija nav piee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0CD-31F0-496F-B02C-2925F8E515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5440" y="471600"/>
            <a:ext cx="616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Ekoloģiskā Riska Novērtējums (ER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27160" y="1889280"/>
            <a:ext cx="7407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RN  praktiski nozīmē noteikt mūsu darbību ietekmi uz dzīvniekiem, augiem un vidi  būtību un iespējamību (varbūtīb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RN ietver cilvēka radītās izmaiņ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koloģiskais risks var tikt novērtēts gan lokāli, gan globāli (krāsvielas  vietējā upē  vai gaisa piesārņojuma ietekme uz ozona slā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90560" y="6019920"/>
            <a:ext cx="521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ETAC, 1997. Ecological Risk assessment Technical issu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281-3D66-48F3-8432-F97DE48A67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34560" y="609480"/>
            <a:ext cx="284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zCN  STRUK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7960" y="1508040"/>
            <a:ext cx="269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ĒRĶIS un SFĒ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1360" y="2666880"/>
            <a:ext cx="141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NALĪ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62080" y="3946680"/>
            <a:ext cx="1430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TEK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5080" y="2651040"/>
            <a:ext cx="255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ZSKAIDR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38120" y="2666880"/>
            <a:ext cx="227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IE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040" y="1301760"/>
            <a:ext cx="288288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1040" y="2597040"/>
            <a:ext cx="2882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7360" y="3816360"/>
            <a:ext cx="280656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35480" y="2597040"/>
            <a:ext cx="27302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311040"/>
            <a:ext cx="6083280" cy="463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9560" y="2292480"/>
            <a:ext cx="2502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2057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752480"/>
            <a:ext cx="2286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00400" y="2742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00400" y="2819160"/>
            <a:ext cx="2286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2895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44E-AE51-4192-8B00-31DAF6F7D8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ONCAMPER  IRMA</dc:creator>
  <dc:description/>
  <dc:language>en-US</dc:language>
  <cp:lastModifiedBy>CESAMS</cp:lastModifiedBy>
  <cp:lastPrinted>2000-04-19T13:08:37Z</cp:lastPrinted>
  <dcterms:modified xsi:type="dcterms:W3CDTF">2000-05-24T22:38:50Z</dcterms:modified>
  <cp:revision>12</cp:revision>
  <dc:subject/>
  <dc:title>No Slide Title</dc:title>
</cp:coreProperties>
</file>