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6116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402-F5A2-4696-8B1D-854BE51B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C76D-0025-4EB8-94E2-CD4FF7E5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5AB-AA09-4CFB-A511-7838F915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11BA-2A51-43D0-B744-F3264BD6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821-9C26-422F-A175-55B7475F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491A-9543-4738-92AA-252FFBA2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1627-0B07-46A2-8178-AD2D836C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871-A501-4EBB-9CC5-F776F091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45F-65AB-4EE5-BAAF-6DC28B9C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E81-FC06-4271-AC2B-A967D7DD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71A-EEF4-45EE-8B7F-B7A7DE12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B3A-02A2-4CC5-9E2A-6F3559B5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9315-36F6-45DB-8E9D-EDC7F184F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3640" y="243000"/>
            <a:ext cx="7864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o-tex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tekstilprodukcijas vides pārvaldības  sistē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117880"/>
            <a:ext cx="85341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Tekstilindustrijas vienīgā standartiz;etā vides pārvaldības  sistē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Vēl notiek testē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Starptautiskā Standarta 1000 Eko-Tex mērķis 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1) tekstilražošanas vietu un produkcijas vides stāvokļa novērtējums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2) pastāvīgi pierādīt, ka droši (nopietni) pasākumi ir uzsākti un drošs līmenis ir sasnieg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5B3D-AEF3-4D9E-B548-C9E4B15098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5440" y="106200"/>
            <a:ext cx="4952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 Öko-tex 1000/ 6.3. Water/Waste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680" y="822240"/>
            <a:ext cx="72363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values are give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-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effluent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ur/ spectral absorbson coefficient at 436, 525 and 620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mium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mium 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b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organic carbon TOC or chemical oxygen demand C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able organic halogens AOX (as C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156-89CE-4187-912C-65A4239449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6920" y="182520"/>
            <a:ext cx="2052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 Öko-tex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90640" y="1309680"/>
            <a:ext cx="745308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4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haust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mon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.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.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phur dioxide 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.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 dioxide (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.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rbage bu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 measuring or required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ve actions to be initiated if faulty conditions occ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D16-49F9-4386-9894-EE661A1E8F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8320" y="182520"/>
            <a:ext cx="2052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 Öko-tex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360" y="776160"/>
            <a:ext cx="816912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5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85 dB requires effective ear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ing of such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use of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recovery systems (waste heat, multi-sectional cooling circles, heat pumps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the regulation development, measuring con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ing of dangerous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ous work according to legi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atmo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: compliance with ILO-Convention No. 1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D42-1079-466F-AA2C-AED3FBE089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4640" y="182520"/>
            <a:ext cx="2052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 Öko-tex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040" y="671400"/>
            <a:ext cx="801684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plem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goals and company environmental poli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environmental examination to gain knowledge of present environment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tion of measures necess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training might have to be prov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 of all laws and reg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 for examining and assessment of the influences of all activities and products 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16F-300A-4C81-91D8-DD2A3F4C41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1080" y="258840"/>
            <a:ext cx="4356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of Öko-tex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040" y="974880"/>
            <a:ext cx="86266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procedures and used materials, chemicals and auxiliaries have to be "mapped", evaluated and monit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targets set, implemented, tested and audi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measures with schedules and responsibilities have to be worked out to improve the environmental performance and help to reach the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nual for managing the system has to be cre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udit has to be performed according to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fulfilling the requirements of the Öko-tex 1000, Part A and correspondingly certified, the production site can be marked with the Öko-tex 1000 lab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23C-83F5-4CFF-BAF0-044B67621F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2520" y="90360"/>
            <a:ext cx="262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o-tex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040" y="1050840"/>
            <a:ext cx="80931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Iet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ārvaldības pasāku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kopīgu vides minimālo standartu sīkas tehniskās prasībaš šādā form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izlieg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vides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lielumu nepārtraukta k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Dod produkcijas minimālo  bā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Var arī tikt lietots kā vadlīnijas, lai atrastu vides aizsardzības prior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042-F7E7-4AA4-A994-C9103DCED5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8840" y="243000"/>
            <a:ext cx="262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o-tex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080" y="1660680"/>
            <a:ext cx="8397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criteria and limiting values for testing and auditing of textile, clo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ncillary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the human-ecological testing in conformity with the Öko-tex 100 Standard by inspection of the ecology of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to all links of the production chain and allows evaluation of the formation of th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the level of protection for the 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labelling of the fi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118-D991-4EC1-981B-803DA332B5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14080" y="166680"/>
            <a:ext cx="266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ko-tex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7680" y="1050840"/>
            <a:ext cx="80928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 part of the standard consist of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"14  Dangerous Substances", which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ly flamm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y flamm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mm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tox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x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os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it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ly harmfu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cinoge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atoge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genic or genotox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nic hazard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bili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BEC2-9D0C-438F-BAAE-DC6F82129D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5480" y="166680"/>
            <a:ext cx="266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ko-tex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640" y="749160"/>
            <a:ext cx="73630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6 gives detailed technical guidelines in following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-ecologic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s and Technologies i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with lists of prohibited chemica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/Waste Water, containing a lis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for effluents to water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table for effluent to a publ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wag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aust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3C21-6529-4C45-8BBA-F58345F633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0600" y="334800"/>
            <a:ext cx="2052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 Öko-tex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360" y="838080"/>
            <a:ext cx="84740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-ecologic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ealth risk for producing 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ealth risk to 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s and Technologies in the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hibiting hazardous chemicals and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.1. Prohibited Chem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.2. Prohibited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.3. Other (phosphor-based flame retarda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.4. Declaration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.5. Aims (recycling and avoidance targ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9F2-2DCD-41EF-9FE7-0730DA18D4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8320" y="182520"/>
            <a:ext cx="2052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 Öko-tex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080" y="609480"/>
            <a:ext cx="8496000" cy="62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.1. Prohibited Chemic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es and Pi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 III 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cinogenic dyestuffs and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bilizing dyestuffs and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estuffs and pigments with an acute toxicity L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100 mg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estuffs and pigments containing heavy metals lead or cadm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sti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me Retard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bestos, chloroform, sodiumcyanide, potassiumcyanid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diumsulfide, fluorochlorohydrocarbons, ar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carbons as sol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3EB-9EC7-49DF-ABCB-76810A6252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240" y="334800"/>
            <a:ext cx="2052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 Öko-tex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360" y="1432080"/>
            <a:ext cx="809316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.2. Prohibited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ystem based on heavy benz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hromate as oxidising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placement of potassiumdichromate is not possible -&gt; sufficient waste water treatment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inated organic solvents and fluorochlorinated organic solvents in ope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F2CC-3540-43FA-B799-16C01CD729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0600" y="182520"/>
            <a:ext cx="2052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 Öko-tex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7680" y="1309680"/>
            <a:ext cx="75596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3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/Waste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.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table for Effluents to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.2.  Classification table for Effluent to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wage treatment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ve action on faulty conditions has to be initia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413-71D3-4AC5-A5D9-58F7EB3537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BONCAMPER  IRMA</dc:creator>
  <dc:description/>
  <dc:language>en-US</dc:language>
  <cp:lastModifiedBy>CESAMS</cp:lastModifiedBy>
  <cp:lastPrinted>2000-04-23T10:11:15Z</cp:lastPrinted>
  <dcterms:modified xsi:type="dcterms:W3CDTF">2000-05-25T09:44:50Z</dcterms:modified>
  <cp:revision>6</cp:revision>
  <dc:subject/>
  <dc:title>No Slide Title</dc:title>
</cp:coreProperties>
</file>