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74E7-841A-4CE1-B533-E2D442E55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B2AD-81D5-4DAE-9E39-4C19D1C8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B5A4-6756-4AD5-8D06-6DCA12D11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9095-368D-4F83-8A0C-BF150F09B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DF33-9255-4504-83BE-045613FF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3FE5-D8B8-42C5-AA58-4662CE65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1419-6606-4667-AAA2-A4F7780D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CB2B-4CD7-4C0F-A330-9C59CF5A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5E3A-9A68-4FED-B6F0-FE5811C4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AA82-5751-4E5D-A18A-897138B8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03FF-A94F-4CF2-B909-0BBE2E17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9DD9-40E5-43AE-885A-919BFBFC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527A8A6-82D1-41A0-9653-D1DFC0B5C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indström 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DES PROGRAM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5BEE-7360-4CF1-85CC-1AA91A6B9E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18760" y="351000"/>
            <a:ext cx="6538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utch TL"/>
              </a:rPr>
              <a:t>Ilgtspējīga attīstība Lindström 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utch TL"/>
              </a:rPr>
              <a:t>Veļas mazgātava un tekstilbiz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9120" y="2193840"/>
            <a:ext cx="793908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utch TL"/>
              </a:rPr>
              <a:t>Vide ir plānošanas un lēmumu pieņemšanas daļ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utch TL"/>
              </a:rPr>
              <a:t>Ilgtspējīgas attīstibas vides likumdošanas un prasību izpildī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utch TL"/>
              </a:rPr>
              <a:t>Informēšana par visu darbību izraisītajām ietekmē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utch TL"/>
              </a:rPr>
              <a:t>Katru gadu vides programma tiek veidota katrā struktūrvienīb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utch TL"/>
              </a:rPr>
              <a:t>Vides indeks, lai noteiktu ietekmes uz vidi stāvok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utch TL"/>
              </a:rPr>
              <a:t>Personāla apmācī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utch TL"/>
              </a:rPr>
              <a:t>Piegādātāju informēšana un videi draudzīgu darbību pieprasīšana no t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52BD-E6CF-481A-950B-6808931D47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74880" y="457200"/>
            <a:ext cx="7102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utch TL"/>
              </a:rPr>
              <a:t>VIDES MĒRĶ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Lindström O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0 -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89280" y="1981080"/>
            <a:ext cx="5959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utch TL"/>
              </a:rPr>
              <a:t>Ilgstošs 1999.g.  enerģijas līme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utch TL"/>
              </a:rPr>
              <a:t>Ūdens patēriņa samazināšana par 14 % salīdzinājumā ar  1999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utch TL"/>
              </a:rPr>
              <a:t>Plastmasu iesaiņojamā materiālu samazināšana par 30 % salīdzinājumā ar  1999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utch TL"/>
              </a:rPr>
              <a:t>Notekūdeņu attīrīšanas iekārtu uzstādīšana, kas dod iespēju atkārtoti izlietot  80 % no  procesa ūd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utch TL"/>
              </a:rPr>
              <a:t>Sertifikāts ISO 14001 10 somu uzņēmum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7FD0-BA75-469F-96D6-18C6DBF708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79360" y="228600"/>
            <a:ext cx="2679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ndström O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utch TL"/>
              </a:rPr>
              <a:t>Vides mērķi  2000-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6920" y="5546880"/>
            <a:ext cx="5156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utch TL"/>
              </a:rPr>
              <a:t>Procesa enerģijas patēriņš kWh/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1219320"/>
            <a:ext cx="534996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utch TL"/>
              </a:rPr>
              <a:t>Procesa enerģijas izlietošana ir samazinātapar 25 % pēdējo  10 gadu laik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utch TL"/>
              </a:rPr>
              <a:t>Enerģijas patēriņšconsumption sastāv no siltuma, gaismas un procesa enerģi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utch TL"/>
              </a:rPr>
              <a:t>Kopējais patēriņs tiks uzturēts 1999. gada līmen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D32A-FDE5-4C91-BB96-E728E3FCE7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87560" y="281160"/>
            <a:ext cx="2679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ndström O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utch TL"/>
              </a:rPr>
              <a:t>Vides mērķi  2000-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16920" y="5851440"/>
            <a:ext cx="5855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utch TL"/>
              </a:rPr>
              <a:t>Ūdens patēriņš l/mazgātais audums,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52680" y="609480"/>
            <a:ext cx="5791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utch TL"/>
              </a:rPr>
              <a:t>Ūdens patēriņš ir atkarīgs 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utch TL"/>
              </a:rPr>
              <a:t>atkārtotas ūdens lietošanas proces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utch TL"/>
              </a:rPr>
              <a:t>mašīnu (iekārtu) regulēš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utch TL"/>
              </a:rPr>
              <a:t>lietotām metodē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utch TL"/>
              </a:rPr>
              <a:t>mašīnu darbīb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utch TL"/>
              </a:rPr>
              <a:t>Atkārtota ūdens lietošana tiks palielinā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utch TL"/>
              </a:rPr>
              <a:t>Jauna notekūdeņu attīrīšana tiks pieliet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utch TL"/>
              </a:rPr>
              <a:t>Notekūdeņu regulāra kvalitātes pārbaude monitoringa ietva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D141-43AE-43E4-9EA7-C630BFD2AE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1240" y="281160"/>
            <a:ext cx="2679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ndström O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utch TL"/>
              </a:rPr>
              <a:t>Vides mērķi  2000-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2560" y="5622840"/>
            <a:ext cx="481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utch TL"/>
              </a:rPr>
              <a:t>Iepakošanas plastmasu patēriņ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1096920"/>
            <a:ext cx="556236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utch TL"/>
              </a:rPr>
              <a:t>Plastmasu kā iepakošanas materiālu lietošana uz mazgāto audumu kg “iet lejup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utch TL"/>
              </a:rPr>
              <a:t>1999.g. plastmasas iesaiņošanai tika lieto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utch TL"/>
              </a:rPr>
              <a:t>rūpnieciskajiem dvieļ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utch TL"/>
              </a:rPr>
              <a:t>uzkopšanas audum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utch TL"/>
              </a:rPr>
              <a:t>darba drēbju ekstra nodošan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utch TL"/>
              </a:rPr>
              <a:t>pasūtītāja audum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25B8-DEB1-4285-B443-23B1C9E7A1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87560" y="204840"/>
            <a:ext cx="2679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ndström O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utch TL"/>
              </a:rPr>
              <a:t>Vides mērķi  2000-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4560" y="5699160"/>
            <a:ext cx="641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utch TL"/>
              </a:rPr>
              <a:t>Transportēšana/ km/ mazgātais audums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685800"/>
            <a:ext cx="489276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utch TL"/>
              </a:rPr>
              <a:t>Preču nogādāšanas ceļi km ir “monitorēti” kopš 1996.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utch TL"/>
              </a:rPr>
              <a:t>1999.g.  Jauni maršruti bija nepieciešam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utch TL"/>
              </a:rPr>
              <a:t>Maršrutu plānošanā tika lietota optimizēta program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utch TL"/>
              </a:rPr>
              <a:t>Slodze arī ir optimizēta - nav tukšu automobīļu ceļ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7326-BC9B-4010-9E9E-EBBB7F19A1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63520" y="204840"/>
            <a:ext cx="2679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ndström O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utch TL"/>
              </a:rPr>
              <a:t>Vides mērķi  2000-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7400" y="5927760"/>
            <a:ext cx="501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utch TL"/>
              </a:rPr>
              <a:t>Deterģentu patēriņš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g/ audums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838080"/>
            <a:ext cx="80010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Dutch TL"/>
              </a:rPr>
              <a:t>Efektīvāka deterģentu lieto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Dutch TL"/>
              </a:rPr>
              <a:t>Vajadzība pēc deterģentiem ir atkarīga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Dutch TL"/>
              </a:rPr>
              <a:t>audumu netīrīb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Dutch TL"/>
              </a:rPr>
              <a:t>no lietotā deterģentu ti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Dutch TL"/>
              </a:rPr>
              <a:t>ūdens kvalitā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Dutch TL"/>
              </a:rPr>
              <a:t>Videi draudzīgu ķīmisko savienojumu lieto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Dutch TL"/>
              </a:rPr>
              <a:t>bioloģiski sadalošie savienoj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Dutch TL"/>
              </a:rPr>
              <a:t>balināšana ar ūdeņraža peroksī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Dutch TL"/>
              </a:rPr>
              <a:t>nav savienojumu, kas dotu smak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Dutch TL"/>
              </a:rPr>
              <a:t>Mērķis uz teorētiskām patēriņa vērtībā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900B-DB9D-4D27-B989-16023098A1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1T08:46:02Z</dcterms:created>
  <dc:creator>BONCAMPER  IRMA</dc:creator>
  <dc:description/>
  <dc:language>en-US</dc:language>
  <cp:lastModifiedBy>CESAMS</cp:lastModifiedBy>
  <dcterms:modified xsi:type="dcterms:W3CDTF">2000-05-25T09:45:14Z</dcterms:modified>
  <cp:revision>5</cp:revision>
  <dc:subject/>
  <dc:title>Lindström Oy</dc:title>
</cp:coreProperties>
</file>