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CAF-E425-4321-B11F-C6BF2DDB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989-2DA7-4EDD-846B-8074F5D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20A-9AAD-446D-AC03-688D9AA9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17D-B115-4E36-82E0-76DBD706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98D-D692-425B-85C0-1516172E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266-1B13-4467-8F9C-01A19A09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4B1-45C5-47BA-BD4E-9D73FF73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28F-3416-4907-BD52-93FFA00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649-2CDA-4C9E-9F1C-0A352F7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DAA-6C17-47E2-8B4E-698D3A2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C66-65E8-44C2-93A1-AD338CF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874-0B4E-4EC9-A136-9072D8A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EFDB-0509-4809-BEC5-8D172BB90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mer Woll-Kämmerei 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EK Eko-Audit Sistē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EC-96CD-432F-8B10-3E342573A4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MER WOLL-KÄMME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LNAS DZIJAS TĪRĪŠANAS UN KĀRŠANAS UZŅĒM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965240"/>
            <a:ext cx="73152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pārvaldības sistēma (1996) saskaņā ar ES Eko-audit Noteik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des ziņojums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visu ietekmju uz vidi dokument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vides mērķu katalogs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pasākumi, ar kuriem mērķi tiks sasnie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11B-15B6-44C1-9B22-8BD8905FF9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822240"/>
            <a:ext cx="81691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Noplūžu attīrīšana (ūdens un augs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organiskie piesārņotāji samazināti vairāk kā 9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pesticīdu atliekas pilnīgi sadalī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ar otrreizējo izmantošanu aku ūdens patēriņš samazināts par 65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atkritumu otrreizēja izmantošana (75 %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atkritumu poligonu izmantošana no 40000 līdz 5000 tonn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tikai  20 % enerģijas ir zaudētas, procesa siltums var tikt izmantots kā enerģ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Nākošie mērķ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uztur;et gaisu tīru no piesārņotā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mazināt trokšņu līm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- smaku novēr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6080" y="128520"/>
            <a:ext cx="34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MER WOLL-KÄMM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624-2817-4881-9ABC-6D3B3A2DB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dcterms:modified xsi:type="dcterms:W3CDTF">2000-05-25T09:45:40Z</dcterms:modified>
  <cp:revision>4</cp:revision>
  <dc:subject/>
  <dc:title>Bremer Woll-Kämmerei AG</dc:title>
</cp:coreProperties>
</file>