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35B3-A2C8-4FE3-807E-01386298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C49A-6363-41FE-B462-B1AD15D7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7246-B9BF-4061-BED6-CC17DAEA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E0D4-E0CA-495D-B1FE-F45E5D7A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754B-EC4E-46DF-ACE6-B4DD4AE8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91D1-50F7-46CD-8604-2798E055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7E1A-88FE-493B-BB91-2B51D874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982D-FBD9-4D9B-92FD-732FD8F0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9CED-4AD5-4157-B6B8-394CE326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0339-6A3C-4F6A-A061-6C83EE75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23F7-B098-4BE8-A891-FC1E122C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5D06-19F0-4FFD-B706-03E2DB89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F195-A5AF-4D5B-A688-3C3CA47DC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mut Diesing Textil-Druck Gmb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Audumu apdrukas rūpnī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Noplūžu attīrīšanas uzņēm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7E44-B8D2-4DA9-9E32-5C8AC5C4B2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06600" y="318960"/>
            <a:ext cx="572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mut Diesing Textil-Druck Gmb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79440" y="1965240"/>
            <a:ext cx="6950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Jauns ūdens attīrīšanas uzņēmums 19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Ikdienas noplūdes 250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Dutch T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Notekūdeņi no apdrukas mašīnu mazgāšanas, no dažādiem krāsošanas posmiem - krāsu sagatavošanas vietas, krāsu traipu vietā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Cietie atkritumi 4 g/l no apdrukas atlikum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Mērķ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50 % noplūžu ūdens otrreizēja izmant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ūdens apmierinoša attīrīšana līdz vietējām prasībā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9480" y="4419720"/>
            <a:ext cx="662292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A273-CB8F-4B83-8674-E937C50892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68160" y="318960"/>
            <a:ext cx="572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mut Diesing Textil-Druck Gmb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6840" y="898560"/>
            <a:ext cx="83962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Nogulsnēšanas/flokulācijas met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Visu krāsvielu atlikumu aizvāk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Ūdens patēriņu 1. gadā  samazināt par 30 % un 2. gadā sasniegt  5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4038480"/>
            <a:ext cx="60973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Krāsu atlikumus izgulsnēt nogulšņu veid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Tās atūdeņ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Izliet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1DA3-4B46-43B4-84BD-A4D1840D24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iesser Sachsen 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Adīšanas aušanas kompān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(krāsošana un nobeigu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AF7F-AB81-40B6-86A4-513DAE87CD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63440" y="471600"/>
            <a:ext cx="384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iesser Sachsen 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3640" y="1279440"/>
            <a:ext cx="79408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2500 - 3000 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Dutch T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noplūžu ūd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Augsts ĶSP- (ķīmiskais skābekļa patēriņs) un AHS-vērtība (Absorbētie halogenorganiskie savienoju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Stingrs krāsoj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Suspendētās sā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Mērķ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rocesa ūdens otrreizēja izmantoša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sāļu atkārtota izlietošana un to patēriņa samazinā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sakārtot noplūžu ūdeņus noteikto limitu robežā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7360" y="3740040"/>
            <a:ext cx="8445600" cy="212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7532-60B5-4111-8FA9-41E327F216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22080" y="166680"/>
            <a:ext cx="38440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iesser Sachsen 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040" y="671400"/>
            <a:ext cx="839808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Siltummaiņas iekārta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siltumapmaiņa ar saldūde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Neitralizācija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 ar sālskā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Divlīniju sajaukšana “cilp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Bioloģiskā sadalīšana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aktīvās ogles nesējs  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augsta biomasas koncentrā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intensificē biomasas aktivitā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Attīrīšanas sistēma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bionogulšņu atdalīšana no reaktorā  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nonākošaj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Otrreizējā sajaukšana “cilpa” 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ūdens bioloģiskā priekšattīrī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absorbcijas pakā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materiālu kā krāsvielas attīrīšana, kurus  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ir grūti sadalī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atlikumi,  ĶSP, A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Absorbcija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pievienojot svaigu aktīvo og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330-B2F7-4C49-B363-AF0ADC6F35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68360" y="166680"/>
            <a:ext cx="384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iesser Sachsen 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6440" y="974880"/>
            <a:ext cx="877896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utch TL"/>
              </a:rPr>
              <a:t>Ātra attīrīšanas sistēma        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aktīvās ogles atdalīšana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padeve bioloģiskai attīrīšan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Nogulsnēšana un flokulēšana       paliekošo sīko daļiņu izgulsnēšana no 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              ūdens  ar flokulantu palīdzī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krāsainība un duļķainība 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Filtrs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iespējamo atliku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filtrāts var tikt novadī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Apgrieztā osmoze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sāls atdalī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sālsūdens var tikt uzglabāts un 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izlietots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SĀLS PATĒRIŅŠ ZEM 3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PROCESA ŪDENS ATKĀRTOTA IZLIETOŠANA 6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BE44-855C-42BA-8919-7F20D90BBE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BONCAMPER  IRMA</dc:creator>
  <dc:description/>
  <dc:language>en-US</dc:language>
  <cp:lastModifiedBy>CESAMS</cp:lastModifiedBy>
  <dcterms:modified xsi:type="dcterms:W3CDTF">2000-05-25T09:45:58Z</dcterms:modified>
  <cp:revision>3</cp:revision>
  <dc:subject/>
  <dc:title>Helmut Diesing Textil-Druck GmbH</dc:title>
</cp:coreProperties>
</file>