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63C7D-10B6-4471-8135-3DBC2541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FBA78-CA3D-4879-B425-229E2661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008D9-C903-468B-9C62-AC56C86C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2DFD5-8D91-4EAC-A536-81D7B4A3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2CF6-4F49-4AF4-918F-1B7F7FDE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B348-EB9D-435B-BEE8-6EB0F643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DCF4-3987-4987-8600-9769B62B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1BA9-27DF-487A-8369-69F1FDB8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C1CF-E260-4BE1-9E03-72A378D3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D0D2-CB26-451B-AEAA-C272A6A1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A10E-0514-4120-A305-092B5845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A3CA3-254A-45C2-9370-A307C97C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59D1-E0CB-4C91-92FE-B9FA5528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E869-596C-4FF2-AC6F-94B791A8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C409-A619-4E82-89AE-6DF6A821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16E5-4B2F-433E-9D45-C965992A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EC87-910B-4963-9665-4C8F7058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4F38D-4423-42B4-AA4A-0CA93A96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12678-07B8-49F9-9FF6-ABF35E50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028B9-EC5D-4091-9B17-E5C5746A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CD72D-57D7-4A86-9625-2556AAF6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D2C6-25D2-46DA-8C47-89C23FC6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E0E83-8049-4106-A8C4-CD698981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3ED47-5A2B-4ECC-AFEF-9133B7AB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056F-9A42-40EC-82C6-B72055DA1807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E460-ED16-4CD8-9300-8922B342612E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ija.gleizde@vidm.gov.lv" TargetMode="External"/><Relationship Id="rId2" Type="http://schemas.openxmlformats.org/officeDocument/2006/relationships/hyperlink" Target="mailto:Ilze.kremere@vidm.gov.l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ffffff"/>
                </a:solidFill>
                <a:latin typeface="Arial"/>
              </a:rPr>
              <a:t>Ūdenssaimniecības būvju būvniecības projektu vērtēšanas komisija (ŪBK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Arial"/>
              </a:rPr>
              <a:t>Izveidota ar 19.02.2008. Vides ministra rīkojumu Nr.46 un darbojas saskaņā ar 18.12.2007. MK noteikumiem Nr.912 “Ūdensapgādes, notekūdeņu savākšanas un attīrīšanas būvju būvniecības kārtība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F projekta iesnieguma pielikumā jāpievieno ŪBK akcepts par 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K not.Nr.912 kārtīb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ŪBK izdod atzinumu par sākotnējo projekta ieceri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(912.not. 1.pieliku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Nav iesniegta sākotnējā projekta iecere Kalnciemam, Līvāniem, Viesīt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tzinums par tehniski ekonomisko pamatojumu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1400" spc="-1" strike="noStrike">
                <a:solidFill>
                  <a:srgbClr val="000000"/>
                </a:solidFill>
                <a:latin typeface="Arial"/>
              </a:rPr>
              <a:t>(30 darba dienu laik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Izsniegti 12 akcepti par TEP KF 2.projektu grupas pieteicējiem, no tiem 4 akcepti 2008.gadā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Visiem izsniegtajiem akceptiem jāņem vērā izmaiņu sliekšņi (912.not. 17.1. un 17.2.p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Administratīvās prasības TEP iesniegšan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vadvēstu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Jābūt pievienotam lēmumam (PrIP komponentes un finanšu plā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Jābūt cauršūtam, lapām numurētā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Jāpievieno TEP elektroniskā versija (t.sk. finanšu modelis Exc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P satu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Esošās situācijas izvērtējum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Sociālekonomiskais, tehniskais, vides, institucionālais un finanšu izvērtēju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lgtermiņa investīciju programm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Stratēģisko alternatīvu pamatojums, sistēmu tehniskais, institucionālais, vides un ekonomiskais izvērtējums. Plānoto darbību prioritizāci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rioritārā investīciju programm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lānoto darbību detalizēts tehniskais, izmaksu un vides ieguvumu apraksts. Finanšu plāns un projekta dzīvotspējas aprēķins. Institucionālo pasākumu ieviešanas plāns, iepirkumu stratēģi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P finanšu aktualiz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et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Esošās finanšu situācijas aktualizācij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IP pārskats (ja nepieciešam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rIP aktualizācija, būvindikatoru izmaiņu pamatojum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inanšu plāna izstrā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Laika grafika un iepirkuma plāna aktualizācij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rojekta ieguvumu aktualizāci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P aktualizācijā jāņem vēr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ktivitātes finansēšanas nosacījumos (atbalstāmās, neatbalstāmās darbības, attiecināmās, neattiecināmās, neiekļaujamās izmaksa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Izmaiņas finanšu plān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Izmaiņas maksājumu nosacījumos (MK not.Nr.418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akroekonomisko rādītāju izmaiņas (jauni rādītāji tiks apstiprināti 16.10.2009. ŪBK sēdē. Iesniegtajiem un akceptētajiem projektiem izmaiņas nav jāvei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dministratīvās reformas izmaiņas un ietekme uz projekta iesniedzē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valdes lēmuma, pārvaldes līguma vai līguma par sabiedrisko pakalpojumu sniegšanu kopijas pievienošana pie projekta iesniegu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pkopojums par tipiskajiem neatbilstību piemēriem TEP 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1. Esošajā situācijā nav analizēti visi nepieciešamie dati (infiltrācija, ūdens zudumi, piesārņojuma slodze izteikta cilvēku ekvivalentos (CE), ūdens/notekūdeņu bilance, shematiskie materiāli ir nepilnīgi, dzeramā ūdens testēšanas pārskati gan urbumā gan pie patērētāja un notekūdeņu analīz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2.  Ilgtermiņa investīciju programma neietver pilnu ūdenssaimniecības sistēmu attīstību (īpaši attiecībā uz pieslēgumiem), attiecībā uz norādītajām problēmām esošajā situācij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3. Ilgtermiņa investīciju programmai netiek veikta stratēģisko alternatīvu analīzes, netiek veikta komponenšu prioritizācij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42788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Gada pārskata apkopojums par tipiskajiem neatbilstību piemēriem TEP 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5. TEP netiek skaidri norādītas plānotās būvdarbu un iekārtu vienību cenas, gads pret kurām tās attiecinātas un pieņēmumi izmaksu aprēķināšana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6. TEP nav iekļauti iepirkumu plāni un iepirkumu procedūr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7. TEP nav sniegts pamatojums par principa „piesārņotājs maksā” ievērošanu, kā arī pilnu izmaksu segšanas rādītājiem tarifu aprēķināšan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8. Projekta naudas plūsmas prognozei jābūt pozitīv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9.Jānorāda visi projekta ieguvumi, gan ekonomiskie, gan kvalitatīvie un kvantitatīv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Tipiskākās neattiecināmās izmaksas (darbības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Infrastruktūras ekspluatācijas izdevum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- Mērītāju uzstādīša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Tīklu skaloša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ezerves daļas, laboratorijas trauki, gadījumos, kad šīs izmaksas ir nepieciešamas projekta iesniegumā norādīto projekta mērķu sasniegšan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irsnormatīvu prasību sasniegša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- Ūdens mīkstināša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- Virszemes hidrantu uzstādīša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. Aprīkojuma iegāde, kas attiecas uz tīklu uzturēšanas un izbūves pasākumi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. Elektrolīniju izbūve, kura projekta rezultātā nav finansējuma saņēmēja īpašum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. Notekūdeņu attīrīšanā uzkrāto dūņu pārstrāde un apsaimniekoša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. Sagatavošanas izmaksu, autoruzraudzības, būvuzraudzības sliekšņu pārsniegša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.Projekta vadības un administratīvās izmak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Kontaktperson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ŪBK sekretāre – Maija Gleiz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maija.gleizde@vidm.gov.lv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;                                                   t-670269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ŪBK vadītāja – Ilze Krēm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Ilze.kremere@vidm.gov.lv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t-670269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8:51:06Z</dcterms:created>
  <dc:creator>Laura Bramane</dc:creator>
  <dc:description/>
  <dc:language>en-US</dc:language>
  <cp:lastModifiedBy>LauraB</cp:lastModifiedBy>
  <dcterms:modified xsi:type="dcterms:W3CDTF">2009-10-12T05:58:23Z</dcterms:modified>
  <cp:revision>24</cp:revision>
  <dc:subject/>
  <dc:title>Ūdenssaimniecības būvju būvniecības projektu vērtēšanas komisija (ŪBK)</dc:title>
</cp:coreProperties>
</file>