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4A54-EEBB-4801-9547-EE0C31E06AC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A3AB-1D94-4B05-8A5E-747A685DBE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7D5-FEE0-441F-987A-9FD1EE9D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ABB-997B-4C32-88FC-A095258E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28E-2899-4954-A42B-B8EE9327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615-B3E4-4E81-B483-54030630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3622-2729-42D7-8512-FCAE1967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CC4D-AE5A-4A1A-8F92-D8244221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CF39-A61F-4D85-A2E1-A86C249D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990C-2899-435C-87F4-F040B775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6790-05A6-45F6-B64A-58BCCDCA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F0A4-6E6D-468C-BCEE-15775939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0119-1C8D-4360-89CF-D7232DF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9B5-0DA4-4DAF-B2ED-E80D9412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C12E-E9FE-4CED-A54E-82794612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D564-0283-4070-8AD8-5A770B8C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0C1A-9955-4006-9CD7-376CE430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9DCA-DDE7-4AF5-B4D2-E45A5FCA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3899-E91E-4034-9989-1AD3D5DA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C84C-16C8-4650-ACB1-95D82C21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BA9E-5A39-4217-AA03-C03DF89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A57C-75BA-4D6D-803B-0D87AB16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EDA3-ABD1-46C9-80C9-CE9E848C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6B32-DAF3-413C-9F4B-FB9E4D02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AD2-D7F6-4F99-BD57-C9FB7D75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33BE-F20A-4A60-B0F8-66337A09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BA85-3914-4028-9A8F-B43D4030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A524-4044-4D2D-B411-0F825E89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8BE9-24B9-4172-A683-D7288716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2CA1-2389-4B9F-B666-900FE5DE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77DC-BC1F-4E48-A42E-5BFC888A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2F60-4008-4238-A740-C46391B1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4B6B5-3D7C-4049-9F87-ACBFE8D0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019E-02FE-4559-B8A5-A3DE3AFB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5D73-AB37-431E-B9E3-1A991213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939-0E0A-4A95-8811-5CBD0BF0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E393-78D5-4E86-87F4-E0382667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5945-F534-4A3B-9552-8645AA64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BDB8B-1BF7-460B-B352-5C32AA2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2AF6-79E0-4181-BBE1-B74D42DA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E92F-B376-4AA6-8C5C-2B8A7827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271A-4056-40E8-A0B4-638D4065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BA5A-A93A-4E75-91BD-8E8E7FBF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AAFD-F667-449D-9525-87F34744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F05EE-668E-41CE-9294-B944CF5A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4DD74-9CD2-49FC-8203-C60868CA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E49-6760-496E-852C-21F37B40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712E7-E868-4E7A-A7E9-F2D99564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03F73-ACFE-4448-9844-0BD82927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05682-273E-4928-B7F8-720305CE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B4D0B-BECE-44B8-AAF4-71FD77FF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A629-94BF-4B90-8E5B-F40F34DA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A962E-15FE-4052-A436-94654F1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A9DAC-E0B5-4E55-A849-93423D26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CEB8C-E181-488B-9545-3D03F635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C58DB-1529-47B4-AA67-B915C3B5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EF0C-0799-4CB6-A868-735569A6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5BE-99DB-4536-9C56-294D5AB7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03BEF-4993-42FF-8028-30DEAB2B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1AC-EC5A-48C3-9FF7-2961A95A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B19-E24E-4A4B-9436-8931F3A3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358-D09F-4BCD-B733-5B70E4B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E15B-1D49-447D-B054-8243779D9597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7D0A-8BE2-4428-A51E-8ADAAE5A8FBD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91F4-E860-4B12-BBB0-C4CD657AE7BC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13F2-5B6B-4A65-A776-26C7566D3E3B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A536-D754-4899-B70C-507102E5DF59}" type="slidenum">
              <a:rPr b="0" lang="lv-LV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kase.gov.lv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57160" y="3571560"/>
            <a:ext cx="7407360" cy="14000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6a6363"/>
                </a:solidFill>
                <a:latin typeface="Franklin Gothic Book"/>
              </a:rPr>
              <a:t>Aizņēmumu un galvojumu piešķiršanas nosacījum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Projektu iesniedzēj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ēzijas fonda projekta iesniedzējs –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ējuma saņēmējs – var būt tikai ūdenssaimniecības sabiedrisko pakalpojumu sniedzēj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švaldības, pašvaldību iestādes un aģentūras, kā arī kapitālsabiedrības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ām ar pašvaldību noslēgts līgums, kas nosaka ūdenssaimniecības sabiedriskā pakalpojuma snieg­šanas pienākuma būtību, ilgumu, pakalpojumu sniegšanas teritoriju, kom­pensācijas maksājumu aprēķināšanas nosacījumus un citus nosacījumu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i uzņēmums var nodrošināt nepieciešamos resursus ar saviem apgrozāmiem līdzekļi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Kredītiestādes izvēle 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(iespējamie veidi: konkurss, cenu aptauja u.c.)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Latvijas kredītinstitūcijas (komercbankas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Starptautiskās kredītinstitūcijas (komercbankas un citas kredītinstitūcijas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(dažādi aizņēmuma nosacījumi – procentu likme, nepieciešamība pēc galvotāja, atmaksas nosacījumi, atskaites, kontrole u.c.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Vai paša uzņēmuma kredītspēja ir pietiekama, lai paņemtu nepieciešamo aizņēmumu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r likumu par valsts gadskārtējo budžetu tiek noteikts limits gan pašvaldību aizņēmumiem, gan galvojumiem 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(tāpēc ir laikus jāsaņem atļauja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Pašvaldību galvojum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Pašvaldību galvojumu sniegšanas kārtību un procedūru nosaka sekojoši normatīvie akti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kums “Par budžetu un finanšu vadību”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kums “Par pašvaldību budžetiem”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K noteikumi Nr.196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Lēmumu par atļauju pašvaldībai sniegt galvojumu pieņem Finanšu ministrijas Pašvaldību aizņēmumu un galvojumu kontroles un pārraudzības padome (turpmāk tekstā - Padome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000" spc="-1" strike="noStrike">
                <a:solidFill>
                  <a:srgbClr val="696464"/>
                </a:solidFill>
                <a:latin typeface="Franklin Gothic Book"/>
              </a:rPr>
              <a:t>Noteikumi par pašvaldību aizņēmumiem un galvojumiem</a:t>
            </a:r>
            <a:endParaRPr b="0" lang="en-US" sz="3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17800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K noteikumi Nr.196 pieņemti 2008.03.25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ēkā no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.04.04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ikumi nosaka kārtību, kādā pašvaldības var ņemt aizņēmumus un sniegt galvojumu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ašvaldībai ir pienākums precizēt aizņēmuma apmēru atbilstoši iepirkumu procedūras rezultātiem, bet nepārsniedzot pašvaldības lēmumā noteikto aizņēmuma apmēru. Šo informāciju pašvaldība iesniedz Valsts kasē aizņēmuma saņemšanai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Padomes sēd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ašvaldības iesniegumu aizņēmuma saņemšanai sniegšanai izskata padomes sēdē, ja ne vēlāk kā 10 darbdienas pirms attiecīgās padomes sēdes ir iesniegti nepieciešamie dokument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adomei ir tiesība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ieprasīt un saņemt no pašvaldības jebkuru papildinformāciju, ja tā nepieciešama konkrētā iesnieguma izskatīšanai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ārraugot pašvaldību finansiālās darbības jautājumos, kas saistīti ar aizņēmumiem un galvojumiem, rīkot izbraukuma sēdes, lai pārbaudītu vai aizņēmumi tiek izlietoti padomes atļaujā norādītajiem mērķiem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a6363"/>
                </a:solidFill>
                <a:latin typeface="Franklin Gothic Book"/>
              </a:rPr>
              <a:t>Pašvaldību finanšu saistību limi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švaldību saistību līmenis līdz 20% no pašvaldības ieņēmumi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iecībā uz ES fondu projektiem – tiek vērtēts individuā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dzfinansējums no pašvaldības var tikt ieguldīts tikai kā pamatkapitāla palielinājums SIA (ja projektu īstenos SIA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Aizņēmuma plānošan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Attiecināmās izmaks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Neattiecināmās izmaks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Apgrozāmie līdzek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Apgrozāmie līdzekļi PVN segšana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Pārbaude aizņēmuma vai galvojuma apstiprināšanas laikā tiek veikta, pamatojoties uz projekta iesniegumu un aktuālo prognozi, salīdzinot ar iesniegtajiem dokumenti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4000" spc="-1" strike="noStrike">
                <a:solidFill>
                  <a:srgbClr val="696464"/>
                </a:solidFill>
                <a:latin typeface="Franklin Gothic Book"/>
              </a:rPr>
              <a:t>Informācij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sts kases mājas lap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lv-LV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www.vkase.gov.lv</a:t>
            </a:r>
            <a:r>
              <a:rPr b="0" i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omes kontakttālruni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95469 Kristīne Kapteine;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95464 Agnese Kurme</a:t>
            </a:r>
            <a:r>
              <a:rPr b="0" i="1" lang="lv-LV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03:18Z</dcterms:created>
  <dc:creator>JolantaJ</dc:creator>
  <dc:description/>
  <dc:language>en-US</dc:language>
  <cp:lastModifiedBy>LauraB</cp:lastModifiedBy>
  <dcterms:modified xsi:type="dcterms:W3CDTF">2009-10-12T05:55:56Z</dcterms:modified>
  <cp:revision>14</cp:revision>
  <dc:subject/>
  <dc:title>Slide 1</dc:title>
</cp:coreProperties>
</file>