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2FCF09-B422-4A8E-8AAB-3048E65715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AE534-BE0B-42CA-B4E7-4BED66DEB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4A9265-835D-47B3-A3FC-6EEC20919A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B87075-0A94-4157-B4B6-5191704D79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222FD0-A738-48B8-A41C-028BD71ED3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A994D8-E99A-4C87-AEE9-3843E2E506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D5D3DD-889E-48C9-93D8-24C2F9B85E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FDC594-9661-48DB-BACC-7E027318FD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D4D904-A943-43B6-80DC-7BDA59588A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498EDB-2F8F-4B3B-8737-5C7BECE5F6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EC04E-E0B7-48DF-9D7C-9B18084FF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60D8E-7EC6-43AB-B5C3-F80530788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3741F-F15E-4ED3-8A41-1D93C9F77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B632D-4B08-4602-82B2-FCD90DF5B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A4A8F3-9A5D-44F8-A787-915FA70EBA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524EAB-1E2F-491D-A730-8F9A0B0476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DAEF35-B7E5-4F29-A866-0A95756B43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1BDF7D7-D643-492B-AA8A-162FDE5358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E2E4DB7-7F61-4858-AB94-61A48ECE76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A1E4F18-D9F4-44A4-A72B-8487D0425A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A269241-2D2D-418A-9236-7207FE3118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2E958C4-B9C3-4D6D-A61B-900853B1B1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82B9F-6C74-4D8B-A9DE-746E06F35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0E0C0D1-59F8-4DA6-B42D-DD5A6CEF2B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92FAB9F-E3A9-4E55-8CE0-249EB3A1FE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0A55D83-B4CC-4A93-A4C8-7367FD58FA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36EFFF3-272E-4EAF-BF7E-8F43A856C8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7FF8445-3010-445D-BCCD-B2F3598A1E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6768093-9F49-4486-B97A-2E723BBCCC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8B3853C-B8BB-41E9-8E21-2C679C90F7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C0B79A-F121-4137-9492-55AB177B77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0AC463-0B86-42E7-A412-4400FB9E68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41C881-DE90-40FA-9138-63CEE5DBC9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22AD0-9B4D-46EC-9F42-A360363A7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E439DD-53FF-4E9A-BEFE-7CE4A4E3A4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0E7873-D21E-4932-BFFA-7BA7437BEC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0EB314-D957-4AD6-9A91-706DB5F543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EA6959-410E-4A60-A202-1E7CC19927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A614D2-6FE1-49E7-8611-386B9D4AD1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CB8B20-A375-4286-8EE4-230B48E945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2EC5B0-3FC5-4E54-B4BB-72631E58E8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F59C8C-4473-46F2-9995-EDF75DBDBC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FD4E6B-307E-4D3C-860A-0C67387837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25D5B60-6FEA-4F88-95C9-B49637EE6D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54725-1507-442A-8249-4C81884C6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EF3E638-48BE-4844-A8F6-768378ACEB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FD2F006-FF32-449C-ABE9-6A4CC1103E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23F3EA7-563A-42C1-B211-2A73DD9A7C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2820500-BDC4-4FD4-83BD-03AAE62730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BB3E69F-F64A-4171-AEDB-F32A87CADA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84DDCF8-E247-467B-B274-9304FED4C4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90E4000-D516-438F-BD2F-3B15A7DC57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80E9339-BD44-45E4-998C-13D705FC43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90D3CCA-A2A6-4B40-8651-604C32D440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0A6E376-4F05-4AB9-8A3D-B918F3CD73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1F2CD-3037-483C-950A-C4086CB9B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DCFEFAD-EBA3-442F-98C4-BDF2906310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7F0CCED6-8475-4FB1-A79F-39DEAF0232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F09A8B7-D302-4FAE-AAC9-C3B84B8363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7C19964-1881-41A8-A6DA-72D54AC560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426706E-6333-435A-9ECC-C7224AB5A9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8F23132-1ECE-4C04-9DDC-2AF1395646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1511F83-F1A3-423A-AAE1-CF572767D3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02ECD45-2D98-494A-8670-0B9660D59D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2C8F753-6690-463F-AC6B-F315E69B14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3ED8F0C-3DB0-44BE-8776-0CD5BFDFDA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2FC57-F552-4100-8596-8607D31FB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C3C70DA-D123-4BEE-A9F3-61E482B44D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7BC40E91-0458-43ED-8B6B-C12E412696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3A77DFC8-419D-4210-8B3D-22E65543080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0566CEE0-4FAA-4A8F-AE55-0C44A807DC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3F14478-7332-41AB-B36E-8F256B7EE2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01ECDC3-3B30-40FA-A143-DDAB17F145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37990A7-427C-4873-BE6A-21FE746863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B7FEA6E-91E9-4B72-B0D9-4CEE34B961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08A9AD7-0710-454A-BC10-B1DE6DB2E8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1FC9754-9314-434E-B494-662C3D19A4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4D953-C7A9-4DE7-910E-8807A7127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ECD74C6-2B7F-4F86-8A42-5E656E4873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76D5FEA-445D-4F41-B7EB-49ADA3DB84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89D766F-3A91-4F5A-AAF9-3DFEE3B673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B182F37-7AA7-4EE1-A70A-631ECDF1766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1BDD16C-C388-4FDA-BB33-5EF0D965AE5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15710-8D6C-4602-87B8-578650CBAA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lv-LV"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52969-A116-422E-B37D-73ED96AA971D}" type="slidenum">
              <a:rPr b="1" lang="lv-LV"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lv-LV"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A6B00-D804-42F4-AF25-F059716DE9F0}" type="slidenum">
              <a:rPr b="1" lang="lv-LV"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lv-LV"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DAC99-6DB0-4B85-811B-B21C9D5770BF}" type="slidenum">
              <a:rPr b="1" lang="lv-LV"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lv-LV"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1736C-DCB3-402B-9730-E211D0B6E86D}" type="slidenum">
              <a:rPr b="1" lang="lv-LV"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lv-LV"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6B1A5-BFBF-4185-973B-752D5FFE3EDD}" type="slidenum">
              <a:rPr b="1" lang="lv-LV"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lv-LV"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31EDB-175A-419A-8009-550938ECE45F}" type="slidenum">
              <a:rPr b="1" lang="lv-LV"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lv-LV"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F4BA2-CEBA-497D-91DF-6F607ED64678}" type="slidenum">
              <a:rPr b="1" lang="lv-LV"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257148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575f6d"/>
                </a:solidFill>
                <a:latin typeface="Century Schoolbook"/>
              </a:rPr>
              <a:t>AKTIVITĀTES IEVIEŠANAS LAIKA GRAFIKS</a:t>
            </a:r>
            <a:endParaRPr b="0" lang="en-US" sz="36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680"/>
            <a:ext cx="811548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575f6d"/>
                </a:solidFill>
                <a:latin typeface="Century Schoolbook"/>
              </a:rPr>
              <a:t>CIVILTIESISKĀ LĪGUMA VAI VIENOŠANĀS SLĒGŠANA </a:t>
            </a:r>
            <a:br>
              <a:rPr sz="2400"/>
            </a:br>
            <a:r>
              <a:rPr b="1" lang="lv-LV" sz="2400" spc="-1" strike="noStrike">
                <a:solidFill>
                  <a:srgbClr val="575f6d"/>
                </a:solidFill>
                <a:latin typeface="Century Schoolbook"/>
              </a:rPr>
              <a:t>(LIELIE PROJEKTI)</a:t>
            </a:r>
            <a:endParaRPr b="0" lang="en-US" sz="2400" spc="-1" strike="noStrike">
              <a:solidFill>
                <a:srgbClr val="575f6d"/>
              </a:solidFill>
              <a:latin typeface="Century Schoolbook"/>
            </a:endParaRPr>
          </a:p>
        </p:txBody>
      </p:sp>
      <p:sp>
        <p:nvSpPr>
          <p:cNvPr id="369" name=""/>
          <p:cNvSpPr txBox="1"/>
          <p:nvPr/>
        </p:nvSpPr>
        <p:spPr>
          <a:xfrm>
            <a:off x="456840" y="1285560"/>
            <a:ext cx="7900920" cy="5187960"/>
          </a:xfrm>
          <a:prstGeom prst="rect">
            <a:avLst/>
          </a:prstGeom>
          <a:noFill/>
          <a:ln w="0">
            <a:noFill/>
          </a:ln>
        </p:spPr>
        <p:txBody>
          <a:bodyPr anchor="t">
            <a:normAutofit/>
          </a:bodyPr>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700" spc="-1" strike="noStrike">
                <a:solidFill>
                  <a:srgbClr val="000000"/>
                </a:solidFill>
                <a:latin typeface="Century Schoolbook"/>
              </a:rPr>
              <a:t>Atbildīgās iestādes vai sadarbības iestādes vadītājs 15 darbdienu laikā pēc lielā projekta saņemšanas pieņem lēmumu par lielā projekta iesnieguma atbilstību vai neatbilstību Eiropas Savienības fonda projekta iesnieguma vērtēšanas kritērijiem. </a:t>
            </a:r>
            <a:endParaRPr b="0" lang="en-US" sz="17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700" spc="-1" strike="noStrike">
                <a:solidFill>
                  <a:srgbClr val="000000"/>
                </a:solidFill>
                <a:latin typeface="Century Schoolbook"/>
              </a:rPr>
              <a:t>Ja atbildīgās iestādes vai sadarbības iestādes vadītājs pieņem lēmumu par lielā projekta iesnieguma atbilstību Eiropas Savienības fonda projekta iesnieguma vērtēšanas kritērijiem, atbildīgā iestāde vai sadarbības iestāde iesniedz lielā projekta iesniegumu vadošajā iestādē.</a:t>
            </a:r>
            <a:endParaRPr b="0" lang="en-US" sz="17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700" spc="-1" strike="noStrike">
                <a:solidFill>
                  <a:srgbClr val="000000"/>
                </a:solidFill>
                <a:latin typeface="Century Schoolbook"/>
              </a:rPr>
              <a:t>Vadošā iestāde 10 darbdienu laikā saskaņo lielā projekta iesniegumu. </a:t>
            </a:r>
            <a:endParaRPr b="0" lang="en-US" sz="17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700" spc="-1" strike="noStrike">
                <a:solidFill>
                  <a:srgbClr val="000000"/>
                </a:solidFill>
                <a:latin typeface="Century Schoolbook"/>
              </a:rPr>
              <a:t>Ja vadošā iestāde nesaskaņo lielā projekta iesniegumu, atbildīgā iestāde vai sadarbības iestāde 10 darbdienu laikā pēc vadošās iestādes lēmuma saņemšanas nodrošina lielā projekta iesnieguma precizēšanu saskaņā ar vadošās iestādes komentāriem un iesniedz atkārtoti vadošajā iestādē.</a:t>
            </a:r>
            <a:endParaRPr b="0" lang="en-US" sz="17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700" spc="-1" strike="noStrike">
                <a:solidFill>
                  <a:srgbClr val="000000"/>
                </a:solidFill>
                <a:latin typeface="Century Schoolbook"/>
              </a:rPr>
              <a:t>Pēc lielā projekta iesnieguma saskaņošanas vadošā iestāde to iesniedz Eiropas Komisijā.</a:t>
            </a:r>
            <a:endParaRPr b="0" lang="en-US" sz="17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700" spc="-1" strike="noStrike">
                <a:solidFill>
                  <a:srgbClr val="000000"/>
                </a:solidFill>
                <a:latin typeface="Century Schoolbook"/>
              </a:rPr>
              <a:t>Atbildīgā iestāde vai sadarbības iestāde 30 darbdienu laikā pēc lielā projekta iesnieguma apstiprināšanas atbildīgajā iestādē vai sadarbības iestādē slēdz ar finansējuma saņēmēju līgumu vai vienošanos par lielā projekta īstenošanu. Līgums vai vienošanās ietver arī datumu, ar kuru veiktās izmaksas uzskata par attiecināmām.</a:t>
            </a:r>
            <a:endParaRPr b="0" lang="en-US" sz="17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043840" cy="654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700" spc="-1" strike="noStrike">
                <a:solidFill>
                  <a:srgbClr val="575f6d"/>
                </a:solidFill>
                <a:latin typeface="Century Schoolbook"/>
              </a:rPr>
              <a:t>PIRMS PROJEKTA IESNIEGUMA IESNIEGŠANAS</a:t>
            </a:r>
            <a:endParaRPr b="0" lang="en-US" sz="2700" spc="-1" strike="noStrike">
              <a:solidFill>
                <a:srgbClr val="575f6d"/>
              </a:solidFill>
              <a:latin typeface="Century Schoolbook"/>
            </a:endParaRPr>
          </a:p>
        </p:txBody>
      </p:sp>
      <p:sp>
        <p:nvSpPr>
          <p:cNvPr id="353" name=""/>
          <p:cNvSpPr txBox="1"/>
          <p:nvPr/>
        </p:nvSpPr>
        <p:spPr>
          <a:xfrm>
            <a:off x="428760" y="1214280"/>
            <a:ext cx="7858080" cy="487368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entury Schoolbook"/>
              </a:rPr>
              <a:t>Jābūt  saņemtam Ūdenssaimniecības būvju būvniecības projektu vērtēšanas komisija (ŪBK) akceptam pat Tehniski ekonomisko pamatojumu (TEP).</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entury Schoolbook"/>
              </a:rPr>
              <a:t>Projekta iesniedzējam jābūt sakārtotai dokumentācijai par ūdenssaimniecības sabiedrisko pakalpojumu sniegšanu, ja pakalpojumus sniedz:</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entury Schoolbook"/>
              </a:rPr>
              <a:t>kapitālsabiedrība – līgumam; </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entury Schoolbook"/>
              </a:rPr>
              <a:t>pašvaldība vai tās iestāde - pārvaldes lēmumam;</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entury Schoolbook"/>
              </a:rPr>
              <a:t>pašvaldības aģentūra - pārvaldes līgumam.</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043840" cy="654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000" spc="-1" strike="noStrike">
                <a:solidFill>
                  <a:srgbClr val="575f6d"/>
                </a:solidFill>
                <a:latin typeface="Century Schoolbook"/>
              </a:rPr>
              <a:t>PROJEKTA IESNIEGUMA IESNIEGŠANA</a:t>
            </a:r>
            <a:endParaRPr b="0" lang="en-US" sz="3000" spc="-1" strike="noStrike">
              <a:solidFill>
                <a:srgbClr val="575f6d"/>
              </a:solidFill>
              <a:latin typeface="Century Schoolbook"/>
            </a:endParaRPr>
          </a:p>
        </p:txBody>
      </p:sp>
      <p:sp>
        <p:nvSpPr>
          <p:cNvPr id="355" name=""/>
          <p:cNvSpPr txBox="1"/>
          <p:nvPr/>
        </p:nvSpPr>
        <p:spPr>
          <a:xfrm>
            <a:off x="457200" y="1214280"/>
            <a:ext cx="7972560" cy="5259600"/>
          </a:xfrm>
          <a:prstGeom prst="rect">
            <a:avLst/>
          </a:prstGeom>
          <a:noFill/>
          <a:ln w="0">
            <a:noFill/>
          </a:ln>
        </p:spPr>
        <p:txBody>
          <a:bodyPr anchor="t">
            <a:normAutofit/>
          </a:bodyPr>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Century Schoolbook"/>
              </a:rPr>
              <a:t>Pēc grozīju veikšanas MK noteikumos Nr.836 tiks nosūtīts uzaicinājums iesniegt projektu iesniegumus;</a:t>
            </a:r>
            <a:endParaRPr b="0" lang="en-US" sz="22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Century Schoolbook"/>
              </a:rPr>
              <a:t>Vadlīnijas Eiropas Savienības Kohēzijas fonda projekta iesnieguma veidlapas aizpildīšanai (aktualizētas 23.05.2008. saskaņā ar grozījumiem MK noteikumos Nr.836).</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Century Schoolbook"/>
              </a:rPr>
              <a:t>Kohēzijas fonda projekta iesniegums atbildīgajā iestādē iesniedzams divu mēnešu laikā pēc uzaicinājuma izsūtīšanas ūdenssaimniecības pakalpojumu sniedzējam. Atbildīgā iestāde var pagarināt uzaicinājumā norādītā projekta iesnieguma iesniegšanas termiņu uz laiku līdz diviem mēnešiem:</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Century Schoolbook"/>
              </a:rPr>
              <a:t>ja Uzraudzības komiteja pieņēmusi lēmumu par izmaiņām projektu iesniegumu vērtēšanas kritērijo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Century Schoolbook"/>
              </a:rPr>
              <a:t>ja pēc uzaicinājuma izsūtīšanas MK noteikumos tiek izdarīti grozījumi.</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654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000" spc="-1" strike="noStrike">
                <a:solidFill>
                  <a:srgbClr val="575f6d"/>
                </a:solidFill>
                <a:latin typeface="Century Schoolbook"/>
              </a:rPr>
              <a:t>PROJEKTA IESNIEGUMA VĒRTĒŠANA</a:t>
            </a:r>
            <a:endParaRPr b="0" lang="en-US" sz="3000" spc="-1" strike="noStrike">
              <a:solidFill>
                <a:srgbClr val="575f6d"/>
              </a:solidFill>
              <a:latin typeface="Century Schoolbook"/>
            </a:endParaRPr>
          </a:p>
        </p:txBody>
      </p:sp>
      <p:sp>
        <p:nvSpPr>
          <p:cNvPr id="357" name=""/>
          <p:cNvSpPr txBox="1"/>
          <p:nvPr/>
        </p:nvSpPr>
        <p:spPr>
          <a:xfrm>
            <a:off x="457200" y="1071720"/>
            <a:ext cx="7972560" cy="5402160"/>
          </a:xfrm>
          <a:prstGeom prst="rect">
            <a:avLst/>
          </a:prstGeom>
          <a:noFill/>
          <a:ln w="0">
            <a:noFill/>
          </a:ln>
        </p:spPr>
        <p:txBody>
          <a:bodyPr anchor="t">
            <a:normAutofit/>
          </a:bodyPr>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entury Schoolbook"/>
              </a:rPr>
              <a:t>Projekta iesniegumu vērtē atbildīgās iestādes izveidota projektu iesniegumu vērtēšanas komisija (izveidota 2008.g. maijā).</a:t>
            </a:r>
            <a:endParaRPr b="0" lang="en-US" sz="20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entury Schoolbook"/>
              </a:rPr>
              <a:t>Vērtēšanas komisija projektu iesniegumus izvērtē trīs mēnešu laikā pēc projektu iesniegumu iesniegšanas termiņa beigām.</a:t>
            </a:r>
            <a:endParaRPr b="0" lang="en-US" sz="20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entury Schoolbook"/>
              </a:rPr>
              <a:t>Kohēzijas fonda projektu iesniegumus vērtē atbilstoši administratīvajiem, atbilstības, kvalitātes un finansējuma piešķiršanas kritērijiem (MK noteikumu 4.pielikums):</a:t>
            </a:r>
            <a:endParaRPr b="0" lang="en-US" sz="20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entury Schoolbook"/>
              </a:rPr>
              <a:t>atbilstību administratīvajiem, atbilstības un finansējuma piešķiršanas kritērijiem vērtē ar "Jā" vai "Nē" ("Jā" – atbilst, "Nē" – neatbilst). Ja Kohēzijas fonda projekta iesnieguma administratīvais vai atbilstības kritērijs nav attiecināms uz konkrēto Kohēzijas fonda projekta iesniedzēju, Kohēzijas fonda projekta iesniegumu attiecībā uz šo kritēriju nevērtē;</a:t>
            </a:r>
            <a:endParaRPr b="0" lang="en-US" sz="20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entury Schoolbook"/>
              </a:rPr>
              <a:t>atbilstību kvalitātes kritērijiem vērtē, piešķirot noteiktu punktu skaitu.</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57120" y="274680"/>
            <a:ext cx="8501040" cy="9396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700" spc="-1" strike="noStrike">
                <a:solidFill>
                  <a:srgbClr val="575f6d"/>
                </a:solidFill>
                <a:latin typeface="Century Schoolbook"/>
              </a:rPr>
              <a:t>LĒMUMA PIEŅEMŠANA PAR PROJEKTA IESNIEGUMA APSTIPRINĀŠANU VAI NORAIDĪŠANU (I)</a:t>
            </a:r>
            <a:endParaRPr b="0" lang="en-US" sz="2700" spc="-1" strike="noStrike">
              <a:solidFill>
                <a:srgbClr val="575f6d"/>
              </a:solidFill>
              <a:latin typeface="Century Schoolbook"/>
            </a:endParaRPr>
          </a:p>
        </p:txBody>
      </p:sp>
      <p:sp>
        <p:nvSpPr>
          <p:cNvPr id="359" name=""/>
          <p:cNvSpPr txBox="1"/>
          <p:nvPr/>
        </p:nvSpPr>
        <p:spPr>
          <a:xfrm>
            <a:off x="457200" y="1285560"/>
            <a:ext cx="8043840" cy="5187960"/>
          </a:xfrm>
          <a:prstGeom prst="rect">
            <a:avLst/>
          </a:prstGeom>
          <a:noFill/>
          <a:ln w="0">
            <a:noFill/>
          </a:ln>
        </p:spPr>
        <p:txBody>
          <a:bodyPr anchor="t">
            <a:normAutofit/>
          </a:bodyPr>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000000"/>
                </a:solidFill>
                <a:latin typeface="Century Schoolbook"/>
              </a:rPr>
              <a:t>Atbildīgās iestādes vadītājs, pamatojoties uz vērtēšanas komisijas atzinumu, pieņem lēmumu:</a:t>
            </a:r>
            <a:endParaRPr b="0" lang="en-US" sz="19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000000"/>
                </a:solidFill>
                <a:latin typeface="Century Schoolbook"/>
              </a:rPr>
              <a:t>par Kohēzijas fonda projekta iesnieguma apstiprināšanu vai noraidīšanu;</a:t>
            </a:r>
            <a:endParaRPr b="0" lang="en-US" sz="19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000000"/>
                </a:solidFill>
                <a:latin typeface="Century Schoolbook"/>
              </a:rPr>
              <a:t>par Kohēzijas fonda projekta iesnieguma atbilstību Kohēzijas fonda projekta iesnieguma vērtēšanas kritērijiem un aktivitātes atbalsta nosacījumiem – attiecībā uz lielajiem projektiem.</a:t>
            </a:r>
            <a:endParaRPr b="0" lang="en-US" sz="19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000000"/>
                </a:solidFill>
                <a:latin typeface="Century Schoolbook"/>
              </a:rPr>
              <a:t>Lēmums par Kohēzijas fonda projekta iesnieguma apstiprināšanu var ietvert nosacījumus, kas Kohēzijas fonda projekta iesniedzējam jāizpilda lēmumā norādītajā termiņā, lai tas varētu noslēgt civiltiesisko līgumu vai vienošanos par projekta īstenošanu.</a:t>
            </a:r>
            <a:endParaRPr b="0" lang="en-US" sz="19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000000"/>
                </a:solidFill>
                <a:latin typeface="Century Schoolbook"/>
              </a:rPr>
              <a:t>Lēmumu par Kohēzijas fonda projekta iesnieguma apstiprināšanu vai noraidīšanu vai par projekta iesnieguma atbilstību Kohēzijas fonda projekta iesnieguma vērtēšanas kritērijiem un aktivitātes atbalsta nosacījumiem (attiecībā uz lielajiem projektiem) atbildīgā iestāde piecu darbdienu laikā pēc lēmuma pieņemšanas nosūta pa pastu vai elektroniski (parakstītu ar drošu elektronisko parakstu) Kohēzijas fonda projekta iesniedzējam.</a:t>
            </a:r>
            <a:endParaRPr b="0" lang="en-US" sz="19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28400" y="428760"/>
            <a:ext cx="8429400" cy="714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700" spc="-1" strike="noStrike">
                <a:solidFill>
                  <a:srgbClr val="575f6d"/>
                </a:solidFill>
                <a:latin typeface="Century Schoolbook"/>
              </a:rPr>
              <a:t>LĒMUMA PIEŅEMŠANA PAR PROJEKTA IESNIEGUMA APSTIPRINĀŠANU VAI NORAIDĪŠANU (II)</a:t>
            </a:r>
            <a:endParaRPr b="0" lang="en-US" sz="2700" spc="-1" strike="noStrike">
              <a:solidFill>
                <a:srgbClr val="575f6d"/>
              </a:solidFill>
              <a:latin typeface="Century Schoolbook"/>
            </a:endParaRPr>
          </a:p>
        </p:txBody>
      </p:sp>
      <p:sp>
        <p:nvSpPr>
          <p:cNvPr id="361" name=""/>
          <p:cNvSpPr txBox="1"/>
          <p:nvPr/>
        </p:nvSpPr>
        <p:spPr>
          <a:xfrm>
            <a:off x="456840" y="1214280"/>
            <a:ext cx="8186760" cy="5259600"/>
          </a:xfrm>
          <a:prstGeom prst="rect">
            <a:avLst/>
          </a:prstGeom>
          <a:noFill/>
          <a:ln w="0">
            <a:noFill/>
          </a:ln>
        </p:spPr>
        <p:txBody>
          <a:bodyPr anchor="t">
            <a:normAutofit/>
          </a:bodyPr>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entury Schoolbook"/>
              </a:rPr>
              <a:t>Vērtēšanas komisija vērtē lēmumā par projekta iesnieguma apstiprināšanu ar nosacījumu ietvertā nosacījuma izpildi, un atbildīgā iestāde sagatavo atzinumu par lēmumā ietvertā nosacījuma izpildi 20 darbdienu laikā pēc lēmumā norādītā termiņā beigām.</a:t>
            </a: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entury Schoolbook"/>
              </a:rPr>
              <a:t>Ja lēmumā ietvertais nosacījums nav izpildīts vai nav izpildīts termiņā, kas noteikts lēmumā par projekta iesnieguma apstiprināšanu ar nosacījumu, vai atbildīgās iestādes atzinums ir negatīvs, Kohēzijas fonda projekta iesniegums uzskatāms par noraidītu.</a:t>
            </a: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entury Schoolbook"/>
              </a:rPr>
              <a:t>Atzinumu, kurā ir konstatēts, ka projekta iesniedzējs nav izpildījis lēmumā ietverto nosacījumu, atbildīgā iestāde divu darbdienu laikā nosūta projekta iesniedzējam.</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357120" y="274680"/>
            <a:ext cx="8429760" cy="58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700" spc="-1" strike="noStrike">
                <a:solidFill>
                  <a:srgbClr val="575f6d"/>
                </a:solidFill>
                <a:latin typeface="Century Schoolbook"/>
              </a:rPr>
              <a:t>CIVILTIESISKĀ LĪGUMA VAI VIENOŠANĀS SLĒGŠANA</a:t>
            </a:r>
            <a:endParaRPr b="0" lang="en-US" sz="2700" spc="-1" strike="noStrike">
              <a:solidFill>
                <a:srgbClr val="575f6d"/>
              </a:solidFill>
              <a:latin typeface="Century Schoolbook"/>
            </a:endParaRPr>
          </a:p>
        </p:txBody>
      </p:sp>
      <p:sp>
        <p:nvSpPr>
          <p:cNvPr id="363" name=""/>
          <p:cNvSpPr txBox="1"/>
          <p:nvPr/>
        </p:nvSpPr>
        <p:spPr>
          <a:xfrm>
            <a:off x="456840" y="1071720"/>
            <a:ext cx="7900920" cy="540216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entury Schoolbook"/>
              </a:rPr>
              <a:t>Ja ir pieejami finanšu līdzekļi, atbildīgā iestāde ar finansējuma saņēmēju slēdz civiltiesisku līgumu vai vienošanos par Kohēzijas fonda projekta īstenošanu 30 darbdienu laikā pēc:</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entury Schoolbook"/>
              </a:rPr>
              <a:t>lēmuma pieņemšanas par Kohēzijas fonda projekta iesnieguma apstiprināšanu;</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entury Schoolbook"/>
              </a:rPr>
              <a:t>lēmumā par Kohēzijas fonda projekta iesnieguma apstiprināšanu norādīto nosacījumu izpildes. Minēto nosacījumu izpildes termiņš nevar būt lielāks par trijiem mēnešiem;</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entury Schoolbook"/>
              </a:rPr>
              <a:t>Eiropas Komisijas lēmuma pieņemšanas par lielā projekta apstiprināšanu.</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285840" y="356760"/>
            <a:ext cx="8501040" cy="582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500" spc="-1" strike="noStrike">
                <a:solidFill>
                  <a:srgbClr val="575f6d"/>
                </a:solidFill>
                <a:latin typeface="Century Schoolbook"/>
              </a:rPr>
              <a:t>CIVILTIESISKĀ LĪGUMA VAI VIENOŠANĀS SLĒGŠANA </a:t>
            </a:r>
            <a:br>
              <a:rPr sz="2500"/>
            </a:br>
            <a:r>
              <a:rPr b="1" lang="lv-LV" sz="2400" spc="-1" strike="noStrike">
                <a:solidFill>
                  <a:srgbClr val="575f6d"/>
                </a:solidFill>
                <a:latin typeface="Century Schoolbook"/>
              </a:rPr>
              <a:t>(1. IESPĒJAMAIS VARIANTS)</a:t>
            </a:r>
            <a:endParaRPr b="0" lang="en-US" sz="2400" spc="-1" strike="noStrike">
              <a:solidFill>
                <a:srgbClr val="575f6d"/>
              </a:solidFill>
              <a:latin typeface="Century Schoolbook"/>
            </a:endParaRPr>
          </a:p>
        </p:txBody>
      </p:sp>
      <p:sp>
        <p:nvSpPr>
          <p:cNvPr id="365" name=""/>
          <p:cNvSpPr txBox="1"/>
          <p:nvPr/>
        </p:nvSpPr>
        <p:spPr>
          <a:xfrm>
            <a:off x="457200" y="1071720"/>
            <a:ext cx="8043840" cy="5402160"/>
          </a:xfrm>
          <a:prstGeom prst="rect">
            <a:avLst/>
          </a:prstGeom>
          <a:noFill/>
          <a:ln w="0">
            <a:noFill/>
          </a:ln>
        </p:spPr>
        <p:txBody>
          <a:bodyPr anchor="t">
            <a:normAutofit/>
          </a:bodyPr>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000000"/>
                </a:solidFill>
                <a:latin typeface="Century Schoolbook"/>
              </a:rPr>
              <a:t>Ja atbildīgajai iestādei vai sadarbības iestādei ir pieejami finanšu resursi civiltiesiska līguma par Eiropas Savienības fonda projekta īstenošanu vai vienošanās par Eiropas Savienības fonda projekta īstenošanu saistību izpildei, tā ar finansējuma saņēmēju slēdz līgumu vai vienošanos 30 darbdienu laikā pēc: </a:t>
            </a:r>
            <a:endParaRPr b="0" lang="en-US" sz="19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000000"/>
                </a:solidFill>
                <a:latin typeface="Century Schoolbook"/>
              </a:rPr>
              <a:t>lēmuma pieņemšanas par Eiropas Savienības fonda projekta iesnieguma apstiprināšanu, ja lēmumā nav ietverti nosacījumi; </a:t>
            </a:r>
            <a:endParaRPr b="0" lang="en-US" sz="19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000000"/>
                </a:solidFill>
                <a:latin typeface="Century Schoolbook"/>
              </a:rPr>
              <a:t>lēmumā par Eiropas Savienības fonda projekta iesnieguma apstiprināšanu norādīto nosacījumu izpildes (arī pēc Eiropas Savienības fonda projekta saņemšanas, kas precizēts saskaņā ar MK noteikumu Nr. 419 14.punktu), ja lēmumā ir ietverti nosacījumi.</a:t>
            </a:r>
            <a:endParaRPr b="0" lang="en-US" sz="19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000000"/>
                </a:solidFill>
                <a:latin typeface="Century Schoolbook"/>
              </a:rPr>
              <a:t>Ja atbildīgajai iestādei vai sadarbības iestādei un finansējuma saņēmējam, kas nav valsts budžeta iestāde vai plānošanas reģions, nav pieejami finanšu resursi līguma vai vienošanās saistību izpildei un ar finansējuma saņēmēju nav iespējams noslēgt līgumu vai vienošanos, atbildīgā iestāde vai sadarbības iestāde slēdz līgumu vai vienošanos piecu darbdienu laikā pēc tam, kad tai kļūst pieejami finanšu resursi.</a:t>
            </a:r>
            <a:endParaRPr b="0" lang="en-US" sz="19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680"/>
            <a:ext cx="81867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575f6d"/>
                </a:solidFill>
                <a:latin typeface="Century Schoolbook"/>
              </a:rPr>
              <a:t>CIVILTIESISKĀ LĪGUMA VAI VIENOŠANĀS SLĒGŠANA </a:t>
            </a:r>
            <a:br>
              <a:rPr sz="2400"/>
            </a:br>
            <a:r>
              <a:rPr b="1" lang="lv-LV" sz="2400" spc="-1" strike="noStrike">
                <a:solidFill>
                  <a:srgbClr val="575f6d"/>
                </a:solidFill>
                <a:latin typeface="Century Schoolbook"/>
              </a:rPr>
              <a:t>(2. IESPĒJAMAIS VARIANTS)</a:t>
            </a:r>
            <a:endParaRPr b="0" lang="en-US" sz="2400" spc="-1" strike="noStrike">
              <a:solidFill>
                <a:srgbClr val="575f6d"/>
              </a:solidFill>
              <a:latin typeface="Century Schoolbook"/>
            </a:endParaRPr>
          </a:p>
        </p:txBody>
      </p:sp>
      <p:sp>
        <p:nvSpPr>
          <p:cNvPr id="367" name=""/>
          <p:cNvSpPr txBox="1"/>
          <p:nvPr/>
        </p:nvSpPr>
        <p:spPr>
          <a:xfrm>
            <a:off x="457200" y="1356840"/>
            <a:ext cx="7972560" cy="5116680"/>
          </a:xfrm>
          <a:prstGeom prst="rect">
            <a:avLst/>
          </a:prstGeom>
          <a:noFill/>
          <a:ln w="0">
            <a:noFill/>
          </a:ln>
        </p:spPr>
        <p:txBody>
          <a:bodyPr anchor="t">
            <a:normAutofit/>
          </a:bodyPr>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Century Schoolbook"/>
              </a:rPr>
              <a:t>Ja atbildīgajai iestādei vai sadarbības iestādei nav pieejami finanšu resursi līguma vai vienošanās saistību izpildei, bet finansējuma saņēmējs, kas nav valsts budžeta iestāde vai plānošanas reģions, līguma vai vienošanās saistību izpildi var veikt no saviem līdzekļiem (tai skaitā no saviem budžeta ieņēmumiem, budžeta līdzekļu atlikumiem vai aizņēmuma), atbildīgā iestāde vai sadarbības iestāde ar finansējuma saņēmēju slēdz līgumu vai vienošanos:</a:t>
            </a:r>
            <a:endParaRPr b="0" lang="en-US" sz="22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Century Schoolbook"/>
              </a:rPr>
              <a:t>15 darbdienu laikā pēc lēmuma pieņemšanas par Eiropas Savienības fonda projekta iesnieguma apstiprināšanu, ja lēmumā nav ietverti nosacījumi;</a:t>
            </a:r>
            <a:endParaRPr b="0" lang="en-US" sz="22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Century Schoolbook"/>
              </a:rPr>
              <a:t>30 darbdienu laikā pēc lēmumā par Eiropas Savienības fondu projekta iesnieguma apstiprināšanu norādīto nosacījumu izpildes (arī pēc Eiropas Savienības fonda projekta saņemšanas, kas precizēts saskaņā ar MK noteikumu Nr. 419 14.punktu), ja lēmumā ir ietverti nosacījumi.</a:t>
            </a:r>
            <a:endParaRPr b="0" lang="en-US" sz="22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8T13:57:57Z</dcterms:created>
  <dc:creator>LauraB</dc:creator>
  <dc:description/>
  <dc:language>en-US</dc:language>
  <cp:lastModifiedBy>LauraB</cp:lastModifiedBy>
  <dcterms:modified xsi:type="dcterms:W3CDTF">2009-10-12T06:00:35Z</dcterms:modified>
  <cp:revision>39</cp:revision>
  <dc:subject/>
  <dc:title>Aktivitātes ieviešanas laika grafiks</dc:title>
</cp:coreProperties>
</file>