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84471-311A-409B-99DA-6FAF2F024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915AA-C991-44A1-AB09-632601FC2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0DF1B-6AC0-4749-ACB9-A2A7AF2C6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DAE9C-0355-4B08-A814-AAEA7C629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F1111-81EB-4174-B214-BE39F0317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D9AF4-CE58-45A7-A809-7F143EC96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71F43-B6F7-4445-B02D-F5663C410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D3FBD-6511-4A6D-A2B5-7418F5F34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AD0DB-45F1-48C2-A362-91ED09DBD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5C38B-94A9-42DD-9D5F-A2074CFF3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04114-B00C-4CA3-A68E-790ED225A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A1065-02ED-4214-87CC-BD5CC8810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BBB8C-8BD6-44C2-8B45-1A3D4FAE3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0D00B-6120-47ED-BB56-9D901FD06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4BE7F-B856-4351-9EA4-22EB0A707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EC3E2-155A-4EB2-A1E7-73FE6C9B9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7EDD5E-D75F-458E-966D-C3BBF60F40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FA06F8-9D02-4B2F-9E40-4EB963C34C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EBC8E4-211B-480A-A539-BF27D380D9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4A4769-37C4-4A1D-A5E0-3695AB763B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0BE360-62FF-4282-9DB1-F3F03F6C2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55DB14-DBAF-4161-92D8-7EDD6BE376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0E243-1B8D-4017-93E5-C3CB018C1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11956-EF0B-4506-90BC-FBFF99421E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88B31-15FB-43D2-B647-3C5909A42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15EA65-AA5F-466F-AD7F-6D18D7C8D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71AF1-CF7C-4807-89D9-6E9E23039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0BC6E0-BE92-4732-9704-5E5AF82AF4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8B0ABD-0061-496A-A279-1ED2BBB392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18B676-2D52-424B-8A17-8886A933F4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C46A08-E1BC-458F-A3A5-64FD6DFFDF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C92AD7-30C9-410C-A687-C0AFAEB9E4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E6305F-3537-437D-A6ED-CCCBC0794D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26B73-DDA7-4C6B-B27D-9CEBD6E4C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30D82-5B8E-45AE-AE73-E31BF2E8E6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CC5603-200A-4EF6-8868-BBA351DDD7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682F97-296D-42F2-B785-0B31659F75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6B9079-90F7-44C1-873D-2E7B440AF1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7F3354-C86E-4FBD-8A09-F74EC2900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21D477-71AA-4072-8126-BDA180E3F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A0201D-0057-4F23-8C8A-52A816D77A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AEFD35-AE11-49AE-A931-3D471F1866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B842DA-53E1-4D02-8736-70343443A2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7C4203-BDFF-45E5-9E9F-DC006055FD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8DAE3-612D-407A-9217-50611444B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883F8B-E984-4E2A-AD04-0FF0D46EA0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0FF14F-9D15-4123-AFF1-0F6CF1222C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9E1B44-8582-470E-B2FF-3432F39DB1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50B240-E478-4977-A360-59E13EEB23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BE5AE4-49F3-4738-BA0A-16EF87EB0C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E46AD-930B-4988-B2DA-69B15DCE61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BF89CD-8993-4871-AAA2-C4779FE13A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439F0B-5B5A-4354-80A2-3C3BEA0F23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079148-F97B-4DFA-BEBC-B21F1D0719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45004B-4F90-4C36-8AE0-01781CEAD5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9733A-133D-45EA-8909-4ABD9AA97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421A31-6100-4D99-B4C7-B3F0E68854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35213-A7DB-44BE-B0C1-B771D5205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090CF-9A04-4005-BFF0-1F865D169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FE073-A6F0-4042-818C-88F63C20F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D189-A629-434E-8AD0-4AFC3E1F28A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7" name="Picture 19" descr="vMlogo"/>
          <p:cNvPicPr/>
          <p:nvPr/>
        </p:nvPicPr>
        <p:blipFill>
          <a:blip r:embed="rId2"/>
          <a:stretch/>
        </p:blipFill>
        <p:spPr>
          <a:xfrm>
            <a:off x="3564000" y="6421320"/>
            <a:ext cx="158436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045" descr=""/>
          <p:cNvPicPr/>
          <p:nvPr/>
        </p:nvPicPr>
        <p:blipFill>
          <a:blip r:embed="rId3"/>
          <a:stretch/>
        </p:blipFill>
        <p:spPr>
          <a:xfrm>
            <a:off x="74520" y="2492280"/>
            <a:ext cx="4137120" cy="1728720"/>
          </a:xfrm>
          <a:prstGeom prst="rect">
            <a:avLst/>
          </a:prstGeom>
          <a:ln w="0">
            <a:noFill/>
          </a:ln>
        </p:spPr>
      </p:pic>
      <p:pic>
        <p:nvPicPr>
          <p:cNvPr id="50" name="Picture 1046" descr=""/>
          <p:cNvPicPr/>
          <p:nvPr/>
        </p:nvPicPr>
        <p:blipFill>
          <a:blip r:embed="rId4"/>
          <a:stretch/>
        </p:blipFill>
        <p:spPr>
          <a:xfrm>
            <a:off x="6659640" y="2492280"/>
            <a:ext cx="2405160" cy="1728720"/>
          </a:xfrm>
          <a:prstGeom prst="rect">
            <a:avLst/>
          </a:prstGeom>
          <a:ln w="0">
            <a:noFill/>
          </a:ln>
        </p:spPr>
      </p:pic>
      <p:pic>
        <p:nvPicPr>
          <p:cNvPr id="51" name="Picture 1047" descr=""/>
          <p:cNvPicPr/>
          <p:nvPr/>
        </p:nvPicPr>
        <p:blipFill>
          <a:blip r:embed="rId5"/>
          <a:stretch/>
        </p:blipFill>
        <p:spPr>
          <a:xfrm>
            <a:off x="4211640" y="2492280"/>
            <a:ext cx="2448000" cy="1728720"/>
          </a:xfrm>
          <a:prstGeom prst="rect">
            <a:avLst/>
          </a:prstGeom>
          <a:ln w="0">
            <a:noFill/>
          </a:ln>
        </p:spPr>
      </p:pic>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4"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380A-95C8-45D5-A0E0-A3BA7140EA3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Rounded Rectangle 10"/>
          <p:cNvGrpSpPr/>
          <p:nvPr/>
        </p:nvGrpSpPr>
        <p:grpSpPr>
          <a:xfrm>
            <a:off x="60480" y="60480"/>
            <a:ext cx="9028080" cy="6711840"/>
            <a:chOff x="60480" y="60480"/>
            <a:chExt cx="9028080" cy="6711840"/>
          </a:xfrm>
        </p:grpSpPr>
        <p:pic>
          <p:nvPicPr>
            <p:cNvPr id="95" name="Rounded Rectangle 10" descr=""/>
            <p:cNvPicPr/>
            <p:nvPr/>
          </p:nvPicPr>
          <p:blipFill>
            <a:blip r:embed="rId3"/>
            <a:stretch/>
          </p:blipFill>
          <p:spPr>
            <a:xfrm>
              <a:off x="60480" y="60480"/>
              <a:ext cx="9028080" cy="6711840"/>
            </a:xfrm>
            <a:prstGeom prst="rect">
              <a:avLst/>
            </a:prstGeom>
            <a:ln w="0">
              <a:noFill/>
            </a:ln>
          </p:spPr>
        </p:pic>
        <p:sp>
          <p:nvSpPr>
            <p:cNvPr id="96"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27C3-2E51-4DF5-A455-377C26C1747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19" descr="vMlogo"/>
          <p:cNvPicPr/>
          <p:nvPr/>
        </p:nvPicPr>
        <p:blipFill>
          <a:blip r:embed="rId2"/>
          <a:stretch/>
        </p:blipFill>
        <p:spPr>
          <a:xfrm>
            <a:off x="3564000" y="6421320"/>
            <a:ext cx="1584360" cy="297000"/>
          </a:xfrm>
          <a:prstGeom prst="rect">
            <a:avLst/>
          </a:prstGeom>
          <a:ln w="0">
            <a:noFill/>
          </a:ln>
        </p:spPr>
      </p:pic>
      <p:sp>
        <p:nvSpPr>
          <p:cNvPr id="14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3D7A-621B-49DC-A21E-EFE7A47169D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19" descr="vMlogo"/>
          <p:cNvPicPr/>
          <p:nvPr/>
        </p:nvPicPr>
        <p:blipFill>
          <a:blip r:embed="rId2"/>
          <a:stretch/>
        </p:blipFill>
        <p:spPr>
          <a:xfrm>
            <a:off x="3564000" y="6421320"/>
            <a:ext cx="1584360" cy="297000"/>
          </a:xfrm>
          <a:prstGeom prst="rect">
            <a:avLst/>
          </a:prstGeom>
          <a:ln w="0">
            <a:noFill/>
          </a:ln>
        </p:spPr>
      </p:pic>
      <p:sp>
        <p:nvSpPr>
          <p:cNvPr id="190"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5"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8DB3-74FB-4426-86BD-CAA60200615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928800" y="1428840"/>
            <a:ext cx="7400880" cy="2000160"/>
          </a:xfrm>
          <a:prstGeom prst="rect">
            <a:avLst/>
          </a:prstGeom>
          <a:noFill/>
          <a:ln w="0">
            <a:noFill/>
          </a:ln>
        </p:spPr>
        <p:txBody>
          <a:bodyPr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Balloon XBd TL"/>
              </a:rPr>
              <a:t>Iepriekšējās projektu iesniegumu atlases kārtas iesniegumu vērtēšanas pieredze</a:t>
            </a:r>
            <a:endParaRPr b="0" lang="en-US" sz="2800" spc="-1" strike="noStrike">
              <a:solidFill>
                <a:srgbClr val="000000"/>
              </a:solidFill>
              <a:latin typeface="Perpetua"/>
            </a:endParaRPr>
          </a:p>
        </p:txBody>
      </p:sp>
      <p:sp>
        <p:nvSpPr>
          <p:cNvPr id="235" name="PlaceHolder 2"/>
          <p:cNvSpPr>
            <a:spLocks noGrp="1"/>
          </p:cNvSpPr>
          <p:nvPr>
            <p:ph type="title"/>
          </p:nvPr>
        </p:nvSpPr>
        <p:spPr>
          <a:xfrm>
            <a:off x="857160" y="2071800"/>
            <a:ext cx="7407360" cy="9000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696464"/>
              </a:solidFill>
              <a:latin typeface="Franklin Gothic Book"/>
            </a:endParaRPr>
          </a:p>
        </p:txBody>
      </p:sp>
      <p:pic>
        <p:nvPicPr>
          <p:cNvPr id="236" name="Picture 3" descr=""/>
          <p:cNvPicPr/>
          <p:nvPr/>
        </p:nvPicPr>
        <p:blipFill>
          <a:blip r:embed="rId1"/>
          <a:stretch/>
        </p:blipFill>
        <p:spPr>
          <a:xfrm>
            <a:off x="3357720" y="5429160"/>
            <a:ext cx="2482560" cy="428760"/>
          </a:xfrm>
          <a:prstGeom prst="rect">
            <a:avLst/>
          </a:prstGeom>
          <a:ln w="0">
            <a:noFill/>
          </a:ln>
          <a:effectLst>
            <a:outerShdw dist="50760" dir="5400000" blurRad="0" rotWithShape="0">
              <a:srgbClr val="000000">
                <a:alpha val="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56760" y="274320"/>
            <a:ext cx="8572680" cy="654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696464"/>
                </a:solidFill>
                <a:latin typeface="Franklin Gothic Book"/>
              </a:rPr>
              <a:t>Svītrotie kritēriji (pievienojamie dokumenti)</a:t>
            </a:r>
            <a:endParaRPr b="0" lang="en-US" sz="3600" spc="-1" strike="noStrike">
              <a:solidFill>
                <a:srgbClr val="696464"/>
              </a:solidFill>
              <a:latin typeface="Franklin Gothic Book"/>
            </a:endParaRPr>
          </a:p>
        </p:txBody>
      </p:sp>
      <p:sp>
        <p:nvSpPr>
          <p:cNvPr id="259" name=""/>
          <p:cNvSpPr txBox="1"/>
          <p:nvPr/>
        </p:nvSpPr>
        <p:spPr>
          <a:xfrm>
            <a:off x="499680" y="1142640"/>
            <a:ext cx="8186760" cy="4876920"/>
          </a:xfrm>
          <a:prstGeom prst="rect">
            <a:avLst/>
          </a:prstGeom>
          <a:noFill/>
          <a:ln w="0">
            <a:noFill/>
          </a:ln>
        </p:spPr>
        <p:txBody>
          <a:bodyPr anchor="t">
            <a:normAutofit fontScale="97000"/>
          </a:bodyPr>
          <a:p>
            <a:pPr marL="264600" indent="-26460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ff0000"/>
                </a:solidFill>
                <a:latin typeface="Arial Narrow"/>
              </a:rPr>
              <a:t>3) Atvieglojumi projekta pieteicējam (nav jāpievieno projekta iesniegumam):</a:t>
            </a:r>
            <a:endParaRPr b="0" lang="en-US" sz="2400" spc="-1" strike="noStrike">
              <a:solidFill>
                <a:srgbClr val="000000"/>
              </a:solidFill>
              <a:latin typeface="Perpetua"/>
            </a:endParaRPr>
          </a:p>
          <a:p>
            <a:pPr marL="264600" indent="-26460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dokumenti, kas apliecina to, ka Kohēzijas fonda projekta iesniedzējam ir tiesības veikt būvdarbus zemesgabalos, kur Kohēzijas fonda projekta ietvaros paredzēti būvdarbi</a:t>
            </a:r>
            <a:endParaRPr b="0" lang="en-US" sz="2400" spc="-1" strike="noStrike">
              <a:solidFill>
                <a:srgbClr val="000000"/>
              </a:solidFill>
              <a:latin typeface="Perpetua"/>
            </a:endParaRPr>
          </a:p>
          <a:p>
            <a:pPr marL="264600" indent="-26460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a pašvaldība atrodas finanšu stabilizācijas procesā, ir iesniegta normatīvajos aktos paredzētā dokumentācija, kas apliecina atļauju pašvaldībai īstenot Kohēzijas fonda projektu</a:t>
            </a:r>
            <a:endParaRPr b="0" lang="en-US" sz="2400" spc="-1" strike="noStrike">
              <a:solidFill>
                <a:srgbClr val="000000"/>
              </a:solidFill>
              <a:latin typeface="Perpetua"/>
            </a:endParaRPr>
          </a:p>
          <a:p>
            <a:pPr marL="264600" indent="-26460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Kohēzijas fonda projekta indikatīvais iepirkumu plāns</a:t>
            </a:r>
            <a:endParaRPr b="0" lang="en-US" sz="2400" spc="-1" strike="noStrike">
              <a:solidFill>
                <a:srgbClr val="000000"/>
              </a:solidFill>
              <a:latin typeface="Perpetua"/>
            </a:endParaRPr>
          </a:p>
          <a:p>
            <a:pPr marL="264600" indent="-264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Narrow"/>
              </a:rPr>
              <a:t>Projekta iesniedzējs ar savu parakstu apliecina (MK not. 3.pielikuma 8.sadaļa), ka infrastruktūra, kas nepieciešama ūdenssaimniecības sabiedrisko pakalpojumu sniegšanai, pieder projekta iesniedzējam.</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654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696464"/>
                </a:solidFill>
                <a:latin typeface="Franklin Gothic Book"/>
              </a:rPr>
              <a:t>Jaunie grozījumi (izstrādes stadijā)</a:t>
            </a:r>
            <a:endParaRPr b="0" lang="en-US" sz="4000" spc="-1" strike="noStrike">
              <a:solidFill>
                <a:srgbClr val="696464"/>
              </a:solidFill>
              <a:latin typeface="Franklin Gothic Book"/>
            </a:endParaRPr>
          </a:p>
        </p:txBody>
      </p:sp>
      <p:sp>
        <p:nvSpPr>
          <p:cNvPr id="261" name=""/>
          <p:cNvSpPr txBox="1"/>
          <p:nvPr/>
        </p:nvSpPr>
        <p:spPr>
          <a:xfrm>
            <a:off x="357120" y="1071360"/>
            <a:ext cx="8501040" cy="49482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0000"/>
                </a:solidFill>
                <a:latin typeface="Arial Narrow"/>
              </a:rPr>
              <a:t>4) precizēti gadījumi, kuros tiek veiktas izmaiņas civiltiesiskajos līgumos vai vienošanās tekstā par projekta realizāciju</a:t>
            </a:r>
            <a:endParaRPr b="0" lang="en-US" sz="2400" spc="-1" strike="noStrike">
              <a:solidFill>
                <a:srgbClr val="000000"/>
              </a:solidFill>
              <a:latin typeface="Perpetua"/>
            </a:endParaRPr>
          </a:p>
          <a:p>
            <a:pPr marL="245520" indent="-24552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Veiktas izmaiņas noteikumu 61.punktā: „61. Civiltiesiskajā līgumā vai vienošanās dokumentā par Kohēzijas fonda projekta īstenošanu izdara grozījumus atbilstoši normatīvajiem aktiem, kas nosaka kārtību, kādā Eiropas Savienības struktūrfondu un Kohēzijas fonda vadībā iesaistītās institūcijas nodrošina plānošanas dokumentu sagatavošanu un šo fondu ieviešanu, kā arī šādos gadījumos:</a:t>
            </a:r>
            <a:endParaRPr b="0" lang="en-US" sz="2400" spc="-1" strike="noStrike">
              <a:solidFill>
                <a:srgbClr val="000000"/>
              </a:solidFill>
              <a:latin typeface="Perpetua"/>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61.1. izmaiņas neattiecināmajās izmaksās pārsniedz 20 % no to summas un tas izmaina Kohēzijas fonda projekta finansēšanas plānu;</a:t>
            </a:r>
            <a:endParaRPr b="0" lang="en-US" sz="2400" spc="-1" strike="noStrike">
              <a:solidFill>
                <a:srgbClr val="000000"/>
              </a:solidFill>
              <a:latin typeface="Perpetua"/>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61.2. Kohēzijas fonda projekta fizisko rādītāju izmaiņas pārsniedz piecus procentus no Kohēzija fonda projektam apstiprinātajām attiecināmajām izmaksām;</a:t>
            </a:r>
            <a:endParaRPr b="0" lang="en-US" sz="2400" spc="-1" strike="noStrike">
              <a:solidFill>
                <a:srgbClr val="000000"/>
              </a:solidFill>
              <a:latin typeface="Perpetua"/>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61.3. izmaiņas projekta iepirkumu plānā maina iepirkumu kopējo apjomu”;</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680"/>
            <a:ext cx="7772400" cy="797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696464"/>
                </a:solidFill>
                <a:latin typeface="Franklin Gothic Book"/>
              </a:rPr>
              <a:t>Grozījumi MK not. Nr.418</a:t>
            </a:r>
            <a:endParaRPr b="0" lang="en-US" sz="4000" spc="-1" strike="noStrike">
              <a:solidFill>
                <a:srgbClr val="696464"/>
              </a:solidFill>
              <a:latin typeface="Franklin Gothic Book"/>
            </a:endParaRPr>
          </a:p>
        </p:txBody>
      </p:sp>
      <p:sp>
        <p:nvSpPr>
          <p:cNvPr id="263" name=""/>
          <p:cNvSpPr txBox="1"/>
          <p:nvPr/>
        </p:nvSpPr>
        <p:spPr>
          <a:xfrm>
            <a:off x="714240" y="1447920"/>
            <a:ext cx="797256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Narrow"/>
              </a:rPr>
              <a:t>Atbilstoši grozījumiem MK not. Nr.418 būtu nepieciešams veikt grozījumus MK not. Nr. 836, kas paredzētu izmaiņas attiecībā uz avansu maksājumiem un projektu budžetu, tomēr sakarā ar VIDM nostāju pret šiem grozījumiem, joprojām notiek saskaņošana ar vadošo iestādi par iespējamu budžeta saglabāšanu šajā aktivitātē.</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676520" y="274680"/>
            <a:ext cx="725328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696464"/>
                </a:solidFill>
                <a:latin typeface="Franklin Gothic Book"/>
              </a:rPr>
              <a:t>Nepilnības projektu iesniegumos</a:t>
            </a:r>
            <a:endParaRPr b="0" lang="en-US" sz="3600" spc="-1" strike="noStrike">
              <a:solidFill>
                <a:srgbClr val="696464"/>
              </a:solidFill>
              <a:latin typeface="Franklin Gothic Book"/>
            </a:endParaRPr>
          </a:p>
        </p:txBody>
      </p:sp>
      <p:sp>
        <p:nvSpPr>
          <p:cNvPr id="238"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C65D-8D87-46D9-80DD-BBE4C625863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39" name=""/>
          <p:cNvGraphicFramePr/>
          <p:nvPr/>
        </p:nvGraphicFramePr>
        <p:xfrm>
          <a:off x="428760" y="1357200"/>
          <a:ext cx="8229600" cy="3764160"/>
        </p:xfrm>
        <a:graphic>
          <a:graphicData uri="http://schemas.openxmlformats.org/drawingml/2006/table">
            <a:tbl>
              <a:tblPr/>
              <a:tblGrid>
                <a:gridCol w="614160"/>
                <a:gridCol w="3071880"/>
                <a:gridCol w="1285920"/>
                <a:gridCol w="3257640"/>
              </a:tblGrid>
              <a:tr h="1071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Times New Roman"/>
                          <a:ea typeface="Times New Roman"/>
                        </a:rPr>
                        <a:t>Nr.p.k. </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Times New Roman"/>
                          <a:ea typeface="Times New Roman"/>
                        </a:rPr>
                        <a:t>Kritērija nosaukums</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Times New Roman"/>
                          <a:ea typeface="Times New Roman"/>
                        </a:rPr>
                        <a:t>Kļūdu skaits</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Times New Roman"/>
                          <a:ea typeface="Times New Roman"/>
                        </a:rPr>
                        <a:t>Problēma</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2692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3.5.</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eff6"/>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Kohēzijas fonda projekta iesniegums atbilst aktivitātes attiecināmajām izmaksām: būvdarbu izmaksas;</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eff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eff6"/>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Projekta iesnieguma 3.un 4.pielikumā neprecīzi norādītas pozīciju izmaksu kopsummas; 2) Projekta iesnieguma 3.pielikumā nav norādītas pareizas kopsummas 3) Projekta iesniegumam nav pievienota būvdarbu tāme saskaņā ar publisko iepirkumu reglamentējošajos normatīvajos aktos noteikto paredzamās līgumcenas noteikšanas kārtību.</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eff6"/>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160" y="274680"/>
            <a:ext cx="718164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696464"/>
                </a:solidFill>
                <a:latin typeface="Franklin Gothic Book"/>
              </a:rPr>
              <a:t>Nepilnības projektu iesniegumos (1)</a:t>
            </a:r>
            <a:endParaRPr b="0" lang="en-US" sz="3200" spc="-1" strike="noStrike">
              <a:solidFill>
                <a:srgbClr val="696464"/>
              </a:solidFill>
              <a:latin typeface="Franklin Gothic Book"/>
            </a:endParaRPr>
          </a:p>
        </p:txBody>
      </p:sp>
      <p:sp>
        <p:nvSpPr>
          <p:cNvPr id="241"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F780-AFF1-4BF0-9D91-1B7EA4E5EF7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42" name=""/>
          <p:cNvGraphicFramePr/>
          <p:nvPr/>
        </p:nvGraphicFramePr>
        <p:xfrm>
          <a:off x="428760" y="1285920"/>
          <a:ext cx="8229600" cy="4815000"/>
        </p:xfrm>
        <a:graphic>
          <a:graphicData uri="http://schemas.openxmlformats.org/drawingml/2006/table">
            <a:tbl>
              <a:tblPr/>
              <a:tblGrid>
                <a:gridCol w="614160"/>
                <a:gridCol w="2886120"/>
                <a:gridCol w="785880"/>
                <a:gridCol w="3943440"/>
              </a:tblGrid>
              <a:tr h="6310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ea typeface="Times New Roman"/>
                        </a:rPr>
                        <a:t>Nr.p.k.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ea typeface="Times New Roman"/>
                        </a:rPr>
                        <a:t>Kritērija nosaukum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ea typeface="Times New Roman"/>
                        </a:rPr>
                        <a:t>Skait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ea typeface="Times New Roman"/>
                        </a:rPr>
                        <a:t>Problēm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14731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Ieviešanas struktūrshēma un plānotais cilvēkresursu nodrošinājums nodrošina normatīvajos aktos noteiktās finansējuma saņēmēja funkcijas:</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Raksturojot projekta īstenošanas un vadības kapacitāti, nav noteikts galveno uzdevumu sadalījums starp projekta vadībā iesaistīto personālu. 2) Projekta iesnieguma 3.1.punktā nav pilnībā un kļūdaini raksturota projekta īstenošanas un vadības kapacitāte.</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741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Iesniegums sagatavots atbilstoši aktivitātes iesnieguma veidlapai</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1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projekta iesnieguma veidlapas 8.sadaļas apliecinājums nav atbilstošs veidlapai (iztrūkst teikumi)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984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5.</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iesniegts viens Kohēzijas fonda projekta oriģināls un viena kopija, kā arī elektroniskā versija bez pielikumiem</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Nav iesniegta projekta iesnieguma kopija. 2) Pievienotais elektroniskais datu nesējs (disks) ir tukšs.</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985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gan Kohēzijas fonda projekta oriģināls, gan kopija iesniegta caurauklota, pievienoto dokumentu lapas numurētas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Nav iesniegta projekta iesnieguma kopija. 2) Projekta iesnieguma oriģināls nav caurauklots, lapas nav numurētas. 3) Projekta iesnieguma kopija nav caurauklota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676520" y="274680"/>
            <a:ext cx="725328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696464"/>
                </a:solidFill>
                <a:latin typeface="Franklin Gothic Book"/>
              </a:rPr>
              <a:t>Nepilnības projektu iesniegumos (2)</a:t>
            </a:r>
            <a:endParaRPr b="0" lang="en-US" sz="3200" spc="-1" strike="noStrike">
              <a:solidFill>
                <a:srgbClr val="696464"/>
              </a:solidFill>
              <a:latin typeface="Franklin Gothic Book"/>
            </a:endParaRPr>
          </a:p>
        </p:txBody>
      </p:sp>
      <p:sp>
        <p:nvSpPr>
          <p:cNvPr id="244"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1A78-B0CA-4A82-87F1-AA3A292699C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45" name=""/>
          <p:cNvGraphicFramePr/>
          <p:nvPr/>
        </p:nvGraphicFramePr>
        <p:xfrm>
          <a:off x="428760" y="1285920"/>
          <a:ext cx="8229600" cy="4846680"/>
        </p:xfrm>
        <a:graphic>
          <a:graphicData uri="http://schemas.openxmlformats.org/drawingml/2006/table">
            <a:tbl>
              <a:tblPr/>
              <a:tblGrid>
                <a:gridCol w="614160"/>
                <a:gridCol w="2886120"/>
                <a:gridCol w="1071720"/>
                <a:gridCol w="3657600"/>
              </a:tblGrid>
              <a:tr h="12618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ea typeface="Times New Roman"/>
                        </a:rPr>
                        <a:t>Nr.p.k. </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ea typeface="Times New Roman"/>
                        </a:rPr>
                        <a:t>Kritērija nosaukums</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ea typeface="Times New Roman"/>
                        </a:rPr>
                        <a:t>Skaits</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ea typeface="Times New Roman"/>
                        </a:rPr>
                        <a:t>Problēma</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1381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Kohēzijas fonda projekta iesniegums ir pilnībā aizpildīts, tai skaitā projekta iesniegumam pievienoti visi norādītie pielikumi:</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2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2, 2.7.,2.8. punkti nav aizpildīti pilnībā, nesakrīt informācija</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2204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6.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projekta iesniegumam pievienoti visi norādītie pielikumi: būvdarbu tāme saskaņā ar publisko iepirkumu reglamentējošajos normatīvajos aktos noteikto paredzamās līgumcenas noteikšanas kārtību;</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Projekta iesniegumam nav pievienota atbilstoša būvdarbu tāme 2) Projekta iesnieguma 4.pielikumā nav norādītas konkrētas būvprojekta ekspertīzes izmaksas.</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676160" y="274680"/>
            <a:ext cx="711036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696464"/>
                </a:solidFill>
                <a:latin typeface="Franklin Gothic Book"/>
              </a:rPr>
              <a:t>Nepilnības projektu iesniegumos (3)</a:t>
            </a:r>
            <a:endParaRPr b="0" lang="en-US" sz="3200" spc="-1" strike="noStrike">
              <a:solidFill>
                <a:srgbClr val="696464"/>
              </a:solidFill>
              <a:latin typeface="Franklin Gothic Book"/>
            </a:endParaRPr>
          </a:p>
        </p:txBody>
      </p:sp>
      <p:sp>
        <p:nvSpPr>
          <p:cNvPr id="247"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F41C-23B6-48FC-9874-AF4265D8D51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48" name=""/>
          <p:cNvGraphicFramePr/>
          <p:nvPr/>
        </p:nvGraphicFramePr>
        <p:xfrm>
          <a:off x="214200" y="1173240"/>
          <a:ext cx="8715600" cy="4694040"/>
        </p:xfrm>
        <a:graphic>
          <a:graphicData uri="http://schemas.openxmlformats.org/drawingml/2006/table">
            <a:tbl>
              <a:tblPr/>
              <a:tblGrid>
                <a:gridCol w="571680"/>
                <a:gridCol w="3571920"/>
                <a:gridCol w="714240"/>
                <a:gridCol w="3857760"/>
              </a:tblGrid>
              <a:tr h="560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ea typeface="Times New Roman"/>
                        </a:rPr>
                        <a:t>Nr.p.k.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ea typeface="Times New Roman"/>
                        </a:rPr>
                        <a:t>Kritērija nosaukum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ea typeface="Times New Roman"/>
                        </a:rPr>
                        <a:t>Skait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ea typeface="Times New Roman"/>
                        </a:rPr>
                        <a:t>Problēm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1929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6.4.</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projekta iesniegumam pievienoti visi norādītie pielikumi: dokumenti, kas apliecina to, ka Kohēzijas fonda projekta iesniedzējam ir tiesības veikt būvdarbus zemesgabalos, kur Kohēzijas fonda projekta ietvaros paredzēti būvdarbi;</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22</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Projekta iesnieguma pielikumā  esošie dokumenti nesniedz pilnīgu pārskatu par to, ka projekta iesniedzējam ir tiesības veikt būvdarbus zemesgabalos, kur Kohēzijas fonda projekta ietvaros paredzēti būvdarbi.</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2204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6.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rojekta iesniegumam pievienoti visi norādītie pielikumi: pārvaldes lēmuma, pārvaldes līguma vai līguma starp pašvaldību un kapitālsabiedrību (atkarībā no Kohēzijas fonda projekta iesniedzēja juridiskā statusa) kopija par ūdenssaimniecības sabiedrisko pakalpojumu sniegšanu;</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7</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ctr">
                      <a:noAutofit/>
                    </a:bodyPr>
                    <a:p>
                      <a:pPr marL="228600" indent="-2286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nav pievienota atbilstoša līguma kopija </a:t>
                      </a:r>
                      <a:endParaRPr b="0" lang="en-US" sz="1800" spc="-1" strike="noStrike">
                        <a:solidFill>
                          <a:srgbClr val="000000"/>
                        </a:solidFill>
                        <a:latin typeface="Arial"/>
                      </a:endParaRPr>
                    </a:p>
                    <a:p>
                      <a:pPr marL="228600" indent="-2286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nav iesniegta līguma kopija par visu projekta teritoriju</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676520" y="274680"/>
            <a:ext cx="70387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696464"/>
                </a:solidFill>
                <a:latin typeface="Franklin Gothic Book"/>
              </a:rPr>
              <a:t>Nepilnības projektu iesniegumos (4)</a:t>
            </a:r>
            <a:endParaRPr b="0" lang="en-US" sz="3200" spc="-1" strike="noStrike">
              <a:solidFill>
                <a:srgbClr val="696464"/>
              </a:solidFill>
              <a:latin typeface="Franklin Gothic Book"/>
            </a:endParaRPr>
          </a:p>
        </p:txBody>
      </p:sp>
      <p:sp>
        <p:nvSpPr>
          <p:cNvPr id="250"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7F3F-A78D-41DA-AE02-0B937B49495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51" name=""/>
          <p:cNvGraphicFramePr/>
          <p:nvPr/>
        </p:nvGraphicFramePr>
        <p:xfrm>
          <a:off x="214200" y="1197000"/>
          <a:ext cx="8715600" cy="4216320"/>
        </p:xfrm>
        <a:graphic>
          <a:graphicData uri="http://schemas.openxmlformats.org/drawingml/2006/table">
            <a:tbl>
              <a:tblPr/>
              <a:tblGrid>
                <a:gridCol w="650880"/>
                <a:gridCol w="2492640"/>
                <a:gridCol w="1428480"/>
                <a:gridCol w="4143600"/>
              </a:tblGrid>
              <a:tr h="6310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ea typeface="Times New Roman"/>
                        </a:rPr>
                        <a:t>Nr.p.k.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ea typeface="Times New Roman"/>
                        </a:rPr>
                        <a:t>Kritērija nosaukum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ea typeface="Times New Roman"/>
                        </a:rPr>
                        <a:t>Skait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ea typeface="Times New Roman"/>
                        </a:rPr>
                        <a:t>Problēm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1655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6.1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eff6"/>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rojekta iesniegumam pievienoti visi norādītie pielikumi: Kohēzijas fonda projekta naudas plūsmas prognoze;</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eff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eff6"/>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Naudas plūsma ir norādīta EUR un neatbilstoši noapaļoti skaitļi.  2) Iesniegtā Kohēzijas fonda projekta naudas plūsmas prognoze (pielikums projekta iesniegumam Nr.15) nav precīza attiecībā pret projekta finanšu plānu.</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eff6"/>
                    </a:solidFill>
                  </a:tcPr>
                </a:tc>
              </a:tr>
              <a:tr h="1929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6.1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projekta iesniegumam pievienoti visi norādītie pielikumi: Kohēzijas fonda projekta indikatīvais iepirkumu plāns.</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Projekta iesnieguma pielikumā esošajā Kohēzijas fonda projekta indikatīvajā iepirkumu plānā ir pretrunīgi iepirkuma uzsākšanas paziņojuma publikācijas datumi un līguma parakstīšanas datumi. 2) nav pievienots Kohēzijas fonda projekta indikatīvais iepirkuma plāns</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itle 1"/>
          <p:cNvSpPr/>
          <p:nvPr/>
        </p:nvSpPr>
        <p:spPr>
          <a:xfrm>
            <a:off x="642960" y="426960"/>
            <a:ext cx="8196120" cy="7873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696464"/>
                </a:solidFill>
                <a:latin typeface="Franklin Gothic Book"/>
              </a:rPr>
              <a:t>Veiktās izmaiņas normatīvajos aktos</a:t>
            </a:r>
            <a:endParaRPr b="0" lang="en-US" sz="4000" spc="-1" strike="noStrike">
              <a:solidFill>
                <a:srgbClr val="000000"/>
              </a:solidFill>
              <a:latin typeface="Arial"/>
            </a:endParaRPr>
          </a:p>
        </p:txBody>
      </p:sp>
      <p:sp>
        <p:nvSpPr>
          <p:cNvPr id="253" name="Content Placeholder 2"/>
          <p:cNvSpPr/>
          <p:nvPr/>
        </p:nvSpPr>
        <p:spPr>
          <a:xfrm>
            <a:off x="357120" y="1285920"/>
            <a:ext cx="8481960" cy="488628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Perpetua"/>
              </a:rPr>
              <a:t>	</a:t>
            </a:r>
            <a:r>
              <a:rPr b="1" lang="lv-LV" sz="2600" spc="-1" strike="noStrike">
                <a:solidFill>
                  <a:srgbClr val="000000"/>
                </a:solidFill>
                <a:latin typeface="Arial Narrow"/>
              </a:rPr>
              <a:t>Veiktās izmaiņas ietekmē projektu iesniegumu sagatavošanu un izvirzītos nosacījumus projektu iesniedzējiem un projektu pieteikumiem.</a:t>
            </a:r>
            <a:endParaRPr b="0" lang="en-US" sz="2600" spc="-1" strike="noStrike">
              <a:solidFill>
                <a:srgbClr val="000000"/>
              </a:solidFill>
              <a:latin typeface="Arial"/>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Narrow"/>
              </a:rPr>
              <a:t>Horizontālajos normatīvajos aktos: MK noteikumi Nr.418.,419 – valsts budžeta līdzfinansējuma pieejamību, maksāšanas kārtību, avansa nepieejamību finansējuma saņēmējam;</a:t>
            </a:r>
            <a:endParaRPr b="0" lang="en-US" sz="2600" spc="-1" strike="noStrike">
              <a:solidFill>
                <a:srgbClr val="000000"/>
              </a:solidFill>
              <a:latin typeface="Arial"/>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Narrow"/>
              </a:rPr>
              <a:t>MK noteikumi Nr. 836  - atbilstoši pieļautajām neprecizitātēm vai kļūdām projektu 1. uzsaukuma kārtā atlasītajos projektos un atbilstoši horizontālo normatīvo aktu prasībām</a:t>
            </a:r>
            <a:endParaRPr b="0" lang="en-US" sz="2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85840" y="274320"/>
            <a:ext cx="85723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696464"/>
                </a:solidFill>
                <a:latin typeface="Franklin Gothic Book"/>
              </a:rPr>
              <a:t>Veiktie grozījumi (09.06.2009)atbilstoši MK noteikumiem Nr.419</a:t>
            </a:r>
            <a:endParaRPr b="0" lang="en-US" sz="3600" spc="-1" strike="noStrike">
              <a:solidFill>
                <a:srgbClr val="696464"/>
              </a:solidFill>
              <a:latin typeface="Franklin Gothic Book"/>
            </a:endParaRPr>
          </a:p>
        </p:txBody>
      </p:sp>
      <p:sp>
        <p:nvSpPr>
          <p:cNvPr id="255" name=""/>
          <p:cNvSpPr txBox="1"/>
          <p:nvPr/>
        </p:nvSpPr>
        <p:spPr>
          <a:xfrm>
            <a:off x="285840" y="1357200"/>
            <a:ext cx="8572320" cy="4572000"/>
          </a:xfrm>
          <a:prstGeom prst="rect">
            <a:avLst/>
          </a:prstGeom>
          <a:noFill/>
          <a:ln w="0">
            <a:noFill/>
          </a:ln>
        </p:spPr>
        <p:txBody>
          <a:bodyPr anchor="t">
            <a:normAutofit fontScale="96000"/>
          </a:bodyPr>
          <a:p>
            <a:pPr marL="438840" indent="-438840" algn="just">
              <a:lnSpc>
                <a:spcPct val="100000"/>
              </a:lnSpc>
              <a:spcBef>
                <a:spcPts val="575"/>
              </a:spcBef>
              <a:buClr>
                <a:srgbClr val="d34817"/>
              </a:buClr>
              <a:buSzPct val="85000"/>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0000"/>
                </a:solidFill>
                <a:latin typeface="Arial Narrow"/>
              </a:rPr>
              <a:t>Precizētas neattiecināmās izmaksas</a:t>
            </a:r>
            <a:endParaRPr b="0" lang="en-US" sz="2000" spc="-1" strike="noStrike">
              <a:solidFill>
                <a:srgbClr val="000000"/>
              </a:solidFill>
              <a:latin typeface="Perpetua"/>
            </a:endParaRPr>
          </a:p>
          <a:p>
            <a:pPr marL="438840" indent="-4388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Narrow"/>
              </a:rPr>
              <a:t>11.Neattiecināmās izmaksas ir: </a:t>
            </a:r>
            <a:endParaRPr b="0" lang="en-US" sz="2000" spc="-1" strike="noStrike">
              <a:solidFill>
                <a:srgbClr val="000000"/>
              </a:solidFill>
              <a:latin typeface="Perpetua"/>
            </a:endParaRPr>
          </a:p>
          <a:p>
            <a:pPr marL="438840" indent="-4388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Narrow"/>
              </a:rPr>
              <a:t> </a:t>
            </a:r>
            <a:r>
              <a:rPr b="0" lang="lv-LV" sz="2000" spc="-1" strike="noStrike">
                <a:solidFill>
                  <a:srgbClr val="000000"/>
                </a:solidFill>
                <a:latin typeface="Arial Narrow"/>
              </a:rPr>
              <a:t>tehniski ekonomiskā pamatojuma, ar to saistītās aktualizācijas un ar ietekmes uz vidi novērtējumu saistītās dokumentācijas izstrādes izmaksas, kas pārsniedz 2 % no Kohēzijas fonda projekta iesniegumā plānotajām kopējām attiecināmajām izmaksām; </a:t>
            </a:r>
            <a:endParaRPr b="0" lang="en-US" sz="2000" spc="-1" strike="noStrike">
              <a:solidFill>
                <a:srgbClr val="000000"/>
              </a:solidFill>
              <a:latin typeface="Perpetua"/>
            </a:endParaRPr>
          </a:p>
          <a:p>
            <a:pPr marL="438840" indent="-4388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Narrow"/>
              </a:rPr>
              <a:t>būvprojekta izstrādes un ar to saistītās būvekspertīzes izmaksas, kas pārsniedz 4 % no Kohēzijas fonda projekta iesniegumā plānotajām kopējām attiecināmajām izmaksām; </a:t>
            </a:r>
            <a:endParaRPr b="0" lang="en-US" sz="2000" spc="-1" strike="noStrike">
              <a:solidFill>
                <a:srgbClr val="000000"/>
              </a:solidFill>
              <a:latin typeface="Perpetua"/>
            </a:endParaRPr>
          </a:p>
          <a:p>
            <a:pPr marL="438840" indent="-4388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Narrow"/>
              </a:rPr>
              <a:t>autoruzraudzības izmaksas, kas pārsniedz 0,5 % no būvdarbu attiecināmajām izmaksām; </a:t>
            </a:r>
            <a:endParaRPr b="0" lang="en-US" sz="2000" spc="-1" strike="noStrike">
              <a:solidFill>
                <a:srgbClr val="000000"/>
              </a:solidFill>
              <a:latin typeface="Perpetua"/>
            </a:endParaRPr>
          </a:p>
          <a:p>
            <a:pPr marL="438840" indent="-4388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Narrow"/>
              </a:rPr>
              <a:t>būvuzraudzības izmaksas, kas pārsniedz 3 % no būvdarbu attiecināmajām izmaksām; </a:t>
            </a:r>
            <a:endParaRPr b="0" lang="en-US" sz="2000" spc="-1" strike="noStrike">
              <a:solidFill>
                <a:srgbClr val="000000"/>
              </a:solidFill>
              <a:latin typeface="Perpetua"/>
            </a:endParaRPr>
          </a:p>
          <a:p>
            <a:pPr marL="438840" indent="-4388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Narrow"/>
              </a:rPr>
              <a:t>notekūdeņu attīrīšanā uzkrāto dūņu pārstrādes un apsaimniekošanas izmaksas; </a:t>
            </a:r>
            <a:endParaRPr b="0" lang="en-US" sz="2000" spc="-1" strike="noStrike">
              <a:solidFill>
                <a:srgbClr val="000000"/>
              </a:solidFill>
              <a:latin typeface="Perpetua"/>
            </a:endParaRPr>
          </a:p>
          <a:p>
            <a:pPr marL="438840" indent="-4388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Narrow"/>
              </a:rPr>
              <a:t>elektrolīniju izbūves izmaksas; </a:t>
            </a:r>
            <a:endParaRPr b="0" lang="en-US" sz="2000" spc="-1" strike="noStrike">
              <a:solidFill>
                <a:srgbClr val="000000"/>
              </a:solidFill>
              <a:latin typeface="Perpetua"/>
            </a:endParaRPr>
          </a:p>
          <a:p>
            <a:pPr marL="438840" indent="-4388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Narrow"/>
              </a:rPr>
              <a:t>tāda aprīkojuma iegādes izmaksas, kas attiecas uz tīklu uzturēšanas un izbūves pasākumiem.</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
          <p:cNvSpPr txBox="1"/>
          <p:nvPr/>
        </p:nvSpPr>
        <p:spPr>
          <a:xfrm>
            <a:off x="428400" y="1447920"/>
            <a:ext cx="8258040" cy="4572000"/>
          </a:xfrm>
          <a:prstGeom prst="rect">
            <a:avLst/>
          </a:prstGeom>
          <a:noFill/>
          <a:ln w="0">
            <a:noFill/>
          </a:ln>
        </p:spPr>
        <p:txBody>
          <a:bodyPr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0000"/>
                </a:solidFill>
                <a:latin typeface="Arial Narrow"/>
              </a:rPr>
              <a:t>2) Precizētas prasības attiecībā uz finanšu rezervi projektā</a:t>
            </a: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11.</a:t>
            </a:r>
            <a:r>
              <a:rPr b="0" lang="lv-LV" sz="2400" spc="-1" strike="noStrike" baseline="30000">
                <a:solidFill>
                  <a:srgbClr val="000000"/>
                </a:solidFill>
                <a:latin typeface="Arial Narrow"/>
              </a:rPr>
              <a:t>1</a:t>
            </a:r>
            <a:r>
              <a:rPr b="0" lang="lv-LV" sz="2400" spc="-1" strike="noStrike">
                <a:solidFill>
                  <a:srgbClr val="000000"/>
                </a:solidFill>
                <a:latin typeface="Arial Narrow"/>
              </a:rPr>
              <a:t> Kohēzijas fonda projekta kopējo budžetu veido arī finanšu rezerve, kas var būt līdz 5 % no projekta kopējām attiecināmajām izmaksām. Projekta finanšu rezervi izmanto attiecināmo izmaksu segšanai. Pirms finanšu rezerves izmantošanas veic attiecīgos grozījumus civiltiesiskajā līgumā vai vienošanās dokumentā par Kohēzijas fonda projekta īstenošanu.</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4:55:39Z</dcterms:created>
  <dc:creator>Laura Bramane</dc:creator>
  <dc:description/>
  <dc:language>en-US</dc:language>
  <cp:lastModifiedBy>LauraB</cp:lastModifiedBy>
  <dcterms:modified xsi:type="dcterms:W3CDTF">2009-10-16T08:02:29Z</dcterms:modified>
  <cp:revision>763</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61033</vt:lpwstr>
  </property>
</Properties>
</file>