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B3547-7144-4C55-BE57-85C7929B2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2FA4-E721-4099-B8B1-E6030DDE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DB257-3DD4-4D10-A34A-C95EFC4F5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17915-0D96-41DE-A9A6-FB67D25F7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29C8E-5672-4CA8-9735-1B54071D9A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B3595-E1D2-4862-ABFE-A883573CC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732B6-5D44-4683-888F-012A19568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EA3B4-2051-4A62-88B4-73A2F40EB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701E8F-839D-4C0D-96F6-37DBB6B310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E98030-9196-4723-A7BD-85653117DE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8852A1-DACA-4740-9E8F-11CA563530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B335-F3F9-4CB3-9463-1E5D302A4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AA50-AC33-4D30-BCD2-EFE9864C7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6F030-EB1C-4198-AC7A-43C1A25B7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F7432-D53D-4459-823B-DAEA2FE55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DEB3E-1FC4-4158-B85C-237A32A38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A8DCE-1CB2-463D-B76F-8F5538D25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102B8-9248-477D-8A14-C8D1DA622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270A4-60E9-452B-99E8-419BCB68C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9B515-9BEE-4F28-AAFB-57546D9A2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267E-E3C0-4359-A49F-5AEB7F81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43A07-2C92-49A4-8821-E95E0A65E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B7342-42D0-4E26-AFED-EBA35998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AACAC-C13E-4D2E-B511-C5EFECB7B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5ACB6-D541-4BDD-8B34-BB2F99837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B25A1-380F-4277-9E01-098488E9A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7ABFF-2A99-46FE-9A43-A75AAB836E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16009-1FA8-40B8-BED5-BFC889D04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DE00A-6430-4BA9-9D9A-EF2988CB1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8E160-1F1A-4D85-8F24-E6423500F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E70FA-A11F-4315-A355-65EEE9A3D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B20F3-6B97-435A-A71C-60E493B3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33532-F6A4-4681-B6A8-9F14EDA9F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BDFE9-C5BA-4DA8-84BD-E5634350D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89783-7527-4B26-8EC1-28ADB41D8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01D60-1466-4569-BE1E-E4B6F56A0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8C0E9-EAC9-46DA-9B7F-2D14264F61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864E06-EE9A-4769-BA95-F56ACA094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8FAF7E-6B3D-4278-B0DF-C4C809B2E4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86BC1-18AD-4065-B1CF-DF0107CEAF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AECCB-F3B7-4A9D-95DE-665CF9305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444CE-E7EB-4353-880A-BB553891F8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A017-DFF1-420E-9BA7-6B97D374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F2A88-F0C4-4DFC-95BC-BDBF3C4B9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BE102-1FAA-48FD-BC55-8E68284E0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A8112-8EAC-429A-8E6E-678688357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4ECBC-7E0C-417D-8C0F-77681025E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F7EB5-772D-489E-8A97-8CF0986AC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AFF7C-52C6-46A0-A648-E5E4444E8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F3457-AC3B-4F6A-89FC-BB963D5EE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39CD5-4A1C-4989-9298-DF6C617B4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E1E5CB-D753-4AFE-BE19-4FFAE4F1C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3AC6E9-4152-4C36-BE3A-348B50A92C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BB166-B3EC-4782-9574-623FD2D8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24E04-A73D-4641-95D0-753121868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868FCB-D7F1-4BD1-960D-DE054078F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13479-8D28-4F5E-B8BD-E30C01E66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A9894-FDAC-46EE-853C-082A4988E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3DB2B-EA5D-4EBC-85FF-E0D3075B8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05092-02D1-4082-8098-3AB3F0FA6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E4CBC-75AA-4B73-8466-12046AD4B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38645-777D-4F94-A6AD-22C026D52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B0389-2024-4899-BE66-92886178B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FF848C-8E2C-4ED3-99D8-DFD3B479D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7269-C5C7-4068-9C11-3BBAF991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258844-48E0-4CD1-B8F7-A51232F4FC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1D7046-4D11-48DD-A987-397568C83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E55693-E5E4-4A7D-9037-AAAD61791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4EBBC-B68A-46D4-A733-A95E55BEFC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92BEB-5DC8-4A10-8BD6-78E2C7E83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1891E-2FCE-42BD-850E-582EA82F8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82236F-746A-455F-9C26-1190C2912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25365-FE5C-4E7D-94C8-13A596C76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DDC64-97F9-4F74-A921-5230E5C43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A1871-6818-4804-9C85-D75136981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504C-F493-4E96-B1FF-8E3BE169D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EB6EB-6647-4ABA-BD63-091DDF119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A40D97-882B-4DAD-9927-43328827A5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57725-0175-4684-8EC7-8587CF334F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E299C4-27F6-4B3E-A864-D17708713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18B9C-3889-4D11-AA6A-E73462B91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DBD23-001B-48E7-8AED-AE7A31920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69164-A9B1-4036-BA7A-EB1C1D0FA4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65D6A-B680-41BE-A7BE-0F8D78C4C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C5E18B-006F-43EF-961D-ABC254685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26430-9A2F-44F1-A373-18F2A12E4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9DC4-43DA-4353-8EAA-1302691E3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1DD7C-5FF2-4FA7-AF94-A73FF1969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6EDB3-CF13-4331-BABB-5AA47590B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75FFD-8149-4F87-966C-0BABA2E01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B28B34-DD1D-40A0-8214-E1DAAFE5D6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F549A7-8962-4B27-AB12-00C160A3D6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A155FF-E665-4F52-9352-B3BF02849B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C15C9-050C-4DBA-A930-0F7D84CC0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4BEE9-B9C6-47AB-A1E4-A71925FDD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D0640-D15F-4952-998F-7DB19B13B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0C544-B64D-4BD7-B0BA-7EC8B6728D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D87F-9888-419A-8523-D1CD90A5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99DC5-AD02-4282-93B9-1ED25EBD0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17066-F39C-4354-B797-C58782F5A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AE790-FF89-4A81-B03D-9FEC8E01B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B7319-F7FA-474F-AF5B-39BA6641D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B5FB77-E767-403F-AEDF-3923279CC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C3EDD0-EF90-4916-A313-AAA403726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4F12C5-CA28-42A4-A7C3-B4CDB37FB5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6A491-F811-415A-ABFB-75F687F4C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C6AEE7-FBB7-4F57-B40E-54364FF9AB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17699-A8C8-4050-A2FB-46C3B17F72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0950-93BC-4D64-8118-EA508E6C71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7" descr="vMlogo"/>
          <p:cNvPicPr/>
          <p:nvPr/>
        </p:nvPicPr>
        <p:blipFill>
          <a:blip r:embed="rId4"/>
          <a:stretch/>
        </p:blipFill>
        <p:spPr>
          <a:xfrm>
            <a:off x="6553080" y="6362640"/>
            <a:ext cx="2590920" cy="484200"/>
          </a:xfrm>
          <a:prstGeom prst="rect">
            <a:avLst/>
          </a:prstGeom>
          <a:ln w="0">
            <a:noFill/>
          </a:ln>
        </p:spPr>
      </p:pic>
      <p:sp>
        <p:nvSpPr>
          <p:cNvPr id="12"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ight Triangle 16"/>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18"/>
          <p:cNvGrpSpPr/>
          <p:nvPr/>
        </p:nvGrpSpPr>
        <p:grpSpPr>
          <a:xfrm>
            <a:off x="-3240" y="4952880"/>
            <a:ext cx="9147240" cy="1911600"/>
            <a:chOff x="-3240" y="4952880"/>
            <a:chExt cx="9147240" cy="1911600"/>
          </a:xfrm>
        </p:grpSpPr>
        <p:sp>
          <p:nvSpPr>
            <p:cNvPr id="51" name="Freeform 19"/>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Freeform 22"/>
            <p:cNvGrpSpPr/>
            <p:nvPr/>
          </p:nvGrpSpPr>
          <p:grpSpPr>
            <a:xfrm>
              <a:off x="2520" y="4992120"/>
              <a:ext cx="9141480" cy="1872360"/>
              <a:chOff x="2520" y="4992120"/>
              <a:chExt cx="9141480" cy="1872360"/>
            </a:xfrm>
          </p:grpSpPr>
          <p:pic>
            <p:nvPicPr>
              <p:cNvPr id="54" name="Freeform 22" descr=""/>
              <p:cNvPicPr/>
              <p:nvPr/>
            </p:nvPicPr>
            <p:blipFill>
              <a:blip r:embed="rId2"/>
              <a:stretch/>
            </p:blipFill>
            <p:spPr>
              <a:xfrm>
                <a:off x="2520" y="4992120"/>
                <a:ext cx="9141480" cy="1872360"/>
              </a:xfrm>
              <a:prstGeom prst="rect">
                <a:avLst/>
              </a:prstGeom>
              <a:ln w="0">
                <a:noFill/>
              </a:ln>
            </p:spPr>
          </p:pic>
          <p:sp>
            <p:nvSpPr>
              <p:cNvPr id="55"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Straight Connector 23" descr=""/>
            <p:cNvPicPr/>
            <p:nvPr/>
          </p:nvPicPr>
          <p:blipFill>
            <a:blip r:embed="rId3"/>
            <a:stretch/>
          </p:blipFill>
          <p:spPr>
            <a:xfrm>
              <a:off x="-3240" y="4986000"/>
              <a:ext cx="9147240" cy="814320"/>
            </a:xfrm>
            <a:prstGeom prst="rect">
              <a:avLst/>
            </a:prstGeom>
            <a:ln w="0">
              <a:noFill/>
            </a:ln>
          </p:spPr>
        </p:pic>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1095-D465-4530-AF3C-E9CA55DB480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Right Triangle 13"/>
          <p:cNvGrpSpPr/>
          <p:nvPr/>
        </p:nvGrpSpPr>
        <p:grpSpPr>
          <a:xfrm>
            <a:off x="-12600" y="5784840"/>
            <a:ext cx="3414600" cy="1092240"/>
            <a:chOff x="-12600" y="5784840"/>
            <a:chExt cx="3414600" cy="1092240"/>
          </a:xfrm>
        </p:grpSpPr>
        <p:pic>
          <p:nvPicPr>
            <p:cNvPr id="101" name="Right Triangle 13" descr=""/>
            <p:cNvPicPr/>
            <p:nvPr/>
          </p:nvPicPr>
          <p:blipFill>
            <a:blip r:embed="rId3"/>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 name="Straight Connector 14" descr=""/>
          <p:cNvPicPr/>
          <p:nvPr/>
        </p:nvPicPr>
        <p:blipFill>
          <a:blip r:embed="rId4"/>
          <a:stretch/>
        </p:blipFill>
        <p:spPr>
          <a:xfrm>
            <a:off x="-19080" y="5772240"/>
            <a:ext cx="3421080" cy="1109520"/>
          </a:xfrm>
          <a:prstGeom prst="rect">
            <a:avLst/>
          </a:prstGeom>
          <a:ln w="0">
            <a:noFill/>
          </a:ln>
        </p:spPr>
      </p:pic>
      <p:pic>
        <p:nvPicPr>
          <p:cNvPr id="104" name="Picture 17" descr="vMlogo"/>
          <p:cNvPicPr/>
          <p:nvPr/>
        </p:nvPicPr>
        <p:blipFill>
          <a:blip r:embed="rId5"/>
          <a:stretch/>
        </p:blipFill>
        <p:spPr>
          <a:xfrm>
            <a:off x="6553080" y="6362640"/>
            <a:ext cx="2590920" cy="484200"/>
          </a:xfrm>
          <a:prstGeom prst="rect">
            <a:avLst/>
          </a:prstGeom>
          <a:ln w="0">
            <a:noFill/>
          </a:ln>
        </p:spPr>
      </p:pic>
      <p:sp>
        <p:nvSpPr>
          <p:cNvPr id="105"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hevron 1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Chevron 18"/>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6913-9F4D-4C67-8640-758052F4E5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pic>
        <p:nvPicPr>
          <p:cNvPr id="155" name="Picture 17" descr="vMlogo"/>
          <p:cNvPicPr/>
          <p:nvPr/>
        </p:nvPicPr>
        <p:blipFill>
          <a:blip r:embed="rId5"/>
          <a:stretch/>
        </p:blipFill>
        <p:spPr>
          <a:xfrm>
            <a:off x="6553080" y="6362640"/>
            <a:ext cx="2590920" cy="484200"/>
          </a:xfrm>
          <a:prstGeom prst="rect">
            <a:avLst/>
          </a:prstGeom>
          <a:ln w="0">
            <a:noFill/>
          </a:ln>
        </p:spPr>
      </p:pic>
      <p:sp>
        <p:nvSpPr>
          <p:cNvPr id="156"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3936-C448-44C5-8391-68808967A28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4B7A-D9C4-44CF-ACAA-4794C82DC1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 name="Right Triangle 13"/>
          <p:cNvGrpSpPr/>
          <p:nvPr/>
        </p:nvGrpSpPr>
        <p:grpSpPr>
          <a:xfrm>
            <a:off x="-12600" y="5784840"/>
            <a:ext cx="3414600" cy="1092240"/>
            <a:chOff x="-12600" y="5784840"/>
            <a:chExt cx="3414600" cy="1092240"/>
          </a:xfrm>
        </p:grpSpPr>
        <p:pic>
          <p:nvPicPr>
            <p:cNvPr id="242" name="Right Triangle 13" descr=""/>
            <p:cNvPicPr/>
            <p:nvPr/>
          </p:nvPicPr>
          <p:blipFill>
            <a:blip r:embed="rId3"/>
            <a:stretch/>
          </p:blipFill>
          <p:spPr>
            <a:xfrm>
              <a:off x="-12600" y="5784840"/>
              <a:ext cx="3414600" cy="1092240"/>
            </a:xfrm>
            <a:prstGeom prst="rect">
              <a:avLst/>
            </a:prstGeom>
            <a:ln w="0">
              <a:noFill/>
            </a:ln>
          </p:spPr>
        </p:pic>
        <p:sp>
          <p:nvSpPr>
            <p:cNvPr id="2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Straight Connector 14" descr=""/>
          <p:cNvPicPr/>
          <p:nvPr/>
        </p:nvPicPr>
        <p:blipFill>
          <a:blip r:embed="rId4"/>
          <a:stretch/>
        </p:blipFill>
        <p:spPr>
          <a:xfrm>
            <a:off x="-19080" y="5772240"/>
            <a:ext cx="3421080" cy="1109520"/>
          </a:xfrm>
          <a:prstGeom prst="rect">
            <a:avLst/>
          </a:prstGeom>
          <a:ln w="0">
            <a:noFill/>
          </a:ln>
        </p:spPr>
      </p:pic>
      <p:pic>
        <p:nvPicPr>
          <p:cNvPr id="245" name="Picture 17" descr="vMlogo"/>
          <p:cNvPicPr/>
          <p:nvPr/>
        </p:nvPicPr>
        <p:blipFill>
          <a:blip r:embed="rId5"/>
          <a:stretch/>
        </p:blipFill>
        <p:spPr>
          <a:xfrm>
            <a:off x="6553080" y="6362640"/>
            <a:ext cx="2590920" cy="484200"/>
          </a:xfrm>
          <a:prstGeom prst="rect">
            <a:avLst/>
          </a:prstGeom>
          <a:ln w="0">
            <a:noFill/>
          </a:ln>
        </p:spPr>
      </p:pic>
      <p:sp>
        <p:nvSpPr>
          <p:cNvPr id="246"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61D1-4386-4577-A635-4E7E9E7EEE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EC90-0A0D-4137-B7C1-D76988CED6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Freeform 16"/>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Right Triangle 19"/>
          <p:cNvGrpSpPr/>
          <p:nvPr/>
        </p:nvGrpSpPr>
        <p:grpSpPr>
          <a:xfrm>
            <a:off x="-12600" y="5784840"/>
            <a:ext cx="3414600" cy="1092240"/>
            <a:chOff x="-12600" y="5784840"/>
            <a:chExt cx="3414600" cy="1092240"/>
          </a:xfrm>
        </p:grpSpPr>
        <p:pic>
          <p:nvPicPr>
            <p:cNvPr id="332" name="Right Triangle 19" descr=""/>
            <p:cNvPicPr/>
            <p:nvPr/>
          </p:nvPicPr>
          <p:blipFill>
            <a:blip r:embed="rId3"/>
            <a:stretch/>
          </p:blipFill>
          <p:spPr>
            <a:xfrm>
              <a:off x="-12600" y="5784840"/>
              <a:ext cx="3414600" cy="1092240"/>
            </a:xfrm>
            <a:prstGeom prst="rect">
              <a:avLst/>
            </a:prstGeom>
            <a:ln w="0">
              <a:noFill/>
            </a:ln>
          </p:spPr>
        </p:pic>
        <p:sp>
          <p:nvSpPr>
            <p:cNvPr id="33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Straight Connector 20" descr=""/>
          <p:cNvPicPr/>
          <p:nvPr/>
        </p:nvPicPr>
        <p:blipFill>
          <a:blip r:embed="rId4"/>
          <a:stretch/>
        </p:blipFill>
        <p:spPr>
          <a:xfrm>
            <a:off x="-19080" y="5772240"/>
            <a:ext cx="3421080" cy="1109520"/>
          </a:xfrm>
          <a:prstGeom prst="rect">
            <a:avLst/>
          </a:prstGeom>
          <a:ln w="0">
            <a:noFill/>
          </a:ln>
        </p:spPr>
      </p:pic>
      <p:sp>
        <p:nvSpPr>
          <p:cNvPr id="335" name="Chevron 2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Chevron 2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D4A3-C667-4AC7-A504-4799BE3EC1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pic>
        <p:nvPicPr>
          <p:cNvPr id="384" name="Picture 17" descr="vMlogo"/>
          <p:cNvPicPr/>
          <p:nvPr/>
        </p:nvPicPr>
        <p:blipFill>
          <a:blip r:embed="rId4"/>
          <a:stretch/>
        </p:blipFill>
        <p:spPr>
          <a:xfrm>
            <a:off x="6553080" y="6362640"/>
            <a:ext cx="2590920" cy="484200"/>
          </a:xfrm>
          <a:prstGeom prst="rect">
            <a:avLst/>
          </a:prstGeom>
          <a:ln w="0">
            <a:noFill/>
          </a:ln>
        </p:spPr>
      </p:pic>
      <p:sp>
        <p:nvSpPr>
          <p:cNvPr id="385"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8"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9"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49BA-E12F-45A4-9F09-D3943DA7D4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vidm.gov.lv/lat/finansu_instrumenti/kohez/?doc=6511"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2908440" y="1822320"/>
            <a:ext cx="6400800" cy="2043360"/>
          </a:xfrm>
          <a:prstGeom prst="rect">
            <a:avLst/>
          </a:prstGeom>
          <a:ln w="0">
            <a:noFill/>
          </a:ln>
        </p:spPr>
      </p:pic>
      <p:sp>
        <p:nvSpPr>
          <p:cNvPr id="428" name="PlaceHolder 1"/>
          <p:cNvSpPr>
            <a:spLocks noGrp="1"/>
          </p:cNvSpPr>
          <p:nvPr>
            <p:ph type="subTitle"/>
          </p:nvPr>
        </p:nvSpPr>
        <p:spPr>
          <a:xfrm>
            <a:off x="2971800" y="4266720"/>
            <a:ext cx="6019920" cy="146700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29"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aka pamatprincipus maksājumu veikšanai</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 (veikti grozījumi un plānoti papildus grozījumi)</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aka pamatprincipus projektu atlasei, vispārīgus ES fondu vadības jautājumus</a:t>
            </a:r>
            <a:endParaRPr b="0" lang="en-US" sz="2000" spc="-1" strike="noStrike">
              <a:solidFill>
                <a:srgbClr val="000000"/>
              </a:solidFill>
              <a:latin typeface="Lucida Sans Unicode"/>
            </a:endParaRPr>
          </a:p>
        </p:txBody>
      </p:sp>
      <p:pic>
        <p:nvPicPr>
          <p:cNvPr id="447" name="Rectangle 2" descr=""/>
          <p:cNvPicPr/>
          <p:nvPr/>
        </p:nvPicPr>
        <p:blipFill>
          <a:blip r:embed="rId1"/>
          <a:stretch/>
        </p:blipFill>
        <p:spPr>
          <a:xfrm>
            <a:off x="676440" y="311040"/>
            <a:ext cx="8308800" cy="914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40 „Kārtība, kādā vadošā iestāde, sertifikācijas iestāde, sadarbības iestāde vai atbildīgā iestāde veic pārbaudi Eiropas Savienības struktūrfondu un Kohēzijas fonda finansētā projekta īstenošanas vietā”</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IDM papildus ir izstrādājusi vadlīnijas pārbaužu veikšanai (iestādes vajadzībā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41 “Eiropas Savienības fondu publicitātes un vizuālās identitātes prasību nodrošināšanas kārtīb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IDM ir izstrādājusi vadlīnijas, skaidrojot un vizualizējot noteikumu prasības. Vadlīnijas ir pieejamas VIDM mājas lapā.</a:t>
            </a:r>
            <a:endParaRPr b="0" lang="en-US" sz="2000" spc="-1" strike="noStrike">
              <a:solidFill>
                <a:srgbClr val="000000"/>
              </a:solidFill>
              <a:latin typeface="Lucida Sans Unicode"/>
            </a:endParaRPr>
          </a:p>
        </p:txBody>
      </p:sp>
      <p:pic>
        <p:nvPicPr>
          <p:cNvPr id="449" name="Rectangle 2" descr=""/>
          <p:cNvPicPr/>
          <p:nvPr/>
        </p:nvPicPr>
        <p:blipFill>
          <a:blip r:embed="rId1"/>
          <a:stretch/>
        </p:blipFill>
        <p:spPr>
          <a:xfrm>
            <a:off x="676440" y="311040"/>
            <a:ext cx="8308800" cy="914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17.jūlija noteikumi Nr.500 „Kārtība, kādā ziņo par Eiropas savienības struktūrfondu un Kohēzijas fonda ieviešanā konstatētajām neatbilstībām, pieņem pārvaldes lēmumu par iešķirtā finansējuma izlietojumu un atgūst neatbilstošos izdevumus”.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Nosaka visu darbību ciklu, kas saistītas ar neatbilstību atklāšanu un novēršanu.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Lucida Sans Unicode"/>
              </a:rPr>
              <a:t>Uz šo aktivitāti neattiecas Ministru kabineta noteikumi par valsts budžeta dotācijām ES fondu projektiem</a:t>
            </a:r>
            <a:endParaRPr b="0" lang="en-US" sz="2800" spc="-1" strike="noStrike">
              <a:solidFill>
                <a:srgbClr val="000000"/>
              </a:solidFill>
              <a:latin typeface="Lucida Sans Unicode"/>
            </a:endParaRPr>
          </a:p>
        </p:txBody>
      </p:sp>
      <p:pic>
        <p:nvPicPr>
          <p:cNvPr id="451" name="Rectangle 2" descr=""/>
          <p:cNvPicPr/>
          <p:nvPr/>
        </p:nvPicPr>
        <p:blipFill>
          <a:blip r:embed="rId1"/>
          <a:stretch/>
        </p:blipFill>
        <p:spPr>
          <a:xfrm>
            <a:off x="676440" y="311040"/>
            <a:ext cx="8308800" cy="914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viesa pašfinansēšanas shēmu</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3" name="Rectangle 2" descr=""/>
          <p:cNvPicPr/>
          <p:nvPr/>
        </p:nvPicPr>
        <p:blipFill>
          <a:blip r:embed="rId1"/>
          <a:stretch/>
        </p:blipFill>
        <p:spPr>
          <a:xfrm>
            <a:off x="676440" y="311040"/>
            <a:ext cx="8308800" cy="914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zmaiņas makroekonomiskajos rādītājo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iekšlikumi ir saskaņošanas procesā</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5" name="Rectangle 2" descr=""/>
          <p:cNvPicPr/>
          <p:nvPr/>
        </p:nvPicPr>
        <p:blipFill>
          <a:blip r:embed="rId1"/>
          <a:stretch/>
        </p:blipFill>
        <p:spPr>
          <a:xfrm>
            <a:off x="676440" y="311040"/>
            <a:ext cx="8308800" cy="91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755640" y="1341360"/>
            <a:ext cx="8137440" cy="489600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Civiltiesiskā līguma un vienošanās par projekta īstenošanu veidne</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Dokumenti pieejami Vides ministrijas mājas lapā</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Sadaļa “Fondi un investīcijas”), pie konkrētās aktivitātes</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Svarīgi! Līguma veidne netiek pielāgota pēc finansējuma saņēmēja vēlmēm, vispārīgie nosacījumi ir vienādi visiem</a:t>
            </a:r>
            <a:endParaRPr b="0" lang="en-US" sz="24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7" name="Rectangle 2" descr=""/>
          <p:cNvPicPr/>
          <p:nvPr/>
        </p:nvPicPr>
        <p:blipFill>
          <a:blip r:embed="rId1"/>
          <a:stretch/>
        </p:blipFill>
        <p:spPr>
          <a:xfrm>
            <a:off x="676440" y="324000"/>
            <a:ext cx="8308800" cy="822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55640" y="1341360"/>
            <a:ext cx="8137440" cy="489600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ekšējās kontroles sistēmas aprak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Ir viens no pamatojošiem dokumentiem maksājumu veikšanas uzsākšanai</a:t>
            </a:r>
            <a:endParaRPr b="0" lang="en-US" sz="2800" spc="-1" strike="noStrike">
              <a:solidFill>
                <a:srgbClr val="000000"/>
              </a:solidFill>
              <a:latin typeface="Lucida Sans Unicode"/>
            </a:endParaRPr>
          </a:p>
        </p:txBody>
      </p:sp>
      <p:pic>
        <p:nvPicPr>
          <p:cNvPr id="459" name="Rectangle 2" descr=""/>
          <p:cNvPicPr/>
          <p:nvPr/>
        </p:nvPicPr>
        <p:blipFill>
          <a:blip r:embed="rId1"/>
          <a:stretch/>
        </p:blipFill>
        <p:spPr>
          <a:xfrm>
            <a:off x="676440" y="463680"/>
            <a:ext cx="8308800" cy="66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755640" y="1341360"/>
            <a:ext cx="8137440" cy="489600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Līgums (pārvaldes lēmums) par sabiedrisko pakalpojumu sniegšan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Ir viens no pamatojošiem dokumentiem projekta iesnieguma apstiprināšanai</a:t>
            </a:r>
            <a:endParaRPr b="0" lang="en-US" sz="2800" spc="-1" strike="noStrike">
              <a:solidFill>
                <a:srgbClr val="000000"/>
              </a:solidFill>
              <a:latin typeface="Lucida Sans Unicode"/>
            </a:endParaRPr>
          </a:p>
        </p:txBody>
      </p:sp>
      <p:pic>
        <p:nvPicPr>
          <p:cNvPr id="461" name="Rectangle 2" descr=""/>
          <p:cNvPicPr/>
          <p:nvPr/>
        </p:nvPicPr>
        <p:blipFill>
          <a:blip r:embed="rId1"/>
          <a:stretch/>
        </p:blipFill>
        <p:spPr>
          <a:xfrm>
            <a:off x="676440" y="463680"/>
            <a:ext cx="8308800" cy="66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676440" y="469800"/>
            <a:ext cx="8308800" cy="657360"/>
          </a:xfrm>
          <a:prstGeom prst="rect">
            <a:avLst/>
          </a:prstGeom>
          <a:ln w="0">
            <a:noFill/>
          </a:ln>
        </p:spPr>
      </p:pic>
      <p:sp>
        <p:nvSpPr>
          <p:cNvPr id="463" name="PlaceHolder 1"/>
          <p:cNvSpPr>
            <a:spLocks noGrp="1"/>
          </p:cNvSpPr>
          <p:nvPr>
            <p:ph/>
          </p:nvPr>
        </p:nvSpPr>
        <p:spPr>
          <a:xfrm>
            <a:off x="356760" y="1341360"/>
            <a:ext cx="853596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ublicitātes pasākumu īstenošana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KS apraksta izveide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pirkumu veikšanai (sabiedrisko pakalpojumu sniedzēj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Rokasgrāmata finanšu vadībai</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ff8119"/>
                </a:solidFill>
                <a:uFillTx/>
                <a:latin typeface="Lucida Sans Unicode"/>
                <a:hlinkClick r:id="rId2"/>
              </a:rPr>
              <a:t>http://www.vidm.gov.lv/lat/finansu_instrumenti/kohez/?doc=6511</a:t>
            </a:r>
            <a:endParaRPr b="0" lang="en-US" sz="20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i pieejami Vides ministrijas mājas lapā</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Sadaļa “Fondi un investīcijas”)</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u precizēšanas gadījumā finansējuma saņēmēji tiks savlaicīgi informēti</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676440" y="469800"/>
            <a:ext cx="8308800" cy="657360"/>
          </a:xfrm>
          <a:prstGeom prst="rect">
            <a:avLst/>
          </a:prstGeom>
          <a:ln w="0">
            <a:noFill/>
          </a:ln>
        </p:spPr>
      </p:pic>
      <p:sp>
        <p:nvSpPr>
          <p:cNvPr id="465" name="PlaceHolder 1"/>
          <p:cNvSpPr>
            <a:spLocks noGrp="1"/>
          </p:cNvSpPr>
          <p:nvPr>
            <p:ph/>
          </p:nvPr>
        </p:nvSpPr>
        <p:spPr>
          <a:xfrm>
            <a:off x="75564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Vadlīnijas projekta iesnieguma veidlapas aizpildīšanai (tiek </a:t>
            </a:r>
            <a:r>
              <a:rPr b="0" lang="lv-LV" sz="1800" spc="-1" strike="noStrike" u="sng">
                <a:solidFill>
                  <a:srgbClr val="000000"/>
                </a:solidFill>
                <a:uFillTx/>
                <a:latin typeface="Lucida Sans Unicode"/>
              </a:rPr>
              <a:t>aktualizētas atbilstoši veiktajiem grozījumiem MK noteikumos</a:t>
            </a:r>
            <a:r>
              <a:rPr b="0" lang="lv-LV"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rojektu iesniegumu vērtēšanas komisijas nolikums</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i pieejami Vides ministrijas mājas lapā</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http://www.vidm.gov.lv/lat/finansu_instrumenti/kohez/?doc=6400</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Sadaļa “Fondi un investīcijas”)</a:t>
            </a:r>
            <a:endParaRPr b="0" lang="en-US" sz="1800" spc="-1" strike="noStrike">
              <a:solidFill>
                <a:srgbClr val="0000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Tiesiskais ietvars 2007. - 2013.gadam (aktuālā informācija, ņemot vērā visas izmaiņas tiesību aktos līdz 2009.gada oktobrim un plānotās izmaiņas)</a:t>
            </a:r>
            <a:endParaRPr b="0" lang="en-US" sz="2700" spc="-1" strike="noStrike">
              <a:solidFill>
                <a:srgbClr val="000000"/>
              </a:solidFill>
              <a:latin typeface="Lucida Sans Unicode"/>
            </a:endParaRPr>
          </a:p>
        </p:txBody>
      </p:sp>
      <p:pic>
        <p:nvPicPr>
          <p:cNvPr id="431" name="Rectangle 2" descr=""/>
          <p:cNvPicPr/>
          <p:nvPr/>
        </p:nvPicPr>
        <p:blipFill>
          <a:blip r:embed="rId1"/>
          <a:stretch/>
        </p:blipFill>
        <p:spPr>
          <a:xfrm>
            <a:off x="676440" y="414360"/>
            <a:ext cx="8308800" cy="712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676440" y="469800"/>
            <a:ext cx="8308800" cy="657360"/>
          </a:xfrm>
          <a:prstGeom prst="rect">
            <a:avLst/>
          </a:prstGeom>
          <a:ln w="0">
            <a:noFill/>
          </a:ln>
        </p:spPr>
      </p:pic>
      <p:sp>
        <p:nvSpPr>
          <p:cNvPr id="467" name="PlaceHolder 1"/>
          <p:cNvSpPr>
            <a:spLocks noGrp="1"/>
          </p:cNvSpPr>
          <p:nvPr>
            <p:ph/>
          </p:nvPr>
        </p:nvSpPr>
        <p:spPr>
          <a:xfrm>
            <a:off x="75564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emināru materiāli (arī iepriekšējai atlases kārtai)</a:t>
            </a: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http://www.vidm.gov.lv/lat/finansu_instrumenti/kohez/?doc=6058</a:t>
            </a:r>
            <a:endParaRPr b="0" lang="en-US" sz="27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907920" y="274680"/>
            <a:ext cx="7785360" cy="871560"/>
          </a:xfrm>
          <a:prstGeom prst="rect">
            <a:avLst/>
          </a:prstGeom>
          <a:ln w="0">
            <a:noFill/>
          </a:ln>
        </p:spPr>
      </p:pic>
      <p:pic>
        <p:nvPicPr>
          <p:cNvPr id="433" name="Diagram 3" descr=""/>
          <p:cNvPicPr/>
          <p:nvPr/>
        </p:nvPicPr>
        <p:blipFill>
          <a:blip r:embed="rId2"/>
          <a:stretch/>
        </p:blipFill>
        <p:spPr>
          <a:xfrm>
            <a:off x="566640" y="1255680"/>
            <a:ext cx="8059680" cy="483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676440" y="469800"/>
            <a:ext cx="8308800" cy="657360"/>
          </a:xfrm>
          <a:prstGeom prst="rect">
            <a:avLst/>
          </a:prstGeom>
          <a:ln w="0">
            <a:noFill/>
          </a:ln>
        </p:spPr>
      </p:pic>
      <p:sp>
        <p:nvSpPr>
          <p:cNvPr id="435" name="PlaceHolder 1"/>
          <p:cNvSpPr>
            <a:spLocks noGrp="1"/>
          </p:cNvSpPr>
          <p:nvPr>
            <p:ph/>
          </p:nvPr>
        </p:nvSpPr>
        <p:spPr>
          <a:xfrm>
            <a:off x="755640" y="1357200"/>
            <a:ext cx="8137440" cy="4880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KOMISIJAS REGULA (EK) Nr. 1828/2006</a:t>
            </a:r>
            <a:r>
              <a:rPr b="0" lang="lv-LV" sz="1800" spc="-1" strike="noStrike">
                <a:solidFill>
                  <a:srgbClr val="000000"/>
                </a:solidFill>
                <a:latin typeface="Lucida Sans Unicode"/>
              </a:rPr>
              <a:t> kas paredz noteikumus par to, kā īstenot Padomes Regulu (EK) Nr. 1083/2006, ar ko paredz vispārīgus noteikumus par Eiropas Reģionālās attīstības fondu, Eiropas Sociālo fondu un Kohēzijas fondu, un Eiropas Parlamenta un Padomes Regulu (EK) Nr. 1080/2006 par Eiropas Reģionālās attīstības fond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PADOMES REGULA (EK) Nr. 1083/2006</a:t>
            </a:r>
            <a:r>
              <a:rPr b="0" lang="lv-LV" sz="1800" spc="-1" strike="noStrike">
                <a:solidFill>
                  <a:srgbClr val="000000"/>
                </a:solidFill>
                <a:latin typeface="Lucida Sans Unicode"/>
              </a:rPr>
              <a:t> ar ko paredz vispārīgus noteikumus par Eiropas Reģionālās attīstības fondu, Eiropas Sociālo fondu un Kohēzijas fondu un atceļ Regulu (EK) Nr. 1260/1999</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PADOMES REGULA (EK) Nr.1084/2006 </a:t>
            </a:r>
            <a:r>
              <a:rPr b="0" lang="lv-LV" sz="1800" spc="-1" strike="noStrike">
                <a:solidFill>
                  <a:srgbClr val="000000"/>
                </a:solidFill>
                <a:latin typeface="Lucida Sans Unicode"/>
              </a:rPr>
              <a:t>par Kohēzijas fonda izveidi un Regulas (EK) Nr.1164/94 atcelšan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Attiecināmības jautājumi</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Finansējuma deficīta modeli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Lielā projekta definīcija</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676440" y="469800"/>
            <a:ext cx="8308800" cy="657360"/>
          </a:xfrm>
          <a:prstGeom prst="rect">
            <a:avLst/>
          </a:prstGeom>
          <a:ln w="0">
            <a:noFill/>
          </a:ln>
        </p:spPr>
      </p:pic>
      <p:sp>
        <p:nvSpPr>
          <p:cNvPr id="437" name="PlaceHolder 1"/>
          <p:cNvSpPr>
            <a:spLocks noGrp="1"/>
          </p:cNvSpPr>
          <p:nvPr>
            <p:ph/>
          </p:nvPr>
        </p:nvSpPr>
        <p:spPr>
          <a:xfrm>
            <a:off x="755640" y="1357200"/>
            <a:ext cx="8137440" cy="4880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ADOMES REGULA (EK) Nr.1341/2008, ar ko groza  Regulu (EK) Nr.1083/2006 ar ko paredz vispārīgus noteikumus par Eiropas Reģionālās attīstības fondu, Eiropas Sociālo fondu un Kohēzijas fondu attiecībā uz attiecīgiem ieņēmumus nesošiem projektiem</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ADOMES REGULA (EK) Nr.284/2009, ar kuru groza Regulu (EK) Nr.1083/2006, ar ko paredz vispārīgus noteikumus par Eiropas Reģionālās attīstības fondu, Eiropas Sociālo fondu un Kohēzijas fondu, groza attiecībā uz dažiem noteikumiem par finanšu pārvaldīb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posal for a COUNCIL REGULATION amending Regulation (EC) No 1083/2006 concerning general provisions on the European Regional Development Fund, the European Social Fund and the Cohesion Fund as regards simplification of certain requirements and as regards certain provisions relating to financial management (PROJECT)</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Eiropas Komisijas 27.11.2006 vēstule Nr.: 520638 "Par darbības programmas attiecināmības sākuma datumu“</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Sagatavošanas izmaksas (darbības programmas attiecināmības sākuma datums ir 2006.gada 24.oktobri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Eiropas Komisijas lēmums par darbības programmu "Infrastruktūra un pakalpojumi“10.12.2007.</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ioritārā virziena ass (lielajiem projektiem, izmaksu deklarēšanai)</a:t>
            </a: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9" name="Rectangle 2" descr=""/>
          <p:cNvPicPr/>
          <p:nvPr/>
        </p:nvPicPr>
        <p:blipFill>
          <a:blip r:embed="rId1"/>
          <a:stretch/>
        </p:blipFill>
        <p:spPr>
          <a:xfrm>
            <a:off x="201600" y="171360"/>
            <a:ext cx="8923320" cy="1060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Eiropas Savienības struktūrfondu un Kohēzijas fonda vadības likum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pēkā no 2007.gada 1.marta </a:t>
            </a: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Lucida Sans Unicode"/>
              </a:rPr>
              <a:t>Grozījumi: 11.12.2008. likums (L.V., 23.dec., nr.200)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1" name="Rectangle 2" descr=""/>
          <p:cNvPicPr/>
          <p:nvPr/>
        </p:nvPicPr>
        <p:blipFill>
          <a:blip r:embed="rId1"/>
          <a:stretch/>
        </p:blipFill>
        <p:spPr>
          <a:xfrm>
            <a:off x="676440" y="414360"/>
            <a:ext cx="8308800" cy="712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28760" y="1341360"/>
            <a:ext cx="8464320" cy="4896000"/>
          </a:xfrm>
          <a:prstGeom prst="rect">
            <a:avLst/>
          </a:prstGeom>
          <a:noFill/>
          <a:ln w="0">
            <a:noFill/>
          </a:ln>
        </p:spPr>
        <p:txBody>
          <a:bodyPr anchor="t">
            <a:normAutofit/>
          </a:bodyPr>
          <a:p>
            <a:pPr marL="182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Ministru kabineta 2007.gada 4.decembra noteikumi Nr.836 Noteikumi par darbības programmas "Infrastruktūra un pakalpojumi" papildinājuma 3.5.1.1.aktivitāti "Ūdenssaimniecības infrastruktūras attīstība aglomerācijās ar cilvēku ekvivalentu, lielāku par 2000"</a:t>
            </a:r>
            <a:endParaRPr b="0" lang="en-US" sz="2400" spc="-1" strike="noStrike">
              <a:solidFill>
                <a:srgbClr val="000000"/>
              </a:solidFill>
              <a:latin typeface="Lucida Sans Unicode"/>
            </a:endParaRPr>
          </a:p>
          <a:p>
            <a:pPr lvl="1" marL="990720" indent="-533520" algn="just">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ozījumi: </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K 18.03.2008. not. nr.194 (L.V., 26.marts, nr.47; Ziņotājs, 2008, nr.11)</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MK 13.05.2008. not. nr.329 (L.V., 23.maijs, nr.80; Ziņotājs, 2008, nr.15) </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K 09.06.2009. not. Nr.520 (L.V., 16.jūn., nr.93)</a:t>
            </a:r>
            <a:endParaRPr b="0" lang="en-US" sz="2400" spc="-1" strike="noStrike">
              <a:solidFill>
                <a:srgbClr val="000000"/>
              </a:solidFill>
              <a:latin typeface="Lucida Sans Unicode"/>
            </a:endParaRPr>
          </a:p>
        </p:txBody>
      </p:sp>
      <p:pic>
        <p:nvPicPr>
          <p:cNvPr id="443" name="Rectangle 2" descr=""/>
          <p:cNvPicPr/>
          <p:nvPr/>
        </p:nvPicPr>
        <p:blipFill>
          <a:blip r:embed="rId1"/>
          <a:stretch/>
        </p:blipFill>
        <p:spPr>
          <a:xfrm>
            <a:off x="676440" y="384120"/>
            <a:ext cx="8308800" cy="91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28760" y="1341360"/>
            <a:ext cx="8464320" cy="4896000"/>
          </a:xfrm>
          <a:prstGeom prst="rect">
            <a:avLst/>
          </a:prstGeom>
          <a:noFill/>
          <a:ln w="0">
            <a:noFill/>
          </a:ln>
        </p:spPr>
        <p:txBody>
          <a:bodyPr anchor="t">
            <a:normAutofit/>
          </a:bodyPr>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snieguma veidlap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Attiecināmo izmaksu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Līguma grozījumu nepieciešamīb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Vērtēšanas kārtīb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82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Jautājumi</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Avansa maksājums</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Valsts budžeta pieejamība</a:t>
            </a:r>
            <a:endParaRPr b="0" lang="en-US" sz="2400" spc="-1" strike="noStrike">
              <a:solidFill>
                <a:srgbClr val="000000"/>
              </a:solidFill>
              <a:latin typeface="Lucida Sans Unicode"/>
            </a:endParaRPr>
          </a:p>
        </p:txBody>
      </p:sp>
      <p:pic>
        <p:nvPicPr>
          <p:cNvPr id="445" name="Rectangle 2" descr=""/>
          <p:cNvPicPr/>
          <p:nvPr/>
        </p:nvPicPr>
        <p:blipFill>
          <a:blip r:embed="rId1"/>
          <a:stretch/>
        </p:blipFill>
        <p:spPr>
          <a:xfrm>
            <a:off x="676440" y="384120"/>
            <a:ext cx="8308800" cy="91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4:10Z</dcterms:modified>
  <cp:revision>237</cp:revision>
  <dc:subject/>
  <dc:title>Eiropas Savienības fondu projektu ieviešana 2007.-2013.gadā </dc:title>
</cp:coreProperties>
</file>