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DAEF4-DD01-4E94-ACEA-886AE050E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6FB5-1753-41E9-8B52-6935EC984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61197-19FC-493B-82A2-0A0202150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6BB52-AE9C-4261-B2B9-EC080EBE2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300EC-A135-43F5-B668-EE7232E95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81FBD-8671-4508-B1BB-9BB4A933D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A0A78-228C-42F8-9BD4-202A8DF5D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5CD1-4E93-40DC-AAD2-E95BEAEB1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97C03-D409-4F11-99C9-222CB59B7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B88F3-0A81-42A7-9C4D-12E60069B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B7429-E6DD-418E-8C2E-695ECC6C4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71A1E-494E-4DB4-97C3-C8A0ACD55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052CA-1C97-449E-9BC6-0DF74BBBA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671FA-B8B0-4B4D-8306-614FF62F1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3621B-BFA8-4324-8733-DA7D52438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4B8D4-4844-4547-B1E9-363DB6F43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6D3A6-02FB-43AB-8712-932AE637C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B5C3ECF-03B8-432D-8F4B-AE90492C9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D52979-5E48-4C4E-9C7D-C9F635CB3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FBADA9-C018-45C1-8B63-589B43364B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2BBA8C-1B17-46EA-831C-BF4DFDA7F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2C61D9-C8BC-4FC7-AD97-F613412B7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A441-66CE-4517-8050-DAAA06D22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8F85AF-F150-46BC-8EB6-05BB24743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02A5D8-2024-4B69-BC3A-D93B20D7E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393891-D3B7-4D87-8B65-D38DCE469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2D452E-C563-4B5D-95D1-450D2D37A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C824FA-C9AD-4B09-8F91-E72057915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49D9CB-BA14-4F84-B575-740707655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7AD2C4-7A16-4423-8BD2-4B450AF96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889BB3-212E-4671-8EDF-42B98A2EFC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53855-1593-4E3E-B06F-07F9A7453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2A56A-EF47-47D2-8412-01985E31F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B4DC3-DFEF-4362-8F60-C75AAF0D9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AF9B3-0230-4126-AA90-F505B7BDB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3328E-4289-4646-856A-45B9265CD8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2ED9E-48F5-4946-B2F3-8F0E41E39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329F3-3502-43B5-A397-9EE9F70C6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7F547-1816-47F9-93B4-A89970BB7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20222-09F4-427C-BE93-08FD445B6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2B2E6-34EC-46F2-A676-8B1846DE8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4B56E3-F31F-4350-A630-D4C1F0475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DB87A0-F305-4265-AF67-B58F4CF26C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9DBBE6-6F3A-424F-858D-C6A507E2A3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26B54-31C1-4726-B1D7-10B3B366F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DEC265-02A7-442B-B804-68AB1962A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172D6B6-D110-4E31-B077-B5F1466F2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1442A2-658B-44CE-B399-AC4F312A6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9BA977-5B79-4449-BB9D-B8F37CA68E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1DA7DA-EE05-4381-B178-FB67CCFBA1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084E2F-0682-4B7B-A217-12EC5BD02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55355D-2665-4C31-B705-8651AD172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09A64C-7A00-4190-918F-CF1AB13E5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6C1E957-6089-4D53-B672-F2302B3B9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DB8C6F9-95AB-4CD6-A881-D342C0034B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A142E-D70C-4B13-BB11-5E4D8CBA2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A9CA796-740B-4D42-A59C-FEA2E44294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9A6AB42-A948-486B-9EE2-37DDAC18F3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5DB8754-4BF1-4312-9C2A-C541F6031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637F85-F544-4C8D-B178-461BDD01C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C54DF38-BD6B-479A-97EC-70A41579F3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0E75E09-1267-4104-9D86-6A9388499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6A64412-32FD-40C8-BEEF-D71ABC064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A8BD359-1361-4E82-8E01-98A67F775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45B84E-5237-4087-BAE4-353A5649F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F02FD2-C28A-40DE-BD32-F8EBACDD8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85C9-5AFB-45B0-B21C-1F7536C0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0255DA0-89DB-4DA1-B31B-FCC3BDB62A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5EAC324-191B-4EC1-B76B-7E59E7DAAE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C667641-3055-4C47-B805-F741D427B3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7AE572A-0D29-471C-AC1C-8237ABFE68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20235E4-82BF-4DA6-B5B4-3D548DCC4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1F3338-35A7-4839-9C17-9335772512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39AF2DA-6A4F-4DF2-96CC-99377CB072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5D6297-0A7B-45BF-9F3E-643D4653D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E80030-E15D-457A-8E5B-5AE2E790E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42C841-C624-4E96-A6A4-0C3104A1D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D11A-7876-4F3C-8DBD-260C998E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011517-2A31-4C11-B13B-45FC3C510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A4F14C-F955-453F-84C0-9743919E56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77ADBA-92F4-45F6-BFD8-51315D54C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11575DB-2F79-4508-8EA6-6899680C3E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6654F16-98EB-4472-A4CE-61DA77D2CF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A4B6-8545-46B0-9BC3-52765BC3C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474B-4B19-4C17-8ED2-9EE08E41FEE0}"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653F-9AF4-457F-8B84-B1B90761A277}"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9439-B3F6-4A26-9135-F42742D6A7E6}"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784D-94CA-4EA0-940B-4E24A1B7CD51}"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47AE-78D1-44B1-95B6-6A405397D1FF}"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C4CD-8629-4592-9D77-FD260B38F9CE}"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4402-AD10-4660-B4F7-F30D54B7FE70}"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257148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575f6d"/>
                </a:solidFill>
                <a:latin typeface="Century Schoolbook"/>
              </a:rPr>
              <a:t>AKTIVITĀTES IEVIEŠANAS LAIKA GRAFIKS</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680"/>
            <a:ext cx="8115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575f6d"/>
                </a:solidFill>
                <a:latin typeface="Century Schoolbook"/>
              </a:rPr>
              <a:t>CIVILTIESISKĀ LĪGUMA VAI VIENOŠANĀS SLĒGŠANA </a:t>
            </a:r>
            <a:br>
              <a:rPr sz="2400"/>
            </a:br>
            <a:r>
              <a:rPr b="1" lang="lv-LV" sz="2400" spc="-1" strike="noStrike">
                <a:solidFill>
                  <a:srgbClr val="575f6d"/>
                </a:solidFill>
                <a:latin typeface="Century Schoolbook"/>
              </a:rPr>
              <a:t>(LIELIE PROJEKTI)</a:t>
            </a:r>
            <a:endParaRPr b="0" lang="en-US" sz="2400" spc="-1" strike="noStrike">
              <a:solidFill>
                <a:srgbClr val="575f6d"/>
              </a:solidFill>
              <a:latin typeface="Century Schoolbook"/>
            </a:endParaRPr>
          </a:p>
        </p:txBody>
      </p:sp>
      <p:sp>
        <p:nvSpPr>
          <p:cNvPr id="369" name=""/>
          <p:cNvSpPr txBox="1"/>
          <p:nvPr/>
        </p:nvSpPr>
        <p:spPr>
          <a:xfrm>
            <a:off x="456840" y="1285560"/>
            <a:ext cx="7900920" cy="518796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Atbildīgās iestādes vai sadarbības iestādes vadītājs 15 darbdienu laikā pēc lielā projekta saņemšanas pieņem lēmumu par lielā projekta iesnieguma atbilstību vai neatbilstību Eiropas Savienības fonda projekta iesnieguma vērtēšanas kritērijiem.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Ja atbildīgās iestādes vai sadarbības iestādes vadītājs pieņem lēmumu par lielā projekta iesnieguma atbilstību Eiropas Savienības fonda projekta iesnieguma vērtēšanas kritērijiem, atbildīgā iestāde vai sadarbības iestāde iesniedz lielā projekta iesniegumu vadošajā iestādē.</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Vadošā iestāde 10 darbdienu laikā saskaņo lielā projekta iesniegumu.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Ja vadošā iestāde nesaskaņo lielā projekta iesniegumu, atbildīgā iestāde vai sadarbības iestāde 10 darbdienu laikā pēc vadošās iestādes lēmuma saņemšanas nodrošina lielā projekta iesnieguma precizēšanu saskaņā ar vadošās iestādes komentāriem un iesniedz atkārtoti vadošajā iestādē.</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Pēc lielā projekta iesnieguma saskaņošanas vadošā iestāde to iesniedz Eiropas Komisijā.</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Atbildīgā iestāde vai sadarbības iestāde 30 darbdienu laikā pēc lielā projekta iesnieguma apstiprināšanas atbildīgajā iestādē vai sadarbības iestādē slēdz ar finansējuma saņēmēju līgumu vai vienošanos par lielā projekta īstenošanu. Līgums vai vienošanās ietver arī datumu, ar kuru veiktās izmaksas uzskata par attiecināmām.</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04384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PIRMS PROJEKTA IESNIEGUMA IESNIEGŠANAS</a:t>
            </a:r>
            <a:endParaRPr b="0" lang="en-US" sz="2700" spc="-1" strike="noStrike">
              <a:solidFill>
                <a:srgbClr val="575f6d"/>
              </a:solidFill>
              <a:latin typeface="Century Schoolbook"/>
            </a:endParaRPr>
          </a:p>
        </p:txBody>
      </p:sp>
      <p:sp>
        <p:nvSpPr>
          <p:cNvPr id="353" name=""/>
          <p:cNvSpPr txBox="1"/>
          <p:nvPr/>
        </p:nvSpPr>
        <p:spPr>
          <a:xfrm>
            <a:off x="428760" y="1214280"/>
            <a:ext cx="78580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Jābūt  saņemtam Ūdenssaimniecības būvju būvniecības projektu vērtēšanas komisija (ŪBK) akceptam pat Tehniski ekonomisko pamatojumu (TEP).</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Projekta iesniedzējam jābūt sakārtotai dokumentācijai par ūdenssaimniecības sabiedrisko pakalpojumu sniegšanu, ja pakalpojumus sniedz:</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kapitālsabiedrība – līgumam;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pašvaldība vai tās iestāde - pārvaldes lēmumam;</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pašvaldības aģentūra - pārvaldes līguma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04384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PROJEKTA IESNIEGUMA IESNIEGŠANA</a:t>
            </a:r>
            <a:endParaRPr b="0" lang="en-US" sz="3000" spc="-1" strike="noStrike">
              <a:solidFill>
                <a:srgbClr val="575f6d"/>
              </a:solidFill>
              <a:latin typeface="Century Schoolbook"/>
            </a:endParaRPr>
          </a:p>
        </p:txBody>
      </p:sp>
      <p:sp>
        <p:nvSpPr>
          <p:cNvPr id="355" name=""/>
          <p:cNvSpPr txBox="1"/>
          <p:nvPr/>
        </p:nvSpPr>
        <p:spPr>
          <a:xfrm>
            <a:off x="457200" y="1214280"/>
            <a:ext cx="7972560" cy="52596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Pēc grozīju veikšanas MK noteikumos Nr.836 tiks nosūtīts uzaicinājums iesniegt projektu iesniegumus;</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Vadlīnijas Eiropas Savienības Kohēzijas fonda projekta iesnieguma veidlapas aizpildīšanai (aktualizētas 23.05.2008. saskaņā ar grozījumiem MK noteikumos Nr.836).</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Kohēzijas fonda projekta iesniegums atbildīgajā iestādē iesniedzams divu mēnešu laikā pēc uzaicinājuma izsūtīšanas ūdenssaimniecības pakalpojumu sniedzējam. Atbildīgā iestāde var pagarināt uzaicinājumā norādītā projekta iesnieguma iesniegšanas termiņu uz laiku līdz diviem mēnešiem:</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ja Uzraudzības komiteja pieņēmusi lēmumu par izmaiņām projektu iesniegumu vērtēšanas kritērijo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ja pēc uzaicinājuma izsūtīšanas MK noteikumos tiek izdarīti grozījumi.</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PROJEKTA IESNIEGUMA VĒRTĒŠANA</a:t>
            </a:r>
            <a:endParaRPr b="0" lang="en-US" sz="3000" spc="-1" strike="noStrike">
              <a:solidFill>
                <a:srgbClr val="575f6d"/>
              </a:solidFill>
              <a:latin typeface="Century Schoolbook"/>
            </a:endParaRPr>
          </a:p>
        </p:txBody>
      </p:sp>
      <p:sp>
        <p:nvSpPr>
          <p:cNvPr id="357" name=""/>
          <p:cNvSpPr txBox="1"/>
          <p:nvPr/>
        </p:nvSpPr>
        <p:spPr>
          <a:xfrm>
            <a:off x="457200" y="1071720"/>
            <a:ext cx="7972560" cy="540216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Projekta iesniegumu vērtē atbildīgās iestādes izveidota projektu iesniegumu vērtēšanas komisija (izveidota 2008.g. maijā).</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Vērtēšanas komisija projektu iesniegumus izvērtē trīs mēnešu laikā pēc projektu iesniegumu iesniegšanas termiņa beigām.</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Kohēzijas fonda projektu iesniegumus vērtē atbilstoši administratīvajiem, atbilstības, kvalitātes un finansējuma piešķiršanas kritērijiem (MK noteikumu 4.pielikums):</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atbilstību administratīvajiem, atbilstības un finansējuma piešķiršanas kritērijiem vērtē ar "Jā" vai "Nē" ("Jā" – atbilst, "Nē" – neatbilst). Ja Kohēzijas fonda projekta iesnieguma administratīvais vai atbilstības kritērijs nav attiecināms uz konkrēto Kohēzijas fonda projekta iesniedzēju, Kohēzijas fonda projekta iesniegumu attiecībā uz šo kritēriju nevērtē;</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atbilstību kvalitātes kritērijiem vērtē, piešķirot noteiktu punktu skaitu.</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57120" y="274680"/>
            <a:ext cx="8501040" cy="9396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LĒMUMA PIEŅEMŠANA PAR PROJEKTA IESNIEGUMA APSTIPRINĀŠANU VAI NORAIDĪŠANU (I)</a:t>
            </a:r>
            <a:endParaRPr b="0" lang="en-US" sz="2700" spc="-1" strike="noStrike">
              <a:solidFill>
                <a:srgbClr val="575f6d"/>
              </a:solidFill>
              <a:latin typeface="Century Schoolbook"/>
            </a:endParaRPr>
          </a:p>
        </p:txBody>
      </p:sp>
      <p:sp>
        <p:nvSpPr>
          <p:cNvPr id="359" name=""/>
          <p:cNvSpPr txBox="1"/>
          <p:nvPr/>
        </p:nvSpPr>
        <p:spPr>
          <a:xfrm>
            <a:off x="457200" y="1285560"/>
            <a:ext cx="8043840" cy="518796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bildīgās iestādes vadītājs, pamatojoties uz vērtēšanas komisijas atzinumu, pieņem lēmumu:</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par Kohēzijas fonda projekta iesnieguma apstiprināšanu vai noraidīšanu;</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par Kohēzijas fonda projekta iesnieguma atbilstību Kohēzijas fonda projekta iesnieguma vērtēšanas kritērijiem un aktivitātes atbalsta nosacījumiem – attiecībā uz lielajiem projektiem.</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s par Kohēzijas fonda projekta iesnieguma apstiprināšanu var ietvert nosacījumus, kas Kohēzijas fonda projekta iesniedzējam jāizpilda lēmumā norādītajā termiņā, lai tas varētu noslēgt civiltiesisko līgumu vai vienošanos par projekta īstenošanu.</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u par Kohēzijas fonda projekta iesnieguma apstiprināšanu vai noraidīšanu vai par projekta iesnieguma atbilstību Kohēzijas fonda projekta iesnieguma vērtēšanas kritērijiem un aktivitātes atbalsta nosacījumiem (attiecībā uz lielajiem projektiem) atbildīgā iestāde piecu darbdienu laikā pēc lēmuma pieņemšanas nosūta pa pastu vai elektroniski (parakstītu ar drošu elektronisko parakstu) Kohēzijas fonda projekta iesniedzējam.</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8400" y="428760"/>
            <a:ext cx="84294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LĒMUMA PIEŅEMŠANA PAR PROJEKTA IESNIEGUMA APSTIPRINĀŠANU VAI NORAIDĪŠANU (II)</a:t>
            </a:r>
            <a:endParaRPr b="0" lang="en-US" sz="2700" spc="-1" strike="noStrike">
              <a:solidFill>
                <a:srgbClr val="575f6d"/>
              </a:solidFill>
              <a:latin typeface="Century Schoolbook"/>
            </a:endParaRPr>
          </a:p>
        </p:txBody>
      </p:sp>
      <p:sp>
        <p:nvSpPr>
          <p:cNvPr id="361" name=""/>
          <p:cNvSpPr txBox="1"/>
          <p:nvPr/>
        </p:nvSpPr>
        <p:spPr>
          <a:xfrm>
            <a:off x="456840" y="1214280"/>
            <a:ext cx="8186760" cy="52596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Vērtēšanas komisija vērtē lēmumā par projekta iesnieguma apstiprināšanu ar nosacījumu ietvertā nosacījuma izpildi, un atbildīgā iestāde sagatavo atzinumu par lēmumā ietvertā nosacījuma izpildi 20 darbdienu laikā pēc lēmumā norādītā termiņā beigām.</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Ja lēmumā ietvertais nosacījums nav izpildīts vai nav izpildīts termiņā, kas noteikts lēmumā par projekta iesnieguma apstiprināšanu ar nosacījumu, vai atbildīgās iestādes atzinums ir negatīvs, Kohēzijas fonda projekta iesniegums uzskatāms par noraidītu.</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Atzinumu, kurā ir konstatēts, ka projekta iesniedzējs nav izpildījis lēmumā ietverto nosacījumu, atbildīgā iestāde divu darbdienu laikā nosūta projekta iesniedzēja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57120" y="274680"/>
            <a:ext cx="842976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CIVILTIESISKĀ LĪGUMA VAI VIENOŠANĀS SLĒGŠANA</a:t>
            </a:r>
            <a:endParaRPr b="0" lang="en-US" sz="2700" spc="-1" strike="noStrike">
              <a:solidFill>
                <a:srgbClr val="575f6d"/>
              </a:solidFill>
              <a:latin typeface="Century Schoolbook"/>
            </a:endParaRPr>
          </a:p>
        </p:txBody>
      </p:sp>
      <p:sp>
        <p:nvSpPr>
          <p:cNvPr id="363" name=""/>
          <p:cNvSpPr txBox="1"/>
          <p:nvPr/>
        </p:nvSpPr>
        <p:spPr>
          <a:xfrm>
            <a:off x="456840" y="1071720"/>
            <a:ext cx="7900920" cy="540216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Ja ir pieejami finanšu līdzekļi, atbildīgā iestāde ar finansējuma saņēmēju slēdz civiltiesisku līgumu vai vienošanos par Kohēzijas fonda projekta īstenošanu 30 darbdienu laikā pēc:</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lēmuma pieņemšanas par Kohēzijas fonda projekta iesnieguma apstiprināšanu;</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lēmumā par Kohēzijas fonda projekta iesnieguma apstiprināšanu norādīto nosacījumu izpildes. Minēto nosacījumu izpildes termiņš nevar būt lielāks par trijiem mēnešiem;</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Eiropas Komisijas lēmuma pieņemšanas par lielā projekta apstiprināšan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85840" y="356760"/>
            <a:ext cx="850104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500" spc="-1" strike="noStrike">
                <a:solidFill>
                  <a:srgbClr val="575f6d"/>
                </a:solidFill>
                <a:latin typeface="Century Schoolbook"/>
              </a:rPr>
              <a:t>CIVILTIESISKĀ LĪGUMA VAI VIENOŠANĀS SLĒGŠANA </a:t>
            </a:r>
            <a:br>
              <a:rPr sz="2500"/>
            </a:br>
            <a:r>
              <a:rPr b="1" lang="lv-LV" sz="2400" spc="-1" strike="noStrike">
                <a:solidFill>
                  <a:srgbClr val="575f6d"/>
                </a:solidFill>
                <a:latin typeface="Century Schoolbook"/>
              </a:rPr>
              <a:t>(1. IESPĒJAMAIS VARIANTS)</a:t>
            </a:r>
            <a:endParaRPr b="0" lang="en-US" sz="2400" spc="-1" strike="noStrike">
              <a:solidFill>
                <a:srgbClr val="575f6d"/>
              </a:solidFill>
              <a:latin typeface="Century Schoolbook"/>
            </a:endParaRPr>
          </a:p>
        </p:txBody>
      </p:sp>
      <p:sp>
        <p:nvSpPr>
          <p:cNvPr id="365" name=""/>
          <p:cNvSpPr txBox="1"/>
          <p:nvPr/>
        </p:nvSpPr>
        <p:spPr>
          <a:xfrm>
            <a:off x="457200" y="1071720"/>
            <a:ext cx="8043840" cy="540216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Ja atbildīgajai iestādei vai sadarbības iestādei ir pieejami finanšu resursi civiltiesiska līguma par Eiropas Savienības fonda projekta īstenošanu vai vienošanās par Eiropas Savienības fonda projekta īstenošanu saistību izpildei, tā ar finansējuma saņēmēju slēdz līgumu vai vienošanos 30 darbdienu laikā pēc: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a pieņemšanas par Eiropas Savienības fonda projekta iesnieguma apstiprināšanu, ja lēmumā nav ietverti nosacījumi;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ā par Eiropas Savienības fonda projekta iesnieguma apstiprināšanu norādīto nosacījumu izpildes (arī pēc Eiropas Savienības fonda projekta saņemšanas, kas precizēts saskaņā ar MK noteikumu Nr. 419 14.punktu), ja lēmumā ir ietverti nosacījumi.</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Ja atbildīgajai iestādei vai sadarbības iestādei un finansējuma saņēmējam, kas nav valsts budžeta iestāde vai plānošanas reģions, nav pieejami finanšu resursi līguma vai vienošanās saistību izpildei un ar finansējuma saņēmēju nav iespējams noslēgt līgumu vai vienošanos, atbildīgā iestāde vai sadarbības iestāde slēdz līgumu vai vienošanos piecu darbdienu laikā pēc tam, kad tai kļūst pieejami finanšu resursi.</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81867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575f6d"/>
                </a:solidFill>
                <a:latin typeface="Century Schoolbook"/>
              </a:rPr>
              <a:t>CIVILTIESISKĀ LĪGUMA VAI VIENOŠANĀS SLĒGŠANA </a:t>
            </a:r>
            <a:br>
              <a:rPr sz="2400"/>
            </a:br>
            <a:r>
              <a:rPr b="1" lang="lv-LV" sz="2400" spc="-1" strike="noStrike">
                <a:solidFill>
                  <a:srgbClr val="575f6d"/>
                </a:solidFill>
                <a:latin typeface="Century Schoolbook"/>
              </a:rPr>
              <a:t>(2. IESPĒJAMAIS VARIANTS)</a:t>
            </a:r>
            <a:endParaRPr b="0" lang="en-US" sz="2400" spc="-1" strike="noStrike">
              <a:solidFill>
                <a:srgbClr val="575f6d"/>
              </a:solidFill>
              <a:latin typeface="Century Schoolbook"/>
            </a:endParaRPr>
          </a:p>
        </p:txBody>
      </p:sp>
      <p:sp>
        <p:nvSpPr>
          <p:cNvPr id="367" name=""/>
          <p:cNvSpPr txBox="1"/>
          <p:nvPr/>
        </p:nvSpPr>
        <p:spPr>
          <a:xfrm>
            <a:off x="457200" y="1356840"/>
            <a:ext cx="7972560" cy="511668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Ja atbildīgajai iestādei vai sadarbības iestādei nav pieejami finanšu resursi līguma vai vienošanās saistību izpildei, bet finansējuma saņēmējs, kas nav valsts budžeta iestāde vai plānošanas reģions, līguma vai vienošanās saistību izpildi var veikt no saviem līdzekļiem (tai skaitā no saviem budžeta ieņēmumiem, budžeta līdzekļu atlikumiem vai aizņēmuma), atbildīgā iestāde vai sadarbības iestāde ar finansējuma saņēmēju slēdz līgumu vai vienošanos:</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15 darbdienu laikā pēc lēmuma pieņemšanas par Eiropas Savienības fonda projekta iesnieguma apstiprināšanu, ja lēmumā nav ietverti nosacījumi;</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30 darbdienu laikā pēc lēmumā par Eiropas Savienības fondu projekta iesnieguma apstiprināšanu norādīto nosacījumu izpildes (arī pēc Eiropas Savienības fonda projekta saņemšanas, kas precizēts saskaņā ar MK noteikumu Nr. 419 14.punktu), ja lēmumā ir ietverti nosacījumi.</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57:57Z</dcterms:created>
  <dc:creator>LauraB</dc:creator>
  <dc:description/>
  <dc:language>en-US</dc:language>
  <cp:lastModifiedBy>LauraB</cp:lastModifiedBy>
  <dcterms:modified xsi:type="dcterms:W3CDTF">2009-10-12T06:00:35Z</dcterms:modified>
  <cp:revision>39</cp:revision>
  <dc:subject/>
  <dc:title>Aktivitātes ieviešanas laika grafiks</dc:title>
</cp:coreProperties>
</file>