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004DEA-7013-4A7E-803C-5D958E6B5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3E93F9-B55C-4264-B36C-A65A3EAB1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80414F-BD12-4455-8E44-50D287E63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2C4AF8-8E67-4915-8AA2-A5921861D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AEB5E-46F4-4B3D-B974-AB48802E3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B4EF0-DB94-4C35-86FA-CCFF7A0E1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3E3BA-C2E5-4B8D-AAAE-D09CB8A07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928AC-832D-4435-8FFA-AB8DEC301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33989-0491-4F3F-9169-180D1E90C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01252-11D2-4BFA-BC64-D40DA7F22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455D6-0D53-43F0-B909-FA4EB9467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D2D656-EF71-4B0D-9A1F-0E67F8FA2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2BA96-DF48-4290-AC7B-B555ACF3E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4902F-3239-4CB0-B5CA-EA925AB21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117BB-93CC-4DD5-ADB9-42637573C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9E3F0-4546-420E-95FB-1AE39FBF5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A2A87-B633-4457-A57E-576EDCA52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A9EB3A-94E8-4545-B42C-56F24D7A6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8FDE9A-9E8D-464C-95CD-031993C4A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E62D8A-A0B6-4893-871A-834919AD7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FC3824-DE03-47BD-A9C8-04CD3C3F3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8BBA8-8CFF-47AE-9ED4-8750AB694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AC75C4-0A3D-451A-B5AA-3AFBFA46A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7AADC-BC0F-44D2-8F87-15F73D797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27CA0-4962-47DD-8801-7031A6921028}" type="slidenum">
              <a:rPr b="0" lang="lv-LV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226A5-4375-4296-86F5-17C1CD29F5C6}" type="slidenum">
              <a:rPr b="0" lang="lv-LV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mailto:maija.gleizde@vidm.gov.lv" TargetMode="External"/><Relationship Id="rId2" Type="http://schemas.openxmlformats.org/officeDocument/2006/relationships/hyperlink" Target="mailto:Ilze.kremere@vidm.gov.lv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ffffff"/>
                </a:solidFill>
                <a:latin typeface="Arial"/>
              </a:rPr>
              <a:t>Ūdenssaimniecības būvju būvniecības projektu vērtēšanas komisija (ŪBK)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Arial"/>
              </a:rPr>
              <a:t>Izveidota ar 19.02.2008. Vides ministra rīkojumu Nr.46 un darbojas saskaņā ar 18.12.2007. MK noteikumiem Nr.912 “Ūdensapgādes, notekūdeņu savākšanas un attīrīšanas būvju būvniecības kārtība”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KF projekta iesnieguma pielikumā jāpievieno ŪBK akcepts par T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MK not.Nr.912 kārtīb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Arial"/>
              </a:rPr>
              <a:t>ŪBK izdod atzinumu par sākotnējo projekta ieceri</a:t>
            </a: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 (912.not. 1.pielikum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Arial"/>
              </a:rPr>
              <a:t>Nav iesniegta sākotnējā projekta iecere Kalnciemam, Līvāniem, Viesīte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Arial"/>
              </a:rPr>
              <a:t>Atzinums par tehniski ekonomisko pamatojumu</a:t>
            </a: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lv-LV" sz="1400" spc="-1" strike="noStrike">
                <a:solidFill>
                  <a:srgbClr val="000000"/>
                </a:solidFill>
                <a:latin typeface="Arial"/>
              </a:rPr>
              <a:t>(30 darba dienu laikā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Arial"/>
              </a:rPr>
              <a:t>Izsniegti 12 akcepti par TEP KF 2.projektu grupas pieteicējiem, no tiem 4 akcepti 2008.gadā.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Arial"/>
              </a:rPr>
              <a:t>Visiem izsniegtajiem akceptiem jāņem vērā izmaiņu sliekšņi (912.not. 17.1. un 17.2.p.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Arial"/>
              </a:rPr>
              <a:t>Administratīvās prasības TEP iesniegšana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Arial"/>
              </a:rPr>
              <a:t>Pavadvēstul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Arial"/>
              </a:rPr>
              <a:t>Jābūt pievienotam lēmumam (PrIP komponentes un finanšu plān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Arial"/>
              </a:rPr>
              <a:t>Jābūt cauršūtam, lapām numurētā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Arial"/>
              </a:rPr>
              <a:t>Jāpievieno TEP elektroniskā versija (t.sk. finanšu modelis Exc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TEP satur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Esošās situācijas izvērtējum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Sociālekonomiskais, tehniskais, vides, institucionālais un finanšu izvērtēju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Ilgtermiņa investīciju programma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Stratēģisko alternatīvu pamatojums, sistēmu tehniskais, institucionālais, vides un ekonomiskais izvērtējums. Plānoto darbību prioritizācij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Prioritārā investīciju programma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Plānoto darbību detalizēts tehniskais, izmaksu un vides ieguvumu apraksts. Finanšu plāns un projekta dzīvotspējas aprēķins. Institucionālo pasākumu ieviešanas plāns, iepirkumu stratēģij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TEP finanšu aktualizāci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Ietv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Esošās finanšu situācijas aktualizācija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IIP pārskats (ja nepieciešams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PrIP aktualizācija, būvindikatoru izmaiņu pamatojum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Finanšu plāna izstrād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Laika grafika un iepirkuma plāna aktualizācija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Projekta ieguvumu aktualizācij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TEP aktualizācijā jāņem vērā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Aktivitātes finansēšanas nosacījumos (atbalstāmās, neatbalstāmās darbības, attiecināmās, neattiecināmās, neiekļaujamās izmaksas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Izmaiņas finanšu plānā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Izmaiņas maksājumu nosacījumos (MK not.Nr.418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Makroekonomisko rādītāju izmaiņas (jauni rādītāji tiks apstiprināti 16.10.2009. ŪBK sēdē. Iesniegtajiem un akceptētajiem projektiem izmaiņas nav jāvei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Administratīvās reformas izmaiņas un ietekme uz projekta iesniedzēju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Pārvaldes lēmuma, pārvaldes līguma vai līguma par sabiedrisko pakalpojumu sniegšanu kopijas pievienošana pie projekta iesniegu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Arial"/>
              </a:rPr>
              <a:t>Apkopojums par tipiskajiem neatbilstību piemēriem TEP (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1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1. Esošajā situācijā nav analizēti visi nepieciešamie dati (infiltrācija, ūdens zudumi, piesārņojuma slodze izteikta cilvēku ekvivalentos (CE), ūdens/notekūdeņu bilance, shematiskie materiāli ir nepilnīgi, dzeramā ūdens testēšanas pārskati gan urbumā gan pie patērētāja un notekūdeņu analīz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2.  Ilgtermiņa investīciju programma neietver pilnu ūdenssaimniecības sistēmu attīstību (īpaši attiecībā uz pieslēgumiem), attiecībā uz norādītajām problēmām esošajā situācijā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3. Ilgtermiņa investīciju programmai netiek veikta stratēģisko alternatīvu analīzes, netiek veikta komponenšu prioritizācij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7427880" cy="11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Arial"/>
              </a:rPr>
              <a:t>Gada pārskata apkopojums par tipiskajiem neatbilstību piemēriem TEP (I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5. TEP netiek skaidri norādītas plānotās būvdarbu un iekārtu vienību cenas, gads pret kurām tās attiecinātas un pieņēmumi izmaksu aprēķināšana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6. TEP nav iekļauti iepirkumu plāni un iepirkumu procedūra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7. TEP nav sniegts pamatojums par principa „piesārņotājs maksā” ievērošanu, kā arī pilnu izmaksu segšanas rādītājiem tarifu aprēķināšanā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8. Projekta naudas plūsmas prognozei jābūt pozitīva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9.Jānorāda visi projekta ieguvumi, gan ekonomiskie, gan kvalitatīvie un kvantitatīvi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000000"/>
                </a:solidFill>
                <a:latin typeface="Arial"/>
              </a:rPr>
              <a:t>Tipiskākās neattiecināmās izmaksas (darbības)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1.Infrastruktūras ekspluatācijas izdevum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- Mērītāju uzstādīšan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Tīklu skalošan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Rezerves daļas, laboratorijas trauki, gadījumos, kad šīs izmaksas ir nepieciešamas projekta iesniegumā norādīto projekta mērķu sasniegšana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2. Virsnormatīvu prasību sasniegšan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- Ūdens mīkstināšan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- Virszemes hidrantu uzstādīšan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3. Aprīkojuma iegāde, kas attiecas uz tīklu uzturēšanas un izbūves pasākumie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4. Elektrolīniju izbūve, kura projekta rezultātā nav finansējuma saņēmēja īpašumā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5. Notekūdeņu attīrīšanā uzkrāto dūņu pārstrāde un apsaimniekošan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6. Sagatavošanas izmaksu, autoruzraudzības, būvuzraudzības sliekšņu pārsniegšan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7.Projekta vadības un administratīvās izmaks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Arial"/>
              </a:rPr>
              <a:t>Kontaktperson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3200" spc="-1" strike="noStrike">
                <a:solidFill>
                  <a:srgbClr val="000000"/>
                </a:solidFill>
                <a:latin typeface="Arial"/>
              </a:rPr>
              <a:t>ŪBK sekretāre – Maija Gleizd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maija.gleizde@vidm.gov.lv</a:t>
            </a:r>
            <a:r>
              <a:rPr b="1" lang="lv-LV" sz="3200" spc="-1" strike="noStrike">
                <a:solidFill>
                  <a:srgbClr val="000000"/>
                </a:solidFill>
                <a:latin typeface="Arial"/>
              </a:rPr>
              <a:t>;                                                   t-670269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Arial"/>
              </a:rPr>
              <a:t>ŪBK vadītāja – Ilze Krēm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Ilze.kremere@vidm.gov.lv</a:t>
            </a:r>
            <a:r>
              <a:rPr b="1" lang="lv-LV" sz="3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v-LV" sz="3200" spc="-1" strike="noStrike">
                <a:solidFill>
                  <a:srgbClr val="000000"/>
                </a:solidFill>
                <a:latin typeface="Arial"/>
              </a:rPr>
              <a:t>t-670269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0T08:51:06Z</dcterms:created>
  <dc:creator>Laura Bramane</dc:creator>
  <dc:description/>
  <dc:language>en-US</dc:language>
  <cp:lastModifiedBy>LauraB</cp:lastModifiedBy>
  <dcterms:modified xsi:type="dcterms:W3CDTF">2009-10-12T05:58:23Z</dcterms:modified>
  <cp:revision>24</cp:revision>
  <dc:subject/>
  <dc:title>Ūdenssaimniecības būvju būvniecības projektu vērtēšanas komisija (ŪBK)</dc:title>
</cp:coreProperties>
</file>