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BBC-0A55-4238-B9CF-87570C4F070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585-8C21-4AEA-988B-CA4E575065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559-2A76-4F49-9CEB-ACA3E4B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0B1-1DBD-4E27-B5DF-BC1DDE1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D15-CACC-46C9-BE2C-996B880D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15F-DE6F-4498-9C4D-DC1BD3D0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5678-2D45-48D7-BE0C-757012A2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847-72FB-46C0-B29B-BAB1262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97B-395E-463E-836D-23C2898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89F-7788-45E4-A56B-BDDB73EE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193A-4CA6-4906-8113-A7954234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0B3E-D96A-4D94-BCF9-1321192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BB6-416B-4775-B42C-94EC1B92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3C1-57E0-4C48-9B8E-4C86C546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2670-CCEA-4F44-B140-B785258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5E21-2F51-4175-A864-11287ED9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345-43CD-46BD-8CB8-909C48AA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F87-BA59-4F32-ABAE-8E815071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AAAA-D3BE-4E31-8F4F-9F151B66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A5EF-CD91-40F3-A4F5-641D1D7C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795B-F2D0-47B2-A4BA-E6A91F5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2342-7911-4902-AED2-E40FAF53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A0B8-B575-4941-85EB-4F15FF0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D015-1785-42AA-9C53-D916CBCC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947-3BD3-4C6C-BD0C-92F0C101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8B3C-39FE-41D8-B915-3AD8184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65F6-4716-401F-998D-B07C03E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170E-4C17-47F4-9308-0551117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1C45-C384-45DC-B5D5-F1E2392F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6038-CD1A-4957-B6C8-7599A0DB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AD04-18B9-4F7B-983A-CA1D3FCF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B118-4A4C-459D-8796-F19BD29C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74DB-D59E-449F-A1B4-29C00292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53D0-BD9F-4182-BA76-33094F88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130C-E583-43F1-9D16-EA42AA0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0B4-4948-4285-898E-6634B29D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E4F8-716A-42DE-BE84-C04E4FE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327E-A049-4B37-AA89-085CE2B6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9C6B-F227-4543-A6F7-4F483EA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AA32-F604-47FB-AB67-82D11E5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7706-ADF9-4CB4-B7E2-EB9D050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A43F-24A3-4CF7-8385-9134A14A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7AEE-1772-42EF-9B07-DB0B8F05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A5DC-5B86-4E26-B606-43C6FAF6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B8AC-BBB9-4370-AD95-AD10DF02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9175-AB7D-4CA7-A74B-E2E19C94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E76-56C4-4ADA-961D-BF8524D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8EAB-9F07-4A22-B372-69916A92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F98C-228C-4065-8352-409F7550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E7E4-230A-4D54-AC63-4BA1AFFC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70B2-AB36-4AFA-BEC4-8AEB85E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E727C-B0DA-4A5B-B071-D726F7B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B2F2-186A-4822-A70C-BB31C11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5706-E1F8-4106-A91D-2FD3419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A73E-F6F9-4B44-ABFE-7B50C77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A60A-7B6E-40E7-A210-2628D76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D782-B92F-4180-BDC4-EAE7B64F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052-1689-48A4-8BDC-E6CB9ACD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BA8D-EB43-4E49-9261-8EC9DE2C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2E6-B293-4F2A-AEA0-BD3437DF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F0B-AC69-4CBA-96DF-1FF8A03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E4B-48B5-4BC5-BB1B-886FC75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048C-39C3-42B2-B5E3-7EA803C3D696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B85C-78E0-4DD0-B93D-144416E15E2F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7A74-F18B-4AE4-8104-EFC7BAB82143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6393-8300-475C-B61C-3B22EF82A12B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82C8-5C14-4CCA-A0D8-CB9695F182A1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kase.gov.l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57160" y="3571560"/>
            <a:ext cx="7407360" cy="1400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6a6363"/>
                </a:solidFill>
                <a:latin typeface="Franklin Gothic Book"/>
              </a:rPr>
              <a:t>Aizņēmumu un galvojumu piešķiršanas nosacījum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Projektu iesniedzēj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ēzijas fonda projekta iesniedzējs –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ējuma saņēmējs – var būt tikai ūdenssaimniecības sabiedrisko pakalpojumu sniedzēj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švaldības, pašvaldību iestādes un aģentūras, kā arī kapitālsabiedrības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ām ar pašvaldību noslēgts līgums, kas nosaka ūdenssaimniecības sabiedriskā pakalpojuma snieg­šanas pienākuma būtību, ilgumu, pakalpojumu sniegšanas teritoriju, kom­pensācijas maksājumu aprēķināšanas nosacījumus un citus nosacījum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 uzņēmums var nodrošināt nepieciešamos resursus ar saviem apgrozāmiem līdzekļi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redītiestādes izvēle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(iespējamie veidi: konkurss, cenu aptauja u.c.)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Latvijas kredītinstitūcijas (komercbankas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Starptautiskās kredītinstitūcijas (komercbankas un citas kredītinstitūcijas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(dažādi aizņēmuma nosacījumi – procentu likme, nepieciešamība pēc galvotāja, atmaksas nosacījumi, atskaites, kontrole u.c.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Vai paša uzņēmuma kredītspēja ir pietiekama, lai paņemtu nepieciešamo aizņēmumu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r likumu par valsts gadskārtējo budžetu tiek noteikts limits gan pašvaldību aizņēmumiem, gan galvojumiem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(tāpēc ir laikus jāsaņem atļauja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Pašvaldību galvojum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Pašvaldību galvojumu sniegšanas kārtību un procedūru nosaka sekojoši normatīvie akti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kums “Par budžetu un finanšu vadību”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kums “Par pašvaldību budžetiem”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K noteikumi Nr.19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Lēmumu par atļauju pašvaldībai sniegt galvojumu pieņem Finanšu ministrijas Pašvaldību aizņēmumu un galvojumu kontroles un pārraudzības padome (turpmāk tekstā - Padome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000" spc="-1" strike="noStrike">
                <a:solidFill>
                  <a:srgbClr val="696464"/>
                </a:solidFill>
                <a:latin typeface="Franklin Gothic Book"/>
              </a:rPr>
              <a:t>Noteikumi par pašvaldību aizņēmumiem un galvojumiem</a:t>
            </a:r>
            <a:endParaRPr b="0" lang="en-US" sz="3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17800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K noteikumi Nr.196 pieņemti 2008.03.25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ēkā no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.04.04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ikumi nosaka kārtību, kādā pašvaldības var ņemt aizņēmumus un sniegt galvojumu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švaldībai ir pienākums precizēt aizņēmuma apmēru atbilstoši iepirkumu procedūras rezultātiem, bet nepārsniedzot pašvaldības lēmumā noteikto aizņēmuma apmēru. Šo informāciju pašvaldība iesniedz Valsts kasē aizņēmuma saņemšana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Padomes sēd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švaldības iesniegumu aizņēmuma saņemšanai sniegšanai izskata padomes sēdē, ja ne vēlāk kā 10 darbdienas pirms attiecīgās padomes sēdes ir iesniegti nepieciešamie dokument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domei ir tiesība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ieprasīt un saņemt no pašvaldības jebkuru papildinformāciju, ja tā nepieciešama konkrētā iesnieguma izskatīšana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ārraugot pašvaldību finansiālās darbības jautājumos, kas saistīti ar aizņēmumiem un galvojumiem, rīkot izbraukuma sēdes, lai pārbaudītu vai aizņēmumi tiek izlietoti padomes atļaujā norādītajiem mērķiem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a6363"/>
                </a:solidFill>
                <a:latin typeface="Franklin Gothic Book"/>
              </a:rPr>
              <a:t>Pašvaldību finanšu saistību limi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švaldību saistību līmenis līdz 20% no pašvaldības ieņēmumi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ecībā uz ES fondu projektiem – tiek vērtēts individuā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dzfinansējums no pašvaldības var tikt ieguldīts tikai kā pamatkapitāla palielinājums SIA (ja projektu īstenos SI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Aizņēmuma plānošan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Attiecināmās izmaks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Neattiecināmās izmaks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Apgrozāmie līdzek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Apgrozāmie līdzekļi PVN segšana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Pārbaude aizņēmuma vai galvojuma apstiprināšanas laikā tiek veikta, pamatojoties uz projekta iesniegumu un aktuālo prognozi, salīdzinot ar iesniegtajiem dokumenti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Informācij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ts kases mājas lap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lv-LV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www.vkase.gov.lv</a:t>
            </a:r>
            <a:r>
              <a:rPr b="0" i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omes kontakttālruni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95469 Kristīne Kapteine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95464 Agnese Kurme</a:t>
            </a:r>
            <a:r>
              <a:rPr b="0" i="1" lang="lv-LV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3:18Z</dcterms:created>
  <dc:creator>JolantaJ</dc:creator>
  <dc:description/>
  <dc:language>en-US</dc:language>
  <cp:lastModifiedBy>LauraB</cp:lastModifiedBy>
  <dcterms:modified xsi:type="dcterms:W3CDTF">2009-10-12T05:55:56Z</dcterms:modified>
  <cp:revision>14</cp:revision>
  <dc:subject/>
  <dc:title>Slide 1</dc:title>
</cp:coreProperties>
</file>