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36.png" ContentType="image/png"/>
  <Override PartName="/ppt/media/image12.png" ContentType="image/png"/>
  <Override PartName="/ppt/media/image49.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7.png" ContentType="image/png"/>
  <Override PartName="/ppt/media/image10.png" ContentType="image/png"/>
  <Override PartName="/ppt/media/image46.png" ContentType="image/png"/>
  <Override PartName="/ppt/media/image50.png" ContentType="image/png"/>
  <Override PartName="/ppt/media/image11.png" ContentType="image/png"/>
  <Override PartName="/ppt/media/image48.png" ContentType="image/png"/>
  <Override PartName="/ppt/media/image13.png" ContentType="image/png"/>
  <Override PartName="/ppt/media/image39.png" ContentType="image/png"/>
  <Override PartName="/ppt/media/image9.png" ContentType="image/png"/>
  <Override PartName="/ppt/media/image20.png" ContentType="image/png"/>
  <Override PartName="/ppt/media/image6.jpeg" ContentType="image/jpeg"/>
  <Override PartName="/ppt/media/image18.png" ContentType="image/png"/>
  <Override PartName="/ppt/media/image35.png" ContentType="image/png"/>
  <Override PartName="/ppt/media/image5.png" ContentType="image/png"/>
  <Override PartName="/ppt/media/image7.jpeg" ContentType="image/jpe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67"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31"/>
          </p:nvPr>
        </p:nvSpPr>
        <p:spPr>
          <a:xfrm>
            <a:off x="377820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70" name="PlaceHolder 4"/>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1" name="PlaceHolder 5"/>
          <p:cNvSpPr>
            <a:spLocks noGrp="1"/>
          </p:cNvSpPr>
          <p:nvPr>
            <p:ph type="ftr" idx="32"/>
          </p:nvPr>
        </p:nvSpPr>
        <p:spPr>
          <a:xfrm>
            <a:off x="0" y="943128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3"/>
          </p:nvPr>
        </p:nvSpPr>
        <p:spPr>
          <a:xfrm>
            <a:off x="3778200" y="943128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85EF-E807-4E18-8F59-41018D2D9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778200" y="943128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BC61-462E-40F7-8224-75527E8D7240}" type="slidenum">
              <a:rPr b="0" lang="lv-LV"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619" name="PlaceHolder 1"/>
          <p:cNvSpPr>
            <a:spLocks noGrp="1"/>
          </p:cNvSpPr>
          <p:nvPr>
            <p:ph type="sldImg"/>
          </p:nvPr>
        </p:nvSpPr>
        <p:spPr>
          <a:xfrm>
            <a:off x="852480" y="744480"/>
            <a:ext cx="4964040" cy="3722760"/>
          </a:xfrm>
          <a:prstGeom prst="rect">
            <a:avLst/>
          </a:prstGeom>
          <a:ln w="0">
            <a:noFill/>
          </a:ln>
        </p:spPr>
      </p:sp>
      <p:sp>
        <p:nvSpPr>
          <p:cNvPr id="620"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atrā uzņēmumā būtu jābūt izstrādātiem šādiem grāmatvedības organizācijas dokumenti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27F63-D472-4BC4-9072-6B1D0F6E9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1F66-4050-4951-B46A-FCA8B48E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6C8DAF-D105-4789-9308-4D05DEE724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36F081-B7C3-4B23-B25B-CD1315712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BBCC9E-6724-408A-9790-998C1BE33A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5B1F8-4C3A-4CCD-9E73-1FDC181C4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33E03-7F99-489C-9A8B-525913FEC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30CA3-DFBA-49D4-A407-69873CB05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08EC23-9AF0-48C4-926B-520F79337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D9C36A-ED36-44CB-8F83-B60558A3C6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A720E8-16BF-433A-BC17-FE217A8846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0EF603-9F48-47D4-BA2B-E2C476371A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B89DD-E7D0-43B1-899A-F255493E8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738FB1-8B7B-4EAA-8568-6FBD2E00BC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F599E9-F12D-490E-BC7E-DB2C9A3106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FCEF1B-42C5-427D-A825-2AB555A918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E45004-63B0-4A03-93F5-A624AFBFB6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FE5A6B-69F8-43F3-8845-310409830A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868971-19D5-409E-B25C-446BF37974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929620-8845-4EDB-B2DE-E923D34E26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6F2E0B-AEBD-4408-9716-F7C9F7B8B3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B85D54-1D5B-4A55-9A82-D7C746C4BA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061AB5-379C-45D8-978C-F7E00C2EBC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491A5-5460-4BF0-9CBC-546BE9189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F3BE65-2A48-4603-8F4E-B46A07A870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F5497-007C-4015-8697-58A0F9DB9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51151-9101-4B66-9554-6A5F43B1B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29806-CAB4-4BDD-B613-67FB5D562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C1377-3F1F-4DB5-AD2A-A52D83E9E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B24BA-BAA8-4468-9AB5-60F38455D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90C21-26B1-4E2E-B80E-663657EEA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1688B-1B3D-4C68-9792-F30E98DEB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EE6C-9B2F-4CF3-849C-3E7AAAA7D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FD51-A8A5-4221-9215-2E596389A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01BD-8AAD-4478-AB86-C1CDF9C95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5ACA1-2846-4908-A194-639E62F0C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E7B51-27FD-47AB-A57B-DA693B6C5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E61F7-E5F0-48D7-8F5D-3C4C7B2B8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B248D-0A2C-4E88-8CAC-A3BCAB638D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D400C-5660-4058-B2CE-A6E36BB5F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2AA77-25F6-486C-AE56-19AD07F87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BD267-F9CE-4DA1-BE27-877A57FD2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3791D-4EB8-485C-92D7-BD62782BE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5EDD-8853-43DB-B97A-48B1A7B99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E8BC6-D733-43A2-8E3C-0ACD66CB9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ED935-E00F-48A5-916B-86CBE7212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105BD-F74E-4E66-9297-B75B6B8D9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D35DF-BA79-4E23-9F01-96585BE52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9539D-4CFE-42E1-9953-5EDB8AE61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89694F-F85B-43FC-8308-88E76D2CDF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1B6C20-43CA-4A85-BBF5-35D79248E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B1DD41-86D4-4FF7-85AD-50FB07B6DA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19535-10AC-46B3-BAB7-1A0AC376A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B1EB4-7EED-454C-9EBD-4EB540E25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4394-FA6D-4FEC-9B82-3614256FA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8FB866-9A1F-4835-9F04-3FF57343E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2033D-375D-44BC-A1B4-88B77ADD6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02FA3B-59F9-4E27-9B1B-DE7829B4B7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CA64C-7427-43FE-8157-FAFB3CF02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DF1E0-26D3-4F22-A62E-7D63EA781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7F5ED-4A31-4BCB-9657-EBE9B3BD5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6FE08-A9E2-44EB-9F5B-3A89BF81A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E31C34-A39B-4E67-97E8-81757453E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4ADCF-2DAC-4AD5-A844-AF63ABE4B0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6AD7E-1AD3-4979-8232-806C59C00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62BA2-6F5A-48FB-8874-5EACD689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7201E-1C92-4538-9F67-5EA061DEA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6404D-656F-4512-A976-53F30E3F0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0CDC0-2EA7-4B70-BDDC-80D50D368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391E4-BE4F-4FEA-84B5-EB4BCAEC5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364D4F-4A93-49D5-9651-36DFB4E0A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1B9F6-A4EA-442D-B37A-49BFDD436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C07FC-F94E-40F9-86B3-051C0E080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1E056-5D47-4455-A057-C51F6F7ED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1DBE7F-6A32-457B-8585-17A0608D6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5DDC32-B04F-4948-85AE-60280D353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FB5CD-33F9-48AD-995C-B11705296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43A4A6-42D0-4D6D-9D94-658E7122DB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13F5A8-B3F4-48FB-AD61-38C3AFCF2B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9208D-8270-4469-8B1C-B20798B03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07607-E23B-4A85-9EFD-493C790A0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E4FC7-8BDD-49A3-A53D-861CBFC9C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4EA55-53FC-4274-9604-68111D7517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01E2A3-5BF3-47B9-97C5-1C99F26C85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9B682F-315F-4F13-8C29-02DB3C874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9810F-8093-4666-923F-7AF0BC7B6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E92D0-592A-4F37-ADA0-C9DC9C570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FAC9-2FE4-4F4A-8AE3-7EE69266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C2EA52-3493-42CD-B7CF-85F585D53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A4A80-948B-4DCC-A32F-55F0496610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8F3296-9AD9-41FC-B5DD-12CAF3C654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A256B7-205F-4327-A132-9D2DA5020B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CE75A-5AD0-420E-B5AD-D3A057F5D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F098AC-F9A1-4150-B439-BEF5223F0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818CD-8413-4FC5-A387-E9B4CD8E5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AFBE2-E6F8-42D1-8C6B-CB516D7954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E54CF-05D6-42B6-B323-B924ED26B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89635-93A8-4609-AAA8-C956C41DF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15D7-B665-43B7-9F21-6D7299D9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F8EA4-5B77-428A-A736-DEF724775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9CC21-C09D-441B-9DB7-EB8EBCF93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DA9AA9-755E-43E0-88F7-7C4BA3D11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A088AE-C780-4E25-BE7F-D031999AF1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082B2-5F78-4C38-BDB6-306DE4B726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FE665-4B7D-4147-8C81-332FE2492B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7B825-0F1A-4292-BA4C-F5DA1A736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0EB0DB-85CC-4049-8F6E-E6030D1244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AE88A7-54E0-4668-8BC4-54F314A8E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FDC7CB-00ED-43BB-B7B7-B6BD6E5CCB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CBB3-53BD-4B14-B484-B9A49A94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719B51-E0B2-4AB2-AC6D-8EFD7427F0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D03F4-BF45-40EB-A754-34CA3B33F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B0E4B-71FA-4B49-8A56-9BAE41A4C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196B9-750F-4CE4-A54F-CF73935EC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5C5CF9-1B59-438A-9233-EE218C763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32AA6D-A511-4E3D-AAB7-2346EB3C6D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2B95E8-91CD-4C3C-9E71-0FA0E281E4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C1718F-162B-47DC-BDB7-7C3D1DFFA0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50ED0-BD9A-4A7E-A3C9-5AD888506D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1CBD8E-193E-48B0-8B05-7D42738815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9908-B7D3-4B1A-9DEB-22ACAB096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Freeform 16"/>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Freeform 1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419" name="Right Triangle 19"/>
          <p:cNvGrpSpPr/>
          <p:nvPr/>
        </p:nvGrpSpPr>
        <p:grpSpPr>
          <a:xfrm>
            <a:off x="-12600" y="5784840"/>
            <a:ext cx="3414600" cy="1092240"/>
            <a:chOff x="-12600" y="5784840"/>
            <a:chExt cx="3414600" cy="1092240"/>
          </a:xfrm>
        </p:grpSpPr>
        <p:pic>
          <p:nvPicPr>
            <p:cNvPr id="420" name="Right Triangle 19" descr=""/>
            <p:cNvPicPr/>
            <p:nvPr/>
          </p:nvPicPr>
          <p:blipFill>
            <a:blip r:embed="rId3"/>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422" name="Straight Connector 20" descr=""/>
          <p:cNvPicPr/>
          <p:nvPr/>
        </p:nvPicPr>
        <p:blipFill>
          <a:blip r:embed="rId4"/>
          <a:stretch/>
        </p:blipFill>
        <p:spPr>
          <a:xfrm>
            <a:off x="-19080" y="5772240"/>
            <a:ext cx="3421080" cy="1109520"/>
          </a:xfrm>
          <a:prstGeom prst="rect">
            <a:avLst/>
          </a:prstGeom>
          <a:ln w="0">
            <a:noFill/>
          </a:ln>
        </p:spPr>
      </p:pic>
      <p:sp>
        <p:nvSpPr>
          <p:cNvPr id="423" name="Chevron 22"/>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Chevron 23"/>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7"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8"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9"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6B81-497D-4D84-BA32-E8CACC5626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43" name="Right Triangle 13"/>
          <p:cNvGrpSpPr/>
          <p:nvPr/>
        </p:nvGrpSpPr>
        <p:grpSpPr>
          <a:xfrm>
            <a:off x="-12600" y="5784840"/>
            <a:ext cx="3414600" cy="1092240"/>
            <a:chOff x="-12600" y="5784840"/>
            <a:chExt cx="3414600" cy="1092240"/>
          </a:xfrm>
        </p:grpSpPr>
        <p:pic>
          <p:nvPicPr>
            <p:cNvPr id="44" name="Right Triangle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46" name="Straight Connector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0C86-29D1-43FC-81EC-7BDEA52412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2" name="Picture 11" descr="vMlogo"/>
          <p:cNvPicPr/>
          <p:nvPr/>
        </p:nvPicPr>
        <p:blipFill>
          <a:blip r:embed="rId4"/>
          <a:stretch/>
        </p:blipFill>
        <p:spPr>
          <a:xfrm>
            <a:off x="6553080" y="6362640"/>
            <a:ext cx="2590920" cy="484200"/>
          </a:xfrm>
          <a:prstGeom prst="rect">
            <a:avLst/>
          </a:prstGeom>
          <a:ln w="0">
            <a:noFill/>
          </a:ln>
        </p:spPr>
      </p:pic>
      <p:sp>
        <p:nvSpPr>
          <p:cNvPr id="53" name="Line 12"/>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22720" y="304920"/>
            <a:ext cx="11909520" cy="4724280"/>
            <a:chOff x="-3222720" y="304920"/>
            <a:chExt cx="11909520" cy="4724280"/>
          </a:xfrm>
        </p:grpSpPr>
        <p:sp>
          <p:nvSpPr>
            <p:cNvPr id="9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C1AD-3D15-4910-A96B-73D46BDA8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ight Triangle 16"/>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6" name="Group 18"/>
          <p:cNvGrpSpPr/>
          <p:nvPr/>
        </p:nvGrpSpPr>
        <p:grpSpPr>
          <a:xfrm>
            <a:off x="-3240" y="4952880"/>
            <a:ext cx="9147240" cy="1911600"/>
            <a:chOff x="-3240" y="4952880"/>
            <a:chExt cx="9147240" cy="1911600"/>
          </a:xfrm>
        </p:grpSpPr>
        <p:sp>
          <p:nvSpPr>
            <p:cNvPr id="137" name="Freeform 19"/>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Freeform 20"/>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39" name="Freeform 22"/>
            <p:cNvGrpSpPr/>
            <p:nvPr/>
          </p:nvGrpSpPr>
          <p:grpSpPr>
            <a:xfrm>
              <a:off x="2520" y="4992120"/>
              <a:ext cx="9141480" cy="1872360"/>
              <a:chOff x="2520" y="4992120"/>
              <a:chExt cx="9141480" cy="1872360"/>
            </a:xfrm>
          </p:grpSpPr>
          <p:pic>
            <p:nvPicPr>
              <p:cNvPr id="140" name="Freeform 22" descr=""/>
              <p:cNvPicPr/>
              <p:nvPr/>
            </p:nvPicPr>
            <p:blipFill>
              <a:blip r:embed="rId2"/>
              <a:stretch/>
            </p:blipFill>
            <p:spPr>
              <a:xfrm>
                <a:off x="2520" y="4992120"/>
                <a:ext cx="9141480" cy="1872360"/>
              </a:xfrm>
              <a:prstGeom prst="rect">
                <a:avLst/>
              </a:prstGeom>
              <a:ln w="0">
                <a:noFill/>
              </a:ln>
            </p:spPr>
          </p:pic>
          <p:sp>
            <p:nvSpPr>
              <p:cNvPr id="141"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42" name="Straight Connector 23" descr=""/>
            <p:cNvPicPr/>
            <p:nvPr/>
          </p:nvPicPr>
          <p:blipFill>
            <a:blip r:embed="rId3"/>
            <a:stretch/>
          </p:blipFill>
          <p:spPr>
            <a:xfrm>
              <a:off x="-3240" y="4986000"/>
              <a:ext cx="9147240" cy="814320"/>
            </a:xfrm>
            <a:prstGeom prst="rect">
              <a:avLst/>
            </a:prstGeom>
            <a:ln w="0">
              <a:noFill/>
            </a:ln>
          </p:spPr>
        </p:pic>
      </p:grpSp>
      <p:pic>
        <p:nvPicPr>
          <p:cNvPr id="143" name="Picture 11" descr="vMlogo"/>
          <p:cNvPicPr/>
          <p:nvPr/>
        </p:nvPicPr>
        <p:blipFill>
          <a:blip r:embed="rId4"/>
          <a:stretch/>
        </p:blipFill>
        <p:spPr>
          <a:xfrm>
            <a:off x="6553080" y="6362640"/>
            <a:ext cx="2590920" cy="484200"/>
          </a:xfrm>
          <a:prstGeom prst="rect">
            <a:avLst/>
          </a:prstGeom>
          <a:ln w="0">
            <a:noFill/>
          </a:ln>
        </p:spPr>
      </p:pic>
      <p:sp>
        <p:nvSpPr>
          <p:cNvPr id="144" name="Line 12"/>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F90D-3E90-4D2F-9434-414E61BDDE0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88" name="Right Triangle 13"/>
          <p:cNvGrpSpPr/>
          <p:nvPr/>
        </p:nvGrpSpPr>
        <p:grpSpPr>
          <a:xfrm>
            <a:off x="-12600" y="5784840"/>
            <a:ext cx="3414600" cy="1092240"/>
            <a:chOff x="-12600" y="5784840"/>
            <a:chExt cx="3414600" cy="1092240"/>
          </a:xfrm>
        </p:grpSpPr>
        <p:pic>
          <p:nvPicPr>
            <p:cNvPr id="189" name="Right Triangle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91" name="Straight Connector 14" descr=""/>
          <p:cNvPicPr/>
          <p:nvPr/>
        </p:nvPicPr>
        <p:blipFill>
          <a:blip r:embed="rId4"/>
          <a:stretch/>
        </p:blipFill>
        <p:spPr>
          <a:xfrm>
            <a:off x="-19080" y="5772240"/>
            <a:ext cx="3421080" cy="1109520"/>
          </a:xfrm>
          <a:prstGeom prst="rect">
            <a:avLst/>
          </a:prstGeom>
          <a:ln w="0">
            <a:noFill/>
          </a:ln>
        </p:spPr>
      </p:pic>
      <p:pic>
        <p:nvPicPr>
          <p:cNvPr id="192" name="Picture 11" descr="vMlogo"/>
          <p:cNvPicPr/>
          <p:nvPr/>
        </p:nvPicPr>
        <p:blipFill>
          <a:blip r:embed="rId5"/>
          <a:stretch/>
        </p:blipFill>
        <p:spPr>
          <a:xfrm>
            <a:off x="6553080" y="6362640"/>
            <a:ext cx="2590920" cy="484200"/>
          </a:xfrm>
          <a:prstGeom prst="rect">
            <a:avLst/>
          </a:prstGeom>
          <a:ln w="0">
            <a:noFill/>
          </a:ln>
        </p:spPr>
      </p:pic>
      <p:sp>
        <p:nvSpPr>
          <p:cNvPr id="193" name="Line 12"/>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Chevron 1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Chevron 18"/>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459F-EAEA-4318-A6C4-FE4CE27FD4C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pic>
        <p:nvPicPr>
          <p:cNvPr id="243" name="Picture 11" descr="vMlogo"/>
          <p:cNvPicPr/>
          <p:nvPr/>
        </p:nvPicPr>
        <p:blipFill>
          <a:blip r:embed="rId5"/>
          <a:stretch/>
        </p:blipFill>
        <p:spPr>
          <a:xfrm>
            <a:off x="6553080" y="6362640"/>
            <a:ext cx="2590920" cy="484200"/>
          </a:xfrm>
          <a:prstGeom prst="rect">
            <a:avLst/>
          </a:prstGeom>
          <a:ln w="0">
            <a:noFill/>
          </a:ln>
        </p:spPr>
      </p:pic>
      <p:sp>
        <p:nvSpPr>
          <p:cNvPr id="244" name="Line 12"/>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C203-398B-4CE5-866E-9FA5E7940E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3D81-99C0-4564-8A83-D90742A82A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29" name="Right Triangle 13"/>
          <p:cNvGrpSpPr/>
          <p:nvPr/>
        </p:nvGrpSpPr>
        <p:grpSpPr>
          <a:xfrm>
            <a:off x="-12600" y="5784840"/>
            <a:ext cx="3414600" cy="1092240"/>
            <a:chOff x="-12600" y="5784840"/>
            <a:chExt cx="3414600" cy="1092240"/>
          </a:xfrm>
        </p:grpSpPr>
        <p:pic>
          <p:nvPicPr>
            <p:cNvPr id="330" name="Right Triangle 13" descr=""/>
            <p:cNvPicPr/>
            <p:nvPr/>
          </p:nvPicPr>
          <p:blipFill>
            <a:blip r:embed="rId3"/>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32" name="Straight Connector 14" descr=""/>
          <p:cNvPicPr/>
          <p:nvPr/>
        </p:nvPicPr>
        <p:blipFill>
          <a:blip r:embed="rId4"/>
          <a:stretch/>
        </p:blipFill>
        <p:spPr>
          <a:xfrm>
            <a:off x="-19080" y="5772240"/>
            <a:ext cx="3421080" cy="1109520"/>
          </a:xfrm>
          <a:prstGeom prst="rect">
            <a:avLst/>
          </a:prstGeom>
          <a:ln w="0">
            <a:noFill/>
          </a:ln>
        </p:spPr>
      </p:pic>
      <p:pic>
        <p:nvPicPr>
          <p:cNvPr id="333" name="Picture 11" descr="vMlogo"/>
          <p:cNvPicPr/>
          <p:nvPr/>
        </p:nvPicPr>
        <p:blipFill>
          <a:blip r:embed="rId5"/>
          <a:stretch/>
        </p:blipFill>
        <p:spPr>
          <a:xfrm>
            <a:off x="6553080" y="6362640"/>
            <a:ext cx="2590920" cy="484200"/>
          </a:xfrm>
          <a:prstGeom prst="rect">
            <a:avLst/>
          </a:prstGeom>
          <a:ln w="0">
            <a:noFill/>
          </a:ln>
        </p:spPr>
      </p:pic>
      <p:sp>
        <p:nvSpPr>
          <p:cNvPr id="334" name="Line 12"/>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6ED0-DA7F-44FA-9272-92BBA4EC3A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D9C3-5C82-47E3-870B-7DF5788CD4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ww.esfondi.lv/" TargetMode="External"/><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esfondi.lv/" TargetMode="External"/><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hyperlink" Target="http://pro.nais.lv/naiser/esdoc.cfm?esid=32006R1083" TargetMode="External"/><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pro.nais.lv/naiser/esdoc.cfm?esid=32006R1083" TargetMode="External"/><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rojektu īstenošanas nosacījumi</a:t>
            </a:r>
            <a:endParaRPr b="0" lang="en-US" sz="3200" spc="-1" strike="noStrike">
              <a:solidFill>
                <a:srgbClr val="006666"/>
              </a:solidFill>
              <a:latin typeface="Arial"/>
            </a:endParaRPr>
          </a:p>
        </p:txBody>
      </p:sp>
      <p:sp>
        <p:nvSpPr>
          <p:cNvPr id="474" name="Text Box 4"/>
          <p:cNvSpPr/>
          <p:nvPr/>
        </p:nvSpPr>
        <p:spPr>
          <a:xfrm>
            <a:off x="2592000" y="4500720"/>
            <a:ext cx="41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009.gada 12., 19. un 21.oktobr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Civiltiesiskā līguma un vienošanās par projekta īstenošanu projekta pilns teksts atrodams Vides ministrijas mājas lapā</a:t>
            </a:r>
            <a:br>
              <a:rPr sz="2400"/>
            </a:br>
            <a:br>
              <a:rPr sz="2400"/>
            </a:br>
            <a:r>
              <a:rPr b="1" lang="lv-LV" sz="2400" spc="-1" strike="noStrike">
                <a:solidFill>
                  <a:srgbClr val="000000"/>
                </a:solidFill>
                <a:latin typeface="Lucida Sans Unicode"/>
              </a:rPr>
              <a:t>www.vidm.gov.lv</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sadaļā Fondi un investīcija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http://www.vidm.gov.lv/lat/finansu_instrumenti/kohez/?doc=6400</a:t>
            </a:r>
            <a:endParaRPr b="0" lang="en-US" sz="2400" spc="-1" strike="noStrike">
              <a:solidFill>
                <a:srgbClr val="000000"/>
              </a:solidFill>
              <a:latin typeface="Lucida Sans Unicode"/>
            </a:endParaRPr>
          </a:p>
        </p:txBody>
      </p:sp>
      <p:sp>
        <p:nvSpPr>
          <p:cNvPr id="498"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B0A4-6B91-4F49-BEFE-706844977E2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9" name="Rectangle 4"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142640" y="2500200"/>
            <a:ext cx="77770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Iepirkumi</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684360" y="1483920"/>
            <a:ext cx="8137440" cy="4321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Vides ministrijas izstrādātās vadlīnijas iepirkumu veikšanai sabiedrisko pakalpojumu sniedzējiem</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Vides ministrijas izstrādātās iepirkuma dokumentācijas veidn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http://www.vidm.gov.lv/lat/finansu_instrumenti/kohez/?doc=6511</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6793-CE4B-45FB-981C-E644F2AB74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03" name="Rectangle 2" descr=""/>
          <p:cNvPicPr/>
          <p:nvPr/>
        </p:nvPicPr>
        <p:blipFill>
          <a:blip r:embed="rId1"/>
          <a:stretch/>
        </p:blipFill>
        <p:spPr>
          <a:xfrm>
            <a:off x="676440" y="414360"/>
            <a:ext cx="8308800" cy="712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4360" y="1413000"/>
            <a:ext cx="8137440" cy="4752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irmā iepirkuma procedūra</a:t>
            </a:r>
            <a:r>
              <a:rPr b="0" lang="lv-LV" sz="2400" spc="-1" strike="noStrike">
                <a:solidFill>
                  <a:srgbClr val="000000"/>
                </a:solidFill>
                <a:latin typeface="Lucida Sans Unicode"/>
              </a:rPr>
              <a:t> (būvdarbi)</a:t>
            </a:r>
            <a:r>
              <a:rPr b="0" lang="en-US" sz="2400" spc="-1" strike="noStrike">
                <a:solidFill>
                  <a:srgbClr val="000000"/>
                </a:solidFill>
                <a:latin typeface="Lucida Sans Unicode"/>
              </a:rPr>
              <a:t> ir jāizsludina ne vēlāk kā triju mēnešu laikā no Kohēzijas fonda projekta iesnieguma apstiprināšanas dienas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inansējuma saņēmējs nodrošina visu projekta ietvaros paredzēto iepirkuma procedūru veikšanu </a:t>
            </a:r>
            <a:endParaRPr b="0" lang="en-US" sz="2400" spc="-1" strike="noStrike">
              <a:solidFill>
                <a:srgbClr val="000000"/>
              </a:solidFill>
              <a:latin typeface="Lucida Sans Unicode"/>
            </a:endParaRPr>
          </a:p>
        </p:txBody>
      </p:sp>
      <p:sp>
        <p:nvSpPr>
          <p:cNvPr id="5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E13C-133D-4335-A458-C12E76E99D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06" name="Rectangle 2" descr=""/>
          <p:cNvPicPr/>
          <p:nvPr/>
        </p:nvPicPr>
        <p:blipFill>
          <a:blip r:embed="rId1"/>
          <a:stretch/>
        </p:blipFill>
        <p:spPr>
          <a:xfrm>
            <a:off x="676440" y="463680"/>
            <a:ext cx="8308800" cy="663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755640" y="1628280"/>
            <a:ext cx="8137440" cy="4464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Noteikt, ka ar 2008.gada 20.februāri 2004.–2006.gada un 2007.–2013.gada plānošanas periodu Eiropas Savienības fondu līdzfinansētajos projektos radies sadārdzinājums netiek līdzfinansēts no valsts budžeta līdzekļiem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MK 12.02.2008. sēdes protokollēmums</a:t>
            </a:r>
            <a:endParaRPr b="0" lang="en-US" sz="2800" spc="-1" strike="noStrike">
              <a:solidFill>
                <a:srgbClr val="000000"/>
              </a:solidFill>
              <a:latin typeface="Lucida Sans Unicode"/>
            </a:endParaRPr>
          </a:p>
        </p:txBody>
      </p:sp>
      <p:sp>
        <p:nvSpPr>
          <p:cNvPr id="50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DC14-3E01-4AB5-B3A3-26DBB0C67FD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09" name="Rectangle 2" descr=""/>
          <p:cNvPicPr/>
          <p:nvPr/>
        </p:nvPicPr>
        <p:blipFill>
          <a:blip r:embed="rId1"/>
          <a:stretch/>
        </p:blipFill>
        <p:spPr>
          <a:xfrm>
            <a:off x="676440" y="463680"/>
            <a:ext cx="830880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755640" y="1071720"/>
            <a:ext cx="8137440" cy="5214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Ja paredzamā līgumcena atkarībā no finansējuma saņēmēja tiesiskā statusa:</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ir mazāka par publisko iepirkumu līgumcenu robežām vai līgumcenu robežām, ko sabiedrisko pakalpojumu sniedzēji piemēro piegāžu, pakalpojumu un būvdarbu līgumiem, iepirkuma procedūru veic </a:t>
            </a:r>
            <a:r>
              <a:rPr b="0" lang="lv-LV" sz="1800" spc="-1" strike="noStrike" u="sng">
                <a:solidFill>
                  <a:srgbClr val="000000"/>
                </a:solidFill>
                <a:uFillTx/>
                <a:latin typeface="Lucida Sans Unicode"/>
              </a:rPr>
              <a:t>finansējuma saņēmējs</a:t>
            </a:r>
            <a:r>
              <a:rPr b="0" lang="lv-LV" sz="1800" spc="-1" strike="noStrike">
                <a:solidFill>
                  <a:srgbClr val="000000"/>
                </a:solidFill>
                <a:latin typeface="Lucida Sans Unicode"/>
              </a:rPr>
              <a:t>. 1.projektu grupas Kohēzijas fonda projektu ietvaros iepirkuma procedūru var veikt arī Kohēzijas fonda projekta iesniedzējs, pirms pieņemts lēmums par Kohēzijas fonda projekta iesniegumu. Šajā gadījumā pirms iepirkuma procedūras uzsākšanas Kohēzijas fonda projekta iesniedzējs iesniedz atbildīgajā iestādē iepirkuma plānu, ko atbildīgā iestāde un Iepirkumu uzraudzības birojs izskata saskaņā ar kārtību, kādā Eiropas Savienības fondu vadībā iesaistītās institūcijas nodrošina plānošanas dokumentu sagatavošanu un Eiropas Savienības fondu ieviešanu, tai skaitā iepirkuma dokumentācijas un iepirkuma procedūras norises izlases veida pirmspārbaudi;</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ir vienāda ar publisko iepirkumu līgumcenu robežām vai līgumcenu robežām, ko sabiedrisko pakalpojumu sniedzēji piemēro piegāžu, pakalpojumu un būvdarbu līgumiem, vai lielāka par tām, iepirkuma procedūru veic Vides ministrija.</a:t>
            </a:r>
            <a:endParaRPr b="0" lang="en-US" sz="1800" spc="-1" strike="noStrike">
              <a:solidFill>
                <a:srgbClr val="000000"/>
              </a:solidFill>
              <a:latin typeface="Lucida Sans Unicode"/>
            </a:endParaRPr>
          </a:p>
        </p:txBody>
      </p:sp>
      <p:sp>
        <p:nvSpPr>
          <p:cNvPr id="51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2698-6567-46A3-B094-7D46944FB78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12" name="Rectangle 2" descr=""/>
          <p:cNvPicPr/>
          <p:nvPr/>
        </p:nvPicPr>
        <p:blipFill>
          <a:blip r:embed="rId1"/>
          <a:stretch/>
        </p:blipFill>
        <p:spPr>
          <a:xfrm>
            <a:off x="676440" y="463680"/>
            <a:ext cx="8308800" cy="66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55640" y="1268280"/>
            <a:ext cx="8137440" cy="482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Tiek plānots, ka uzsākt iepirkumu varēs visi </a:t>
            </a:r>
            <a:r>
              <a:rPr b="0" lang="lv-LV" sz="2700" spc="-1" strike="noStrike" u="sng">
                <a:solidFill>
                  <a:srgbClr val="000000"/>
                </a:solidFill>
                <a:uFillTx/>
                <a:latin typeface="Lucida Sans Unicode"/>
              </a:rPr>
              <a:t>projektu iesniedzēji</a:t>
            </a:r>
            <a:r>
              <a:rPr b="0" lang="lv-LV" sz="2700" spc="-1" strike="noStrike">
                <a:solidFill>
                  <a:srgbClr val="000000"/>
                </a:solidFill>
                <a:latin typeface="Lucida Sans Unicode"/>
              </a:rPr>
              <a:t>, ja paredzamā līgumcena ir zem noteiktā sliekšņa</a:t>
            </a:r>
            <a:endParaRPr b="0" lang="en-US" sz="2700" spc="-1" strike="noStrike">
              <a:solidFill>
                <a:srgbClr val="000000"/>
              </a:solidFill>
              <a:latin typeface="Lucida Sans Unicode"/>
            </a:endParaRPr>
          </a:p>
        </p:txBody>
      </p:sp>
      <p:sp>
        <p:nvSpPr>
          <p:cNvPr id="51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1887-3DE0-46F3-91A8-2DF89A8F776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15" name="Rectangle 2" descr=""/>
          <p:cNvPicPr/>
          <p:nvPr/>
        </p:nvPicPr>
        <p:blipFill>
          <a:blip r:embed="rId1"/>
          <a:stretch/>
        </p:blipFill>
        <p:spPr>
          <a:xfrm>
            <a:off x="676440" y="463680"/>
            <a:ext cx="8308800" cy="66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755640" y="1268280"/>
            <a:ext cx="8137440" cy="48247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Lucida Sans Unicode"/>
              </a:rPr>
              <a:t>Nepilnīgas tehniskās/finanšu informācijas iekļaušana Nolikumā (vāji sagatavotas tehniskās specifikācijas, neprecīzas finanšu piedāvājuma veidnes vai to trūkums); nepietiekami detalizēti izvērtēti ieinteresēto piegādātāju iesniegtie jautājumi vai ierosinājumi piedāvājuma sagatavošanas stadijā;</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Lucida Sans Unicode"/>
              </a:rPr>
              <a:t>Projekta īstenošanas laikā (tostarp iepirkuma veikšanas laikā) ir pieļaujama projekta aktivitāšu ietvaros sasniedzamo rezultātu precizēšana, bet ne papildu (jaunu) aktivitāšu, kā arī sasniedzamo rezultātu iekļaušana projektā;</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Lucida Sans Unicode"/>
              </a:rPr>
              <a:t>FS nepārzina iepirkuma apjomu un tehnisko informāciju, kas nereti izraisa ilgstošu nolikuma saskaņošanas un izsludināšanas procedūru, rada grūtības atbildēt uz ieinteresēto piegādātāju uzdotajiem jautājumiem iepirkuma procedūras laikā.</a:t>
            </a:r>
            <a:endParaRPr b="0" lang="en-US" sz="1900" spc="-1" strike="noStrike">
              <a:solidFill>
                <a:srgbClr val="000000"/>
              </a:solidFill>
              <a:latin typeface="Lucida Sans Unicode"/>
            </a:endParaRPr>
          </a:p>
        </p:txBody>
      </p:sp>
      <p:sp>
        <p:nvSpPr>
          <p:cNvPr id="51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8265-5E4D-485D-A335-04574A30077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18" name="Rectangle 2" descr=""/>
          <p:cNvPicPr/>
          <p:nvPr/>
        </p:nvPicPr>
        <p:blipFill>
          <a:blip r:embed="rId1"/>
          <a:stretch/>
        </p:blipFill>
        <p:spPr>
          <a:xfrm>
            <a:off x="676440" y="463680"/>
            <a:ext cx="8308800" cy="66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755640" y="1268280"/>
            <a:ext cx="8137440" cy="482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ides ministrijas prezentācijas par problēmām iepirkumos (un citos ieviešanas jautājum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http://www.vidm.gov.lv/lat/finansu_instrumenti/kohez/?doc=871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C906-307E-4D2F-9C33-BE19D76A820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21" name="Rectangle 2" descr=""/>
          <p:cNvPicPr/>
          <p:nvPr/>
        </p:nvPicPr>
        <p:blipFill>
          <a:blip r:embed="rId1"/>
          <a:stretch/>
        </p:blipFill>
        <p:spPr>
          <a:xfrm>
            <a:off x="676440" y="463680"/>
            <a:ext cx="8308800" cy="66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rojektu finanšu plūsma</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8A42-16D8-4ADF-9093-D73C38535F4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76" name="Rectangle 2" descr=""/>
          <p:cNvPicPr/>
          <p:nvPr/>
        </p:nvPicPr>
        <p:blipFill>
          <a:blip r:embed="rId1"/>
          <a:stretch/>
        </p:blipFill>
        <p:spPr>
          <a:xfrm>
            <a:off x="841320" y="469800"/>
            <a:ext cx="8309160" cy="657360"/>
          </a:xfrm>
          <a:prstGeom prst="rect">
            <a:avLst/>
          </a:prstGeom>
          <a:ln w="0">
            <a:noFill/>
          </a:ln>
        </p:spPr>
      </p:pic>
      <p:sp>
        <p:nvSpPr>
          <p:cNvPr id="477"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464646"/>
                </a:solidFill>
                <a:latin typeface="Lucida Sans Unicode"/>
              </a:rPr>
              <a:t>Civiltiesiskais līgums vai vienošanās (funkcijas un atbildīb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464646"/>
                </a:solidFill>
                <a:latin typeface="Lucida Sans Unicode"/>
              </a:rPr>
              <a:t>Maksājumu virzības process, finanšu plūsmas nodrošināšana, grāmatvedības uzskaite (Vides ministrijas izstrādātās rokasgrāmatas kontekstā)</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464646"/>
                </a:solidFill>
                <a:latin typeface="Lucida Sans Unicode"/>
              </a:rPr>
              <a:t>Iepirkuma procedūru organizācija, Vides ministrijas iepirkumu vadlīnijas</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isiem projektiem noteiktā Kohēzijas fonda atbalsta likme ir vienāda (85%), izņemot lielos projekt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isiem projektiem ir atšķirīga attiecināmo un neattiecināmo izdevumu proporcija</a:t>
            </a:r>
            <a:endParaRPr b="0" lang="en-US" sz="2700" spc="-1" strike="noStrike">
              <a:solidFill>
                <a:srgbClr val="000000"/>
              </a:solidFill>
              <a:latin typeface="Lucida Sans Unicode"/>
            </a:endParaRPr>
          </a:p>
        </p:txBody>
      </p:sp>
      <p:pic>
        <p:nvPicPr>
          <p:cNvPr id="524" name="Rectangle 2" descr=""/>
          <p:cNvPicPr/>
          <p:nvPr/>
        </p:nvPicPr>
        <p:blipFill>
          <a:blip r:embed="rId1"/>
          <a:stretch/>
        </p:blipFill>
        <p:spPr>
          <a:xfrm>
            <a:off x="676440" y="347760"/>
            <a:ext cx="8308800" cy="712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Juridiski attiecināmās izmaksas x finansējuma deficīta likme x 85% (valsts budžeta gadījumā 85% vietā tiek izmantota valsts budžeta finansējuma lik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Finansējuma deficīta likme ir noteikta katra projekta iesniegumā (7.sadaļ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Lēmums par valsts budžeta līdzfinansējumu projektiem vēl nav pieņem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526" name="Rectangle 2" descr=""/>
          <p:cNvPicPr/>
          <p:nvPr/>
        </p:nvPicPr>
        <p:blipFill>
          <a:blip r:embed="rId1"/>
          <a:stretch/>
        </p:blipFill>
        <p:spPr>
          <a:xfrm>
            <a:off x="676440" y="347760"/>
            <a:ext cx="8308800" cy="712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Juridiski attiecināmās izmaksas x finansējuma deficīta likme x </a:t>
            </a:r>
            <a:r>
              <a:rPr b="1" lang="lv-LV" sz="2700" spc="-1" strike="noStrike" u="sng">
                <a:solidFill>
                  <a:srgbClr val="000000"/>
                </a:solidFill>
                <a:uFillTx/>
                <a:latin typeface="Lucida Sans Unicode"/>
              </a:rPr>
              <a:t>70,29</a:t>
            </a:r>
            <a:r>
              <a:rPr b="0" lang="lv-LV" sz="2700" spc="-1" strike="noStrike">
                <a:solidFill>
                  <a:srgbClr val="000000"/>
                </a:solidFill>
                <a:latin typeface="Lucida Sans Unicode"/>
              </a:rPr>
              <a:t>% (valsts budžeta gadījumā tiek izmantota valsts budžeta finansējuma lik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Finansējuma deficīta likme ir noteikta katra projekta iesniegumā (7.sadaļa)</a:t>
            </a:r>
            <a:endParaRPr b="0" lang="en-US" sz="2700" spc="-1" strike="noStrike">
              <a:solidFill>
                <a:srgbClr val="000000"/>
              </a:solidFill>
              <a:latin typeface="Lucida Sans Unicode"/>
            </a:endParaRPr>
          </a:p>
        </p:txBody>
      </p:sp>
      <p:pic>
        <p:nvPicPr>
          <p:cNvPr id="528" name="Rectangle 2" descr=""/>
          <p:cNvPicPr/>
          <p:nvPr/>
        </p:nvPicPr>
        <p:blipFill>
          <a:blip r:embed="rId1"/>
          <a:stretch/>
        </p:blipFill>
        <p:spPr>
          <a:xfrm>
            <a:off x="1494000" y="158760"/>
            <a:ext cx="7491240" cy="1060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267920"/>
            <a:ext cx="8229600" cy="45990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Rēķinus pārbauda finansējuma saņēmējs</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Atbildīgajā iestādē kopā ar maksājuma pieprasījumu tiks sniegti pārbaudītie un apmaksātie rēķini</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Atbildīgā iestāde neveic iepriekšējās dokumentu pārbaudes, konstatēto kļūdu gadījumā, maksājuma procedūra tiek pārtraukta</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Neattiecināmo (juridiski) izmaksu iekļaušanas gadījumā maksājuma pieprasījums tiks noraidīts (attiecas arī uz neatbilstoši veikto iepirkuma procedūru)</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530" name="Rectangle 2" descr=""/>
          <p:cNvPicPr/>
          <p:nvPr/>
        </p:nvPicPr>
        <p:blipFill>
          <a:blip r:embed="rId1"/>
          <a:stretch/>
        </p:blipFill>
        <p:spPr>
          <a:xfrm>
            <a:off x="676440" y="347760"/>
            <a:ext cx="8308800" cy="712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Ir izveidots IKS aprak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eikti iepirkumi, iepirkuma dokumentācija iesniegta novērtēšana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Sagatavots pārskats par projekta īstenošanu</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Aizpildīts MK Not.Nr.418 4.pieliku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ievienoti pamatojošie dokumenti (sk.pielikumā civiltiesiskajam līguma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ārbaudīta dokumentu savstarpēja atbilstība</a:t>
            </a:r>
            <a:endParaRPr b="0" lang="en-US" sz="2700" spc="-1" strike="noStrike">
              <a:solidFill>
                <a:srgbClr val="000000"/>
              </a:solidFill>
              <a:latin typeface="Lucida Sans Unicode"/>
            </a:endParaRPr>
          </a:p>
        </p:txBody>
      </p:sp>
      <p:pic>
        <p:nvPicPr>
          <p:cNvPr id="532" name="Rectangle 2" descr=""/>
          <p:cNvPicPr/>
          <p:nvPr/>
        </p:nvPicPr>
        <p:blipFill>
          <a:blip r:embed="rId1"/>
          <a:stretch/>
        </p:blipFill>
        <p:spPr>
          <a:xfrm>
            <a:off x="676440" y="347760"/>
            <a:ext cx="8308800" cy="71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1267920"/>
            <a:ext cx="8229600" cy="45990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Maksājuma pieprasījumus var sniegt reizi mēnesī (izņemot atsevišķus gadījumus, par kuriem panākta vienošanās)</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Maksājuma pieprasījuma minimālā summa ir 100 000 latu (izņemot noslēguma maksājumu un atsevišķus gadījumus, par kuriem panākta vienošanās)</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Standarta termiņš atmaksas veikšanai ir ??? dienas (sk. prezentācijas turpinājumu)</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Veicot norēķinus iepirkuma līguma ietvaros, finanšu avotu proporcija nav jāvēro</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Maksājumi ir veicami no projekta konta (pēc civiltiesiskā līguma noslēgšanas) </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534" name="Rectangle 2" descr=""/>
          <p:cNvPicPr/>
          <p:nvPr/>
        </p:nvPicPr>
        <p:blipFill>
          <a:blip r:embed="rId1"/>
          <a:stretch/>
        </p:blipFill>
        <p:spPr>
          <a:xfrm>
            <a:off x="676440" y="347760"/>
            <a:ext cx="8308800" cy="712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267920"/>
            <a:ext cx="8229600" cy="4875480"/>
          </a:xfrm>
          <a:prstGeom prst="rect">
            <a:avLst/>
          </a:prstGeom>
          <a:noFill/>
          <a:ln w="0">
            <a:noFill/>
          </a:ln>
        </p:spPr>
        <p:txBody>
          <a:bodyPr anchor="t">
            <a:normAutofit/>
          </a:bodyPr>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ieejami Finanšu ministrijas administrētajā mājas lapā </a:t>
            </a:r>
            <a:r>
              <a:rPr b="0" lang="lv-LV" sz="1800" spc="-1" strike="noStrike" u="sng">
                <a:solidFill>
                  <a:srgbClr val="ff8119"/>
                </a:solidFill>
                <a:uFillTx/>
                <a:latin typeface="Lucida Sans Unicode"/>
                <a:hlinkClick r:id="rId1"/>
              </a:rPr>
              <a:t>www.esfondi.lv</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Novērtējot iesniegtos maksājuma pieprasījumus tika izskatīts jautājums par nepieciešamību izstrādāt papildus vadlīnija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Izstrādātās vadlīnijas (rokasgrāmata finanšu vadībai):</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http://www.vidm.gov.lv/lat/finansu_instrumenti/kohez/?doc=6625</a:t>
            </a:r>
            <a:endParaRPr b="0" lang="en-US" sz="1800" spc="-1" strike="noStrike">
              <a:solidFill>
                <a:srgbClr val="000000"/>
              </a:solidFill>
              <a:latin typeface="Lucida Sans Unicode"/>
            </a:endParaRPr>
          </a:p>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36" name="Rectangle 2" descr=""/>
          <p:cNvPicPr/>
          <p:nvPr/>
        </p:nvPicPr>
        <p:blipFill>
          <a:blip r:embed="rId2"/>
          <a:stretch/>
        </p:blipFill>
        <p:spPr>
          <a:xfrm>
            <a:off x="676440" y="347760"/>
            <a:ext cx="8308800" cy="712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ašfinansēšanas shēma</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1142640"/>
            <a:ext cx="8229600" cy="5000760"/>
          </a:xfrm>
          <a:prstGeom prst="rect">
            <a:avLst/>
          </a:prstGeom>
          <a:noFill/>
          <a:ln w="0">
            <a:noFill/>
          </a:ln>
        </p:spPr>
        <p:txBody>
          <a:bodyPr anchor="t">
            <a:normAutofit/>
          </a:bodyPr>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9 „Kārtība, kādā Eiropas Savienības struktūrfondu un Kohēzijas fonda vadībā iesaistītās institūcijas nodrošina plānošanas dokumentu sagatavošanu un šo fondu ieviešan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ieejami Finanšu ministrijas administrētajā mājas lapā </a:t>
            </a:r>
            <a:r>
              <a:rPr b="0" lang="lv-LV" sz="2000" spc="-1" strike="noStrike" u="sng">
                <a:solidFill>
                  <a:srgbClr val="ff8119"/>
                </a:solidFill>
                <a:uFillTx/>
                <a:latin typeface="Lucida Sans Unicode"/>
                <a:hlinkClick r:id="rId1"/>
              </a:rPr>
              <a:t>www.esfondi.lv</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eikto grozījumu rezultātā ir ieviesta “pašfinansēšanas shēma”: līdzekļi ir pieejami pēc to saņemšanas no EK</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539" name="Rectangle 2" descr=""/>
          <p:cNvPicPr/>
          <p:nvPr/>
        </p:nvPicPr>
        <p:blipFill>
          <a:blip r:embed="rId2"/>
          <a:stretch/>
        </p:blipFill>
        <p:spPr>
          <a:xfrm>
            <a:off x="676440" y="347760"/>
            <a:ext cx="8308800" cy="712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a:t>
            </a:r>
            <a:r>
              <a:rPr b="0" lang="lv-LV" sz="1800" spc="-1" strike="noStrike" baseline="30000">
                <a:solidFill>
                  <a:srgbClr val="000000"/>
                </a:solidFill>
                <a:latin typeface="Lucida Sans Unicode"/>
              </a:rPr>
              <a:t>1</a:t>
            </a:r>
            <a:r>
              <a:rPr b="0" lang="lv-LV" sz="1800" spc="-1" strike="noStrike">
                <a:solidFill>
                  <a:srgbClr val="000000"/>
                </a:solidFill>
                <a:latin typeface="Lucida Sans Unicode"/>
              </a:rPr>
              <a:t> Ja atbildīgajai iestādei vai sadarbības iestādei nav pieejami finanšu resursi civiltiesiskā līguma par Eiropas Savienības fonda projekta īstenošanu vai vienošanās par Eiropas Savienības fonda projekta īstenošanu (turpmāk - līgums) saistību izpildei, bet Eiropas Savienības fonda finansējuma saņēmējs, kas nav valsts budžeta iestāde vai plānošanas reģions, līguma saistības var izpildīt par saviem līdzekļiem (tai skaitā no sava budžeta ieņēmumiem, budžeta līdzekļu atlikumiem vai aizņēmuma), atbildīgā iestāde vai sadarbības iestāde slēdz līgumu ar šādu finansējuma saņēmēju un atsevišķā valsts budžeta programmā plāno ieņēmumus no ārvalstu finanšu palīdzības, kā arī atbilstošos izdevumus tajā budžeta gadā, kurā paredzētas atmaksas finansējuma saņēmējam.</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1" name="Rectangle 2" descr=""/>
          <p:cNvPicPr/>
          <p:nvPr/>
        </p:nvPicPr>
        <p:blipFill>
          <a:blip r:embed="rId1"/>
          <a:stretch/>
        </p:blipFill>
        <p:spPr>
          <a:xfrm>
            <a:off x="676440" y="347760"/>
            <a:ext cx="8308800" cy="712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6666"/>
                </a:solidFill>
                <a:latin typeface="Arial"/>
              </a:rPr>
              <a:t>Civiltiesiskais līgums vai vienošanā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 Ja Eiropas Savienības fonda finansējuma saņēmējs ir pašvaldība vai cits finansējuma saņēmējs, ar kuru līgums tiek slēgts atbilstoši šo noteikumu 2.</a:t>
            </a:r>
            <a:r>
              <a:rPr b="0" lang="lv-LV" sz="1600" spc="-1" strike="noStrike" baseline="30000">
                <a:solidFill>
                  <a:srgbClr val="000000"/>
                </a:solidFill>
                <a:latin typeface="Lucida Sans Unicode"/>
              </a:rPr>
              <a:t>1 </a:t>
            </a:r>
            <a:r>
              <a:rPr b="0" lang="lv-LV" sz="1600" spc="-1" strike="noStrike">
                <a:solidFill>
                  <a:srgbClr val="000000"/>
                </a:solidFill>
                <a:latin typeface="Lucida Sans Unicode"/>
              </a:rPr>
              <a:t>punktā noteiktajai kārtībai:</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1. pašvaldība vai cits finansējuma saņēmējs, īstenojot Eiropas Savienības fonda projektu, veic maksājumus no saviem līdzekļiem;</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2. pašvaldība vai cits finansējuma saņēmējs iesniedz maksājuma pieprasījumu un tam pievienotos izdevumu attaisnojuma dokumentus atbildīgajā iestādē vai sadarbības iestādē līgumā noteiktajos termiņos un kārtībā;</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3. atbildīgā iestāde vai sadarbības iestāde pārbauda šo noteikumu 25.2.apakšpunktā minētos dokumentus un apstiprina maksājuma pieprasījumā iekļauto attiecināmo izdevumu summu, kas attiecināma finansēšanai no Eiropas Savienības fonda un atbilst līgumā noteiktajām prasībām, sagatavo maksājuma uzdevumu par attiecināmo izdevumu atmaksu Eiropas Savienības fonda finansējuma saņēmējam atbilstoši apstiprinātajā projekta iesniegumā noteiktajai Eiropas Savienības finansējuma likmei, norādot budžeta izdevumu klasifikācijas kodu atbilstoši ekonomiskajām kategorijām;</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3" name="Rectangle 2" descr=""/>
          <p:cNvPicPr/>
          <p:nvPr/>
        </p:nvPicPr>
        <p:blipFill>
          <a:blip r:embed="rId1"/>
          <a:stretch/>
        </p:blipFill>
        <p:spPr>
          <a:xfrm>
            <a:off x="676440" y="347760"/>
            <a:ext cx="8308800" cy="712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5.4. un ja pašvaldība vai cits finansējuma saņēmējs projekta īstenošanai izmanto aizņēmumu no valsts budžeta, atbildīgā iestāde vai sadarbības iestāde pārbauda šo noteikumu 25.2.apakšpunktā minētos dokumentus un apstiprina maksājuma pieprasījumā iekļauto attiecināmo izdevumu summu, kas attiecināma finansēšanai no Eiropas Savienības fonda un atbilst līgumā noteiktajām prasībām, un sagatavo maksājuma uzdevumu par Eiropas Savienības finansējuma pārskaitīšanu valsts budžeta kontā aizņēmuma atmaksai, norādot izdevumu klasifikācijas kodu atbilstoši ekonomiskajām kategorijām. Par aizņēmuma atmaksu valsts budžeta kontā atbildīgā iestāde vai sadarbības iestāde sagatavo pašvaldībai vai citam finansējuma saņēmējam informāciju, kurā norāda pārskaitīto līdzekļu summu un datumu;</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5.5. atmaksas Eiropas Savienības fonda finansējuma saņēmējam veic saskaņā ar šo noteikumu 30.</a:t>
            </a:r>
            <a:r>
              <a:rPr b="0" lang="lv-LV" sz="1800" spc="-1" strike="noStrike" baseline="30000">
                <a:solidFill>
                  <a:srgbClr val="000000"/>
                </a:solidFill>
                <a:latin typeface="Lucida Sans Unicode"/>
              </a:rPr>
              <a:t>1 </a:t>
            </a:r>
            <a:r>
              <a:rPr b="0" lang="lv-LV" sz="1800" spc="-1" strike="noStrike">
                <a:solidFill>
                  <a:srgbClr val="000000"/>
                </a:solidFill>
                <a:latin typeface="Lucida Sans Unicode"/>
              </a:rPr>
              <a:t>punktu.</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5" name="Rectangle 2" descr=""/>
          <p:cNvPicPr/>
          <p:nvPr/>
        </p:nvPicPr>
        <p:blipFill>
          <a:blip r:embed="rId1"/>
          <a:stretch/>
        </p:blipFill>
        <p:spPr>
          <a:xfrm>
            <a:off x="676440" y="347760"/>
            <a:ext cx="8308800" cy="712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 Ja cits Eiropas Savienības fonda finansējuma saņēmējs īsteno Eiropas Savienības fonda projektu, kam ir piešķirts komercdarbības atbalst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1. atbildīgā iestāde vai sadarbības iestāde atbilstoši Padomes Regulai (EK) Nr. </a:t>
            </a:r>
            <a:r>
              <a:rPr b="0" lang="lv-LV" sz="1800" spc="-1" strike="noStrike" u="sng">
                <a:solidFill>
                  <a:srgbClr val="ff8119"/>
                </a:solidFill>
                <a:uFillTx/>
                <a:latin typeface="Lucida Sans Unicode"/>
                <a:hlinkClick r:id="rId1"/>
              </a:rPr>
              <a:t>1083/2006</a:t>
            </a:r>
            <a:r>
              <a:rPr b="0" lang="lv-LV" sz="1800" spc="-1" strike="noStrike">
                <a:solidFill>
                  <a:srgbClr val="000000"/>
                </a:solidFill>
                <a:latin typeface="Lucida Sans Unicode"/>
              </a:rPr>
              <a:t> un līgumā noteiktajos termiņos un kārtībā pārskaita avansa maksājumu. Eiropas Savienības fonda finansējuma saņēmējs avansa saņemšanai un Eiropas Savienības fonda projekta izdevumu veikšanai no saņemtā avansa atver kontu Valsts kasē;</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2. Eiropas Savienības fonda finansējuma saņēmējs, īstenojot Eiropas Savienības fonda projektu, veic maksājumus no saņemtā avansa maksājuma vai saviem līdzekļiem;</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3. tas iesniedz maksājuma pieprasījumu un tajā iekļauto izdevumu attaisnojuma dokumentu kopijas atbildīgajā iestādē vai sadarbības iestādē līgumā noteiktajos termiņos un kārtībā; </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7" name="Rectangle 2" descr=""/>
          <p:cNvPicPr/>
          <p:nvPr/>
        </p:nvPicPr>
        <p:blipFill>
          <a:blip r:embed="rId2"/>
          <a:stretch/>
        </p:blipFill>
        <p:spPr>
          <a:xfrm>
            <a:off x="676440" y="347760"/>
            <a:ext cx="8308800" cy="712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 Ja cits Eiropas Savienības fonda finansējuma saņēmējs īsteno Eiropas Savienības fonda projektu, kam ir piešķirts komercdarbības atbalst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1. atbildīgā iestāde vai sadarbības iestāde atbilstoši Padomes Regulai (EK) Nr. </a:t>
            </a:r>
            <a:r>
              <a:rPr b="0" lang="lv-LV" sz="1800" spc="-1" strike="noStrike" u="sng">
                <a:solidFill>
                  <a:srgbClr val="ff8119"/>
                </a:solidFill>
                <a:uFillTx/>
                <a:latin typeface="Lucida Sans Unicode"/>
                <a:hlinkClick r:id="rId1"/>
              </a:rPr>
              <a:t>1083/2006</a:t>
            </a:r>
            <a:r>
              <a:rPr b="0" lang="lv-LV" sz="1800" spc="-1" strike="noStrike">
                <a:solidFill>
                  <a:srgbClr val="000000"/>
                </a:solidFill>
                <a:latin typeface="Lucida Sans Unicode"/>
              </a:rPr>
              <a:t> un līgumā noteiktajos termiņos un kārtībā pārskaita avansa maksājumu. Eiropas Savienības fonda finansējuma saņēmējs avansa saņemšanai un Eiropas Savienības fonda projekta izdevumu veikšanai no saņemtā avansa atver kontu Valsts kasē;</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2. Eiropas Savienības fonda finansējuma saņēmējs, īstenojot Eiropas Savienības fonda projektu, veic maksājumus no saņemtā avansa maksājuma vai saviem līdzekļiem;</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3. tas iesniedz maksājuma pieprasījumu un tajā iekļauto izdevumu attaisnojuma dokumentu kopijas atbildīgajā iestādē vai sadarbības iestādē līgumā noteiktajos termiņos un kārtībā; </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9" name="Rectangle 2" descr=""/>
          <p:cNvPicPr/>
          <p:nvPr/>
        </p:nvPicPr>
        <p:blipFill>
          <a:blip r:embed="rId2"/>
          <a:stretch/>
        </p:blipFill>
        <p:spPr>
          <a:xfrm>
            <a:off x="676440" y="347760"/>
            <a:ext cx="8308800" cy="712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30.</a:t>
            </a:r>
            <a:r>
              <a:rPr b="0" lang="lv-LV" sz="1800" spc="-1" strike="noStrike" baseline="30000">
                <a:solidFill>
                  <a:srgbClr val="000000"/>
                </a:solidFill>
                <a:latin typeface="Lucida Sans Unicode"/>
              </a:rPr>
              <a:t>1</a:t>
            </a:r>
            <a:r>
              <a:rPr b="0" lang="lv-LV" sz="1800" spc="-1" strike="noStrike">
                <a:solidFill>
                  <a:srgbClr val="000000"/>
                </a:solidFill>
                <a:latin typeface="Lucida Sans Unicode"/>
              </a:rPr>
              <a:t> Ja Eiropas Savienības fonda finansējuma saņēmējs ir pašvaldība vai cits finansējuma saņēmējs, kuram tiek piemērota šo noteikumu 25.punktā minētā maksājumu kārtība, maksājumu iestāde veic atmaksu Eiropas Savienības fonda finansējuma saņēmējam vai aizņēmuma atmaksu saskaņā ar likumu par valsts budžetu kārtējam gadam piecu darbdienu laikā pēc šo noteikumu 27.punktā minēto dokumentu saņemšanas (termiņš tiek pagarināts par precizējumu un pieprasītās papildu informācijas izskatīšanai nepieciešamo laiku, bet ne ilgāk kā par trim darbdienām) un pēc tam, kad ir saņemti Eiropas Savienības fonda līdzekļi no Eiropas Komisijas. Neapstiprināto maksājuma pieprasījumu vai maksājuma uzdevumu maksājumu iestāde divu darbdienu laikā pēc ieraksta veikšanas maksājuma pieprasījumā par maksājuma pieprasījuma neapstiprināšanu iesniedz atbildīgajā iestādē vai sadarbības iestādē atkārtotai pārbaudei un labošanai. Maksājumu iestāde pieņem no atbildīgās iestādes vai sadarbības iestādes maksājuma pieprasījumu un maksājuma uzdevumu līdz 2015.gada 15.novembrim.</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1" name="Rectangle 2" descr=""/>
          <p:cNvPicPr/>
          <p:nvPr/>
        </p:nvPicPr>
        <p:blipFill>
          <a:blip r:embed="rId1"/>
          <a:stretch/>
        </p:blipFill>
        <p:spPr>
          <a:xfrm>
            <a:off x="676440" y="347760"/>
            <a:ext cx="8308800" cy="712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457200" y="1142640"/>
            <a:ext cx="8229600" cy="5000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1. Vērtēt projekta īstenošanas iespējamību uz šādiem nosacījum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r pašfinansēšanas shēmu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r veco finansēšanas shēmu</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Sk.nākamo slaidu</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 Vērtēt projekta īstenošanas iespējamību uz šādiem nosacījum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Bez avansa maksājuma</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Bez valsts budžeta finansējum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ttiecībā uz šiem jautājumiem – gaidīt VIDM instrukcijas pirms iesnieguma izstrādes un lēmumu pieņemšanas par galvojumiem un aizņēmum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3" name="Rectangle 2" descr=""/>
          <p:cNvPicPr/>
          <p:nvPr/>
        </p:nvPicPr>
        <p:blipFill>
          <a:blip r:embed="rId1"/>
          <a:stretch/>
        </p:blipFill>
        <p:spPr>
          <a:xfrm>
            <a:off x="676440" y="347760"/>
            <a:ext cx="8308800" cy="712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142640"/>
            <a:ext cx="8229600" cy="5000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Gatavojot projekta iesniegumu, gatavot to sliktākajam iespējamam scenārijam, t.i. pašfinansēšanas shēmai</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eiktās analīzes aprakstīt vērtēto alternatīvu un risku sadaļā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 </a:t>
            </a:r>
            <a:r>
              <a:rPr b="0" lang="lv-LV" sz="2000" spc="-1" strike="noStrike">
                <a:solidFill>
                  <a:srgbClr val="000000"/>
                </a:solidFill>
                <a:latin typeface="Lucida Sans Unicode"/>
              </a:rPr>
              <a:t>tas ļaus noteikt rīcību finanšu nosacījumu izmaiņas gadījumā</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ļaus kvalitatīvāk aizpildīt iesniegum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Ļaus pašam saņēmējam apzināties iespējamos risku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Līdzekļu saņemšana – 3-5 mēneši no pieprasījum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4 mēneši no pieprasījuma apstiprināšana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5" name="Rectangle 2" descr=""/>
          <p:cNvPicPr/>
          <p:nvPr/>
        </p:nvPicPr>
        <p:blipFill>
          <a:blip r:embed="rId1"/>
          <a:stretch/>
        </p:blipFill>
        <p:spPr>
          <a:xfrm>
            <a:off x="676440" y="347760"/>
            <a:ext cx="8308800" cy="712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1142640"/>
            <a:ext cx="8229600" cy="5000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MK 22.09.09. protokollemuma par informatīvo ziņojumu „Informatīvais ziņojums par 2010.gadā nepieciešamo papildu finansējumu 2007.-2013.gada plānošanas perioda Eiropas Reģionālās attīstības fonda, Eiropas Sociālā fonda un Kohēzijas fonda projektu īstenošanai”</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7" name="Rectangle 2" descr=""/>
          <p:cNvPicPr/>
          <p:nvPr/>
        </p:nvPicPr>
        <p:blipFill>
          <a:blip r:embed="rId1"/>
          <a:stretch/>
        </p:blipFill>
        <p:spPr>
          <a:xfrm>
            <a:off x="676440" y="347760"/>
            <a:ext cx="8308800" cy="712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Izmaksu attiecināmības jautājumi</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EC33-59F0-4A5C-8724-7E6DFE909A9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0" name="Rectangle 2" descr=""/>
          <p:cNvPicPr/>
          <p:nvPr/>
        </p:nvPicPr>
        <p:blipFill>
          <a:blip r:embed="rId1"/>
          <a:stretch/>
        </p:blipFill>
        <p:spPr>
          <a:xfrm>
            <a:off x="841320" y="615960"/>
            <a:ext cx="8309160" cy="658800"/>
          </a:xfrm>
          <a:prstGeom prst="rect">
            <a:avLst/>
          </a:prstGeom>
          <a:ln w="0">
            <a:noFill/>
          </a:ln>
        </p:spPr>
      </p:pic>
      <p:graphicFrame>
        <p:nvGraphicFramePr>
          <p:cNvPr id="561" name=""/>
          <p:cNvGraphicFramePr/>
          <p:nvPr/>
        </p:nvGraphicFramePr>
        <p:xfrm>
          <a:off x="1116000" y="1916280"/>
          <a:ext cx="6851520" cy="3068640"/>
        </p:xfrm>
        <a:graphic>
          <a:graphicData uri="http://schemas.openxmlformats.org/drawingml/2006/table">
            <a:tbl>
              <a:tblPr/>
              <a:tblGrid>
                <a:gridCol w="3205080"/>
                <a:gridCol w="364644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ās izmaksas atbilstoši MK not. Nr. 836 (atsevišķas pozīcij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o izmaksu piemēri</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1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Projekta ieviešanai īpaši pirktu vai ražotu ilglietojuma iekārtu (arī iekārtu, kuras tiek izmantotas būvniecības procesā) iegādes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46464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Automašīnas, </a:t>
                      </a:r>
                      <a:endParaRPr b="0" lang="en-US" sz="1800" spc="-1" strike="noStrike">
                        <a:solidFill>
                          <a:srgbClr val="000000"/>
                        </a:solidFill>
                        <a:latin typeface="Verdana"/>
                      </a:endParaRPr>
                    </a:p>
                    <a:p>
                      <a:pPr algn="just">
                        <a:lnSpc>
                          <a:spcPct val="100000"/>
                        </a:lnSpc>
                        <a:buClr>
                          <a:srgbClr val="46464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Darbarīki;</a:t>
                      </a:r>
                      <a:endParaRPr b="0" lang="en-US" sz="1800" spc="-1" strike="noStrike">
                        <a:solidFill>
                          <a:srgbClr val="000000"/>
                        </a:solidFill>
                        <a:latin typeface="Verdana"/>
                      </a:endParaRPr>
                    </a:p>
                    <a:p>
                      <a:pPr algn="just">
                        <a:lnSpc>
                          <a:spcPct val="100000"/>
                        </a:lnSpc>
                        <a:buClr>
                          <a:srgbClr val="46464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Traktortehnika vai cita tehnika, kas tiek izmantota būvniecības procesā kas tiek iegādāta projekta ietvaros un pēc būvniecības tik nodota īpašumā finansējuma saņēmējam;</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Ministru kabineta 2007.gada 26.jūnija noteikumi Nr.419 "Kārtība, kādā Eiropas Savienības struktūrfondu un Kohēzijas fonda vadībā iesaistītās institūcijas nodrošina plānošanas dokumentu sagatavošanu un šo fondu ieviešanu“</a:t>
            </a:r>
            <a:endParaRPr b="0" lang="en-US" sz="2400" spc="-1" strike="noStrike">
              <a:solidFill>
                <a:srgbClr val="000000"/>
              </a:solidFill>
              <a:latin typeface="Lucida Sans Unicode"/>
            </a:endParaRPr>
          </a:p>
        </p:txBody>
      </p:sp>
      <p:sp>
        <p:nvSpPr>
          <p:cNvPr id="480"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0F95-D0EF-40BB-A470-7F2B84622F7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81"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DDB2-9F67-431F-AD52-C965FC99424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3" name="Rectangle 2" descr=""/>
          <p:cNvPicPr/>
          <p:nvPr/>
        </p:nvPicPr>
        <p:blipFill>
          <a:blip r:embed="rId1"/>
          <a:stretch/>
        </p:blipFill>
        <p:spPr>
          <a:xfrm>
            <a:off x="841320" y="615960"/>
            <a:ext cx="8309160" cy="658800"/>
          </a:xfrm>
          <a:prstGeom prst="rect">
            <a:avLst/>
          </a:prstGeom>
          <a:ln w="0">
            <a:noFill/>
          </a:ln>
        </p:spPr>
      </p:pic>
      <p:graphicFrame>
        <p:nvGraphicFramePr>
          <p:cNvPr id="564" name=""/>
          <p:cNvGraphicFramePr/>
          <p:nvPr/>
        </p:nvGraphicFramePr>
        <p:xfrm>
          <a:off x="1116000" y="1916280"/>
          <a:ext cx="6851520" cy="3859200"/>
        </p:xfrm>
        <a:graphic>
          <a:graphicData uri="http://schemas.openxmlformats.org/drawingml/2006/table">
            <a:tbl>
              <a:tblPr/>
              <a:tblGrid>
                <a:gridCol w="3205080"/>
                <a:gridCol w="364644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ās izmaksas atbilstoši MK not. Nr. 836 (atsevišķas pozīcij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o izmaksu piemēri</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3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Administratīviem vai projekta vadības mērķiem izmantojamo ilglietojuma iekārtu (arī datortehnikas un transportlīdzekļu)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Darba galdi, krēsli;</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Skapji;</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Datori;</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Ledusskapji, virtuves piederumi, virtuves iekārtojums;</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Veļas mašīnas;</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TV, radio, mobilie telefoni u.t.t.;</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Automašīnas;</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Iekārtu uzturēšanas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2D6F-5616-4EC7-8DFE-978615A6EA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6" name="Rectangle 2" descr=""/>
          <p:cNvPicPr/>
          <p:nvPr/>
        </p:nvPicPr>
        <p:blipFill>
          <a:blip r:embed="rId1"/>
          <a:stretch/>
        </p:blipFill>
        <p:spPr>
          <a:xfrm>
            <a:off x="841320" y="615960"/>
            <a:ext cx="8309160" cy="658800"/>
          </a:xfrm>
          <a:prstGeom prst="rect">
            <a:avLst/>
          </a:prstGeom>
          <a:ln w="0">
            <a:noFill/>
          </a:ln>
        </p:spPr>
      </p:pic>
      <p:graphicFrame>
        <p:nvGraphicFramePr>
          <p:cNvPr id="567" name=""/>
          <p:cNvGraphicFramePr/>
          <p:nvPr/>
        </p:nvGraphicFramePr>
        <p:xfrm>
          <a:off x="1116000" y="1916280"/>
          <a:ext cx="6851520" cy="4022640"/>
        </p:xfrm>
        <a:graphic>
          <a:graphicData uri="http://schemas.openxmlformats.org/drawingml/2006/table">
            <a:tbl>
              <a:tblPr/>
              <a:tblGrid>
                <a:gridCol w="3205080"/>
                <a:gridCol w="364644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ās izmaksas atbilstoši MK not. Nr. 836 (atsevišķas pozīcij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o izmaksu piemēri</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citas izmaksas, kuras šajos noteikumos nav noteiktas kā attiecināmas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Dubultais finansējums, divu līgumu ietvaros tiek apmaksāts viens un tas pats darbs (piemēram, būvdarbu līgumā ir paredzētas izmaksas inženiera birojam un mērinstrumentiem inženiera vajadzībām, tai pat laikā inženiera līgumā ir noteikts, ka viņa dienas likmēs ir iekļautas visas izmaksas, kas saistītas ar pakalpojuma sniegšanu.)</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5536-7416-4A98-8B1C-F18E2B4AD0E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9" name="Rectangle 2" descr=""/>
          <p:cNvPicPr/>
          <p:nvPr/>
        </p:nvPicPr>
        <p:blipFill>
          <a:blip r:embed="rId1"/>
          <a:stretch/>
        </p:blipFill>
        <p:spPr>
          <a:xfrm>
            <a:off x="841320" y="615960"/>
            <a:ext cx="8309160" cy="658800"/>
          </a:xfrm>
          <a:prstGeom prst="rect">
            <a:avLst/>
          </a:prstGeom>
          <a:ln w="0">
            <a:noFill/>
          </a:ln>
        </p:spPr>
      </p:pic>
      <p:sp>
        <p:nvSpPr>
          <p:cNvPr id="570" name="PlaceHolder 1"/>
          <p:cNvSpPr>
            <a:spLocks noGrp="1"/>
          </p:cNvSpPr>
          <p:nvPr>
            <p:ph/>
          </p:nvPr>
        </p:nvSpPr>
        <p:spPr>
          <a:xfrm>
            <a:off x="1006560" y="1628640"/>
            <a:ext cx="8137440" cy="4824720"/>
          </a:xfrm>
          <a:prstGeom prst="rect">
            <a:avLst/>
          </a:prstGeom>
          <a:noFill/>
          <a:ln w="0">
            <a:noFill/>
          </a:ln>
        </p:spPr>
        <p:txBody>
          <a:bodyPr anchor="t">
            <a:normAutofit/>
          </a:bodyPr>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nav noslēgti būvniecības līgumi un nav izsludināts iepirkums:</a:t>
            </a:r>
            <a:endParaRPr b="0" lang="en-US" sz="2200" spc="-1" strike="noStrike">
              <a:solidFill>
                <a:srgbClr val="000000"/>
              </a:solidFill>
              <a:latin typeface="Lucida Sans Unicode"/>
            </a:endParaRPr>
          </a:p>
          <a:p>
            <a:pPr lvl="1" marL="990720" indent="-53352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Dzēst no tehniskām specifikācijām tās pozīcijas, kas ir neattiecināmas;</a:t>
            </a:r>
            <a:endParaRPr b="0" lang="en-US" sz="2000" spc="-1" strike="noStrike">
              <a:solidFill>
                <a:srgbClr val="000000"/>
              </a:solidFill>
              <a:latin typeface="Lucida Sans Unicode"/>
            </a:endParaRPr>
          </a:p>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iepirkums ir izsludināts, bet piedāvājumu iesniegšanas termiņš vēl nav iestājies:</a:t>
            </a:r>
            <a:endParaRPr b="0" lang="en-US" sz="2200" spc="-1" strike="noStrike">
              <a:solidFill>
                <a:srgbClr val="000000"/>
              </a:solidFill>
              <a:latin typeface="Lucida Sans Unicode"/>
            </a:endParaRPr>
          </a:p>
          <a:p>
            <a:pPr lvl="1" marL="990720" indent="-53352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osūtīt visiem iepirkuma konkursa pretendentiem precizētās tehniskās specifikācijas;</a:t>
            </a:r>
            <a:endParaRPr b="0" lang="en-US" sz="2000" spc="-1" strike="noStrike">
              <a:solidFill>
                <a:srgbClr val="000000"/>
              </a:solidFill>
              <a:latin typeface="Lucida Sans Unicode"/>
            </a:endParaRPr>
          </a:p>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ir noslēgts līgums un pozīcijas nav apmaksātas:</a:t>
            </a:r>
            <a:endParaRPr b="0" lang="en-US" sz="2200" spc="-1" strike="noStrike">
              <a:solidFill>
                <a:srgbClr val="000000"/>
              </a:solidFill>
              <a:latin typeface="Lucida Sans Unicode"/>
            </a:endParaRPr>
          </a:p>
          <a:p>
            <a:pPr lvl="1" marL="990720" indent="-53352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epieciešams grozīt līgumu, izslēdzot neattiecināmās pozīcijas no kopējās līguma vērtības;</a:t>
            </a:r>
            <a:endParaRPr b="0" lang="en-US" sz="2000" spc="-1" strike="noStrike">
              <a:solidFill>
                <a:srgbClr val="000000"/>
              </a:solidFill>
              <a:latin typeface="Lucida Sans Unicode"/>
            </a:endParaRPr>
          </a:p>
          <a:p>
            <a:pPr lvl="1" marL="99072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ir noslēgts līgums un pozīcijas ir apmaksātas…</a:t>
            </a:r>
            <a:endParaRPr b="0" lang="en-US" sz="2200" spc="-1" strike="noStrike">
              <a:solidFill>
                <a:srgbClr val="0000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B030-60FC-4E7C-BAE4-3B19EB7AC2D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72" name="Rectangle 2" descr=""/>
          <p:cNvPicPr/>
          <p:nvPr/>
        </p:nvPicPr>
        <p:blipFill>
          <a:blip r:embed="rId1"/>
          <a:stretch/>
        </p:blipFill>
        <p:spPr>
          <a:xfrm>
            <a:off x="841320" y="615960"/>
            <a:ext cx="8309160" cy="658800"/>
          </a:xfrm>
          <a:prstGeom prst="rect">
            <a:avLst/>
          </a:prstGeom>
          <a:ln w="0">
            <a:noFill/>
          </a:ln>
        </p:spPr>
      </p:pic>
      <p:sp>
        <p:nvSpPr>
          <p:cNvPr id="573" name="PlaceHolder 1"/>
          <p:cNvSpPr>
            <a:spLocks noGrp="1"/>
          </p:cNvSpPr>
          <p:nvPr>
            <p:ph/>
          </p:nvPr>
        </p:nvSpPr>
        <p:spPr>
          <a:xfrm>
            <a:off x="713880" y="1356840"/>
            <a:ext cx="8137800" cy="4824360"/>
          </a:xfrm>
          <a:prstGeom prst="rect">
            <a:avLst/>
          </a:prstGeom>
          <a:noFill/>
          <a:ln w="0">
            <a:noFill/>
          </a:ln>
        </p:spPr>
        <p:txBody>
          <a:bodyPr anchor="t">
            <a:normAutofit/>
          </a:bodyPr>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1. Ja rekonstruējot vai būvējot administratīvo būvi pie tehnoloģiskajām iekārtām, tajā ir paredzēta atpūtas telpa vai virtuve, papildu būvdarbiem projekta ietvaros neapmaksā jebkādu šo telpu aprīkojuma iegādi. Tas atteicas arī uz tādām pozīcijām kā ledusskapis, virtuves galds ar izlietni, sienas skapīši, mikroviļņu krāsns, galds, krēsli utt. ņemot vērā, ka tās ir administratīviem vai projekta vadības mērķiem izmantojamas ilglietojuma iekārtas.</a:t>
            </a:r>
            <a:endParaRPr b="0" lang="en-US" sz="2100" spc="-1" strike="noStrike">
              <a:solidFill>
                <a:srgbClr val="000000"/>
              </a:solidFill>
              <a:latin typeface="Lucida Sans Unicode"/>
            </a:endParaRPr>
          </a:p>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2. Ja rekonstruējot vai būvējot administratīvo būvi pie tehnoloģiskajām iekārtām, tajā ir paredzēta Noliktava/Arhīvs, projekta ietvaros netiek apmaksāti plaukti.</a:t>
            </a:r>
            <a:endParaRPr b="0" lang="en-US" sz="2100" spc="-1" strike="noStrike">
              <a:solidFill>
                <a:srgbClr val="000000"/>
              </a:solidFill>
              <a:latin typeface="Lucida Sans Unicode"/>
            </a:endParaRPr>
          </a:p>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3. Būvniecības līguma ietvaros nedrīkst iekļaut izdevumus par rezerves daļām un ķimikālijām, kas nepieciešamas iekārtu ekspluatācijai pēc objekta nodošanas ekspluatācijā.</a:t>
            </a:r>
            <a:endParaRPr b="0" lang="en-US" sz="2100" spc="-1" strike="noStrike">
              <a:solidFill>
                <a:srgbClr val="0000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Citas ieviešanas problēma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0813-0CEF-4C73-8B92-8D1448A9DF0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76" name="Rectangle 2" descr=""/>
          <p:cNvPicPr/>
          <p:nvPr/>
        </p:nvPicPr>
        <p:blipFill>
          <a:blip r:embed="rId1"/>
          <a:stretch/>
        </p:blipFill>
        <p:spPr>
          <a:xfrm>
            <a:off x="841320" y="469800"/>
            <a:ext cx="8309160" cy="657360"/>
          </a:xfrm>
          <a:prstGeom prst="rect">
            <a:avLst/>
          </a:prstGeom>
          <a:ln w="0">
            <a:noFill/>
          </a:ln>
        </p:spPr>
      </p:pic>
      <p:sp>
        <p:nvSpPr>
          <p:cNvPr id="577"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Maksājumi nenotiek no projekta konta</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astāv risks, ka maksājumi tiks uzskatīti par neattiecināmām izmaksām</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2E8A-CD79-46DB-B14F-499A39D9931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79" name="Rectangle 2" descr=""/>
          <p:cNvPicPr/>
          <p:nvPr/>
        </p:nvPicPr>
        <p:blipFill>
          <a:blip r:embed="rId1"/>
          <a:stretch/>
        </p:blipFill>
        <p:spPr>
          <a:xfrm>
            <a:off x="841320" y="469800"/>
            <a:ext cx="8309160" cy="657360"/>
          </a:xfrm>
          <a:prstGeom prst="rect">
            <a:avLst/>
          </a:prstGeom>
          <a:ln w="0">
            <a:noFill/>
          </a:ln>
        </p:spPr>
      </p:pic>
      <p:sp>
        <p:nvSpPr>
          <p:cNvPr id="580"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ES fondu līdzekļi netiek izmantoti projekta finansēšanai</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Ir saņemts pirmais ziņojums par neatbilstību no Valsts kas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C7D4-B089-47D8-A224-C59F677DCDF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82" name="Rectangle 2" descr=""/>
          <p:cNvPicPr/>
          <p:nvPr/>
        </p:nvPicPr>
        <p:blipFill>
          <a:blip r:embed="rId1"/>
          <a:stretch/>
        </p:blipFill>
        <p:spPr>
          <a:xfrm>
            <a:off x="841320" y="469800"/>
            <a:ext cx="8309160" cy="657360"/>
          </a:xfrm>
          <a:prstGeom prst="rect">
            <a:avLst/>
          </a:prstGeom>
          <a:ln w="0">
            <a:noFill/>
          </a:ln>
        </p:spPr>
      </p:pic>
      <p:sp>
        <p:nvSpPr>
          <p:cNvPr id="583"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Pārskati</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Maksājuma veikšanai ir nepieciešams vismaz viens </a:t>
            </a:r>
            <a:r>
              <a:rPr b="0" lang="lv-LV" sz="2700" spc="-1" strike="noStrike" u="sng">
                <a:solidFill>
                  <a:srgbClr val="000000"/>
                </a:solidFill>
                <a:uFillTx/>
                <a:latin typeface="Lucida Sans Unicode"/>
              </a:rPr>
              <a:t>apstiprinātais</a:t>
            </a:r>
            <a:r>
              <a:rPr b="0" lang="lv-LV" sz="2700" spc="-1" strike="noStrike">
                <a:solidFill>
                  <a:srgbClr val="000000"/>
                </a:solidFill>
                <a:latin typeface="Lucida Sans Unicode"/>
              </a:rPr>
              <a:t> pārskat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0FD4-6217-4869-9636-38AE878A4F4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85" name="Rectangle 2" descr=""/>
          <p:cNvPicPr/>
          <p:nvPr/>
        </p:nvPicPr>
        <p:blipFill>
          <a:blip r:embed="rId1"/>
          <a:stretch/>
        </p:blipFill>
        <p:spPr>
          <a:xfrm>
            <a:off x="841320" y="469800"/>
            <a:ext cx="8309160" cy="657360"/>
          </a:xfrm>
          <a:prstGeom prst="rect">
            <a:avLst/>
          </a:prstGeom>
          <a:ln w="0">
            <a:noFill/>
          </a:ln>
        </p:spPr>
      </p:pic>
      <p:sp>
        <p:nvSpPr>
          <p:cNvPr id="586"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Iepirkuma dokumentācija</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Maksājuma veikšanai ir nepieciešams iepriekšēja iepirkuma dokumentācijas izskatīš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Neattiecināmās izmaksas ir konstatētas jau vismaz 20 noslēgtajos līgum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B9DD-D5E9-4AB1-9502-5B2DC0FB549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88" name="Rectangle 2" descr=""/>
          <p:cNvPicPr/>
          <p:nvPr/>
        </p:nvPicPr>
        <p:blipFill>
          <a:blip r:embed="rId1"/>
          <a:stretch/>
        </p:blipFill>
        <p:spPr>
          <a:xfrm>
            <a:off x="841320" y="615960"/>
            <a:ext cx="8309160" cy="658800"/>
          </a:xfrm>
          <a:prstGeom prst="rect">
            <a:avLst/>
          </a:prstGeom>
          <a:ln w="0">
            <a:noFill/>
          </a:ln>
        </p:spPr>
      </p:pic>
      <p:sp>
        <p:nvSpPr>
          <p:cNvPr id="589" name="PlaceHolder 1"/>
          <p:cNvSpPr>
            <a:spLocks noGrp="1"/>
          </p:cNvSpPr>
          <p:nvPr>
            <p:ph/>
          </p:nvPr>
        </p:nvSpPr>
        <p:spPr>
          <a:xfrm>
            <a:off x="1006560" y="1483920"/>
            <a:ext cx="8137440" cy="4824360"/>
          </a:xfrm>
          <a:prstGeom prst="rect">
            <a:avLst/>
          </a:prstGeom>
          <a:noFill/>
          <a:ln w="0">
            <a:noFill/>
          </a:ln>
        </p:spPr>
        <p:txBody>
          <a:bodyPr anchor="t">
            <a:normAutofit/>
          </a:bodyPr>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Regulas (EK ) Nr.1083/2006, ar ko paredz vispārīgus noteikumus par Eiropas Reģionālās attīstības fondu, Eiropas Sociālo fondu un Kohēzijas fondu un atceļ Regulu ( EK) Nr.1260/1999  57.pants par būtiskām pārmaiņām</a:t>
            </a: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Finansējuma saņēmēja pienākums ir nodrošināt, ka </a:t>
            </a:r>
            <a:r>
              <a:rPr b="1" lang="lv-LV" sz="2100" spc="-1" strike="noStrike" u="sng">
                <a:solidFill>
                  <a:srgbClr val="000000"/>
                </a:solidFill>
                <a:uFillTx/>
                <a:latin typeface="Lucida Sans Unicode"/>
              </a:rPr>
              <a:t>piecu gadu laikā pēc pēdējā maksājuma veikšanas</a:t>
            </a:r>
            <a:r>
              <a:rPr b="1" lang="lv-LV" sz="2100" spc="-1" strike="noStrike">
                <a:solidFill>
                  <a:srgbClr val="000000"/>
                </a:solidFill>
                <a:latin typeface="Lucida Sans Unicode"/>
              </a:rPr>
              <a:t> projektā netiek veiktas būtiskas pārmaiņas</a:t>
            </a:r>
            <a:r>
              <a:rPr b="0" lang="lv-LV" sz="2100" spc="-1" strike="noStrike">
                <a:solidFill>
                  <a:srgbClr val="000000"/>
                </a:solidFill>
                <a:latin typeface="Lucida Sans Unicode"/>
              </a:rPr>
              <a:t>, t.i., nav notikusi infrastruktūras atsevišķas daļas īpašumtiesību veida maiņa vai arī nav pārtraukta finansējuma saņēmēja produktīvā darbība</a:t>
            </a:r>
            <a:endParaRPr b="0" lang="en-US" sz="2100" spc="-1" strike="noStrike">
              <a:solidFill>
                <a:srgbClr val="0000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rojekta īstenošanas termiņ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ušu – finansējuma saņēmēja un atbildīgās iestādes tiesības un pienākumu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epirkumu veikšanas kārtīb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Maksājumu kārtīb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rojekta pārskatu sagatavošan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ārbaužu veikšanas kārtīb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ublicitātes pasākumu nodrošināšanas kārtību.</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8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E483-166A-4030-8B96-A38D062C40B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8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566D-FD97-461F-92A0-3DEA8B2B61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91" name="Rectangle 2" descr=""/>
          <p:cNvPicPr/>
          <p:nvPr/>
        </p:nvPicPr>
        <p:blipFill>
          <a:blip r:embed="rId1"/>
          <a:stretch/>
        </p:blipFill>
        <p:spPr>
          <a:xfrm>
            <a:off x="841320" y="615960"/>
            <a:ext cx="8309160" cy="658800"/>
          </a:xfrm>
          <a:prstGeom prst="rect">
            <a:avLst/>
          </a:prstGeom>
          <a:ln w="0">
            <a:noFill/>
          </a:ln>
        </p:spPr>
      </p:pic>
      <p:sp>
        <p:nvSpPr>
          <p:cNvPr id="592" name="PlaceHolder 1"/>
          <p:cNvSpPr>
            <a:spLocks noGrp="1"/>
          </p:cNvSpPr>
          <p:nvPr>
            <p:ph/>
          </p:nvPr>
        </p:nvSpPr>
        <p:spPr>
          <a:xfrm>
            <a:off x="1006560" y="1483920"/>
            <a:ext cx="8137440" cy="4824360"/>
          </a:xfrm>
          <a:prstGeom prst="rect">
            <a:avLst/>
          </a:prstGeom>
          <a:noFill/>
          <a:ln w="0">
            <a:noFill/>
          </a:ln>
        </p:spPr>
        <p:txBody>
          <a:bodyPr anchor="t">
            <a:normAutofit/>
          </a:bodyPr>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Ja ir notikušas būtiskas pārmaiņas, kas radījušas noteiktas seka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 </a:t>
            </a:r>
            <a:r>
              <a:rPr b="0" lang="lv-LV" sz="2000" spc="-1" strike="noStrike">
                <a:solidFill>
                  <a:srgbClr val="000000"/>
                </a:solidFill>
                <a:latin typeface="Lucida Sans Unicode"/>
              </a:rPr>
              <a:t>ietekmē darbības būtību,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etekmē darbības īstenošanas nosacījumus vai arī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rada nepamatotas priekšrocības uzņēmumam vai publiskai struktūrai </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Lucida Sans Unicode"/>
              </a:rPr>
              <a:t>finansējuma saņēmējam ir jāatmaksā saņemtais ES finansējums</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Saskaņā ar MK noteikumu Nr.836  63.punktu finansējuma saņēmējam piecus gadus pēc projekta pabeigšanas reizi gadā jāiesniedz VIDM projekta pēcieviešanas uzraudzības veidlapa (6.pielikums) </a:t>
            </a:r>
            <a:endParaRPr b="0" lang="en-US" sz="2100" spc="-1" strike="noStrike">
              <a:solidFill>
                <a:srgbClr val="000000"/>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65DF-CEFB-489E-9ACE-0F39E3F2ABA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94" name="Rectangle 2" descr=""/>
          <p:cNvPicPr/>
          <p:nvPr/>
        </p:nvPicPr>
        <p:blipFill>
          <a:blip r:embed="rId1"/>
          <a:stretch/>
        </p:blipFill>
        <p:spPr>
          <a:xfrm>
            <a:off x="841320" y="615960"/>
            <a:ext cx="8309160" cy="658800"/>
          </a:xfrm>
          <a:prstGeom prst="rect">
            <a:avLst/>
          </a:prstGeom>
          <a:ln w="0">
            <a:noFill/>
          </a:ln>
        </p:spPr>
      </p:pic>
      <p:sp>
        <p:nvSpPr>
          <p:cNvPr id="595" name="PlaceHolder 1"/>
          <p:cNvSpPr>
            <a:spLocks noGrp="1"/>
          </p:cNvSpPr>
          <p:nvPr>
            <p:ph/>
          </p:nvPr>
        </p:nvSpPr>
        <p:spPr>
          <a:xfrm>
            <a:off x="1006560" y="1483920"/>
            <a:ext cx="8137440" cy="482436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rojekta ietvaros tiks gūti ienākumi, lielāki, nekā tas bija plānots projekta iesniegumā</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2022.gad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42640" y="2714400"/>
            <a:ext cx="7777080" cy="1369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ārbaudes projektu īstenošanas vietās, grāmatvedības uzskaite un iekšējā kontroles sistēma</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1547640" y="1628640"/>
            <a:ext cx="7010640" cy="36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Tehniskā pārbaud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Administratīvā pārbaude </a:t>
            </a:r>
            <a:r>
              <a:rPr b="0" lang="lv-LV" sz="2400" spc="-1" strike="noStrike">
                <a:solidFill>
                  <a:srgbClr val="000000"/>
                </a:solidFill>
                <a:latin typeface="Lucida Sans Unicode"/>
              </a:rPr>
              <a:t>(t.sk. IKS apraksta procedūru pilnība un atbilstība reāliem procesiem)</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Finanšu pārbaude </a:t>
            </a:r>
            <a:r>
              <a:rPr b="0" lang="lv-LV" sz="2400" spc="-1" strike="noStrike">
                <a:solidFill>
                  <a:srgbClr val="000000"/>
                </a:solidFill>
                <a:latin typeface="Lucida Sans Unicode"/>
              </a:rPr>
              <a:t>(t.sk. grāmatvedības pārbaud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Pārbaužu skaits atkarīgs no projekta riska pakāpe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9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1C16-D04D-46A1-8D6C-9D1EBAE1053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99" name="Rectangle 2" descr=""/>
          <p:cNvPicPr/>
          <p:nvPr/>
        </p:nvPicPr>
        <p:blipFill>
          <a:blip r:embed="rId1"/>
          <a:stretch/>
        </p:blipFill>
        <p:spPr>
          <a:xfrm>
            <a:off x="1517760" y="328680"/>
            <a:ext cx="7022880" cy="871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476000" y="1268280"/>
            <a:ext cx="7010280" cy="3672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plāns</a:t>
            </a:r>
            <a:endParaRPr b="0" lang="en-US" sz="2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Lucida Sans Unicode"/>
              </a:rPr>
              <a:t>Pārbaudes period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Lucida Sans Unicode"/>
              </a:rPr>
              <a:t>Pārbaudes apjoms (līgumi, objekti)</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mērķi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saikne ar finansējuma saņēmēja iesniegtajiem dokumentiem</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ietekme uz izmaksu attiecināmību</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6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F4D3-B5B0-4600-985E-7E79509C55C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02" name="Rectangle 2" descr=""/>
          <p:cNvPicPr/>
          <p:nvPr/>
        </p:nvPicPr>
        <p:blipFill>
          <a:blip r:embed="rId1"/>
          <a:stretch/>
        </p:blipFill>
        <p:spPr>
          <a:xfrm>
            <a:off x="1517760" y="328680"/>
            <a:ext cx="7022880" cy="871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E6FA-DDDF-4DD8-8B2F-371E45A3A6B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04" name="Rectangle 2" descr=""/>
          <p:cNvPicPr/>
          <p:nvPr/>
        </p:nvPicPr>
        <p:blipFill>
          <a:blip r:embed="rId1"/>
          <a:stretch/>
        </p:blipFill>
        <p:spPr>
          <a:xfrm>
            <a:off x="450720" y="268200"/>
            <a:ext cx="8242560" cy="1158840"/>
          </a:xfrm>
          <a:prstGeom prst="rect">
            <a:avLst/>
          </a:prstGeom>
          <a:ln w="0">
            <a:noFill/>
          </a:ln>
        </p:spPr>
      </p:pic>
      <p:sp>
        <p:nvSpPr>
          <p:cNvPr id="6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IKS apraksta izveidi nosaka civiltiesiskais līgu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IKS apraksti netiek sūtīti saskaņošanai Vides ministrijā</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IKS apraksta izveide ir priekšnosacījums maksājumu saņemšanai</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90CC-83E7-47DF-A336-D4F9D172EFA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07" name="Rectangle 2" descr=""/>
          <p:cNvPicPr/>
          <p:nvPr/>
        </p:nvPicPr>
        <p:blipFill>
          <a:blip r:embed="rId1"/>
          <a:stretch/>
        </p:blipFill>
        <p:spPr>
          <a:xfrm>
            <a:off x="450720" y="268200"/>
            <a:ext cx="8242560" cy="1158840"/>
          </a:xfrm>
          <a:prstGeom prst="rect">
            <a:avLst/>
          </a:prstGeom>
          <a:ln w="0">
            <a:noFill/>
          </a:ln>
        </p:spPr>
      </p:pic>
      <p:sp>
        <p:nvSpPr>
          <p:cNvPr id="60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Nosaka</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Lucida Sans Unicode"/>
              </a:rPr>
              <a:t>Vides ministrijas prasības finansējuma saņēmēja Iekšējās kontroles sistēmas (IKS) apraksta izstrādei 2007.-2013.gada plānošanas periodā apstiprināto ERAF un Kohēzijas fonda projektu realizācijai</a:t>
            </a:r>
            <a:r>
              <a:rPr b="0" lang="lv-LV"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adlīnijas neparedz detalizētu aprakstu katrai IKS apraksta sadaļai</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Finansējuma saņēmējs izstrādā IKS aprakstu, pamatojoties uz tā faktisko darbību, struktūru un izstrādātājs procedūras ievēro tiesību aktu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6DD6-001F-4B48-A301-3F0F60DBBCD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10" name="Rectangle 4" descr=""/>
          <p:cNvPicPr/>
          <p:nvPr/>
        </p:nvPicPr>
        <p:blipFill>
          <a:blip r:embed="rId1"/>
          <a:stretch/>
        </p:blipFill>
        <p:spPr>
          <a:xfrm>
            <a:off x="450720" y="268200"/>
            <a:ext cx="8242560" cy="1158840"/>
          </a:xfrm>
          <a:prstGeom prst="rect">
            <a:avLst/>
          </a:prstGeom>
          <a:ln w="0">
            <a:noFill/>
          </a:ln>
        </p:spPr>
      </p:pic>
      <p:sp>
        <p:nvSpPr>
          <p:cNvPr id="611"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Vadlīniju IKS apraksta izveidei pilns teksts atrodams Vides ministrijas mājas lapā</a:t>
            </a:r>
            <a:br>
              <a:rPr sz="2400"/>
            </a:br>
            <a:br>
              <a:rPr sz="2400"/>
            </a:br>
            <a:r>
              <a:rPr b="1" lang="lv-LV" sz="2400" spc="-1" strike="noStrike">
                <a:solidFill>
                  <a:srgbClr val="000000"/>
                </a:solidFill>
                <a:latin typeface="Lucida Sans Unicode"/>
              </a:rPr>
              <a:t>www.vidm.gov.lv</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sadaļā Fondi un investīcijas</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http://www.vidm.gov.lv/lat/finansu_instrumenti/kohez/?doc=6625</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F7A0-00DC-4A6B-A023-70EE0CB11EB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13" name="Rectangle 2" descr=""/>
          <p:cNvPicPr/>
          <p:nvPr/>
        </p:nvPicPr>
        <p:blipFill>
          <a:blip r:embed="rId1"/>
          <a:stretch/>
        </p:blipFill>
        <p:spPr>
          <a:xfrm>
            <a:off x="450720" y="268200"/>
            <a:ext cx="8242560" cy="1158840"/>
          </a:xfrm>
          <a:prstGeom prst="rect">
            <a:avLst/>
          </a:prstGeom>
          <a:ln w="0">
            <a:noFill/>
          </a:ln>
        </p:spPr>
      </p:pic>
      <p:sp>
        <p:nvSpPr>
          <p:cNvPr id="614" name="PlaceHolder 1"/>
          <p:cNvSpPr>
            <a:spLocks noGrp="1"/>
          </p:cNvSpPr>
          <p:nvPr>
            <p:ph/>
          </p:nvPr>
        </p:nvSpPr>
        <p:spPr>
          <a:xfrm>
            <a:off x="684360" y="1557360"/>
            <a:ext cx="8208720" cy="4573440"/>
          </a:xfrm>
          <a:prstGeom prst="rect">
            <a:avLst/>
          </a:prstGeom>
          <a:noFill/>
          <a:ln w="0">
            <a:noFill/>
          </a:ln>
        </p:spPr>
        <p:txBody>
          <a:bodyPr anchor="t">
            <a:normAutofit/>
          </a:bodyPr>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dības apraksts, nolikum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dības dokumentu lietvedības aprakst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Dokumentu plūsma, aprites grafik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u="sng">
                <a:solidFill>
                  <a:srgbClr val="008000"/>
                </a:solidFill>
                <a:uFillTx/>
                <a:latin typeface="Lucida Sans Unicode"/>
              </a:rPr>
              <a:t>Iestādē apstiprināmais grāmatvedības kontu plāns un grāmatojumu shēma (nav jāsaskaņo ar VIDM);</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ža darba pienākumu aprakst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dības politika.</a:t>
            </a:r>
            <a:endParaRPr b="0" lang="en-US" sz="2100" spc="-1" strike="noStrike">
              <a:solidFill>
                <a:srgbClr val="000000"/>
              </a:solidFill>
              <a:latin typeface="Lucida Sans Unicode"/>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FCDB-D862-4040-9AA1-9BA1346D0CD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16" name="Rectangle 2" descr=""/>
          <p:cNvPicPr/>
          <p:nvPr/>
        </p:nvPicPr>
        <p:blipFill>
          <a:blip r:embed="rId1"/>
          <a:stretch/>
        </p:blipFill>
        <p:spPr>
          <a:xfrm>
            <a:off x="450720" y="268200"/>
            <a:ext cx="8242560" cy="1158840"/>
          </a:xfrm>
          <a:prstGeom prst="rect">
            <a:avLst/>
          </a:prstGeom>
          <a:ln w="0">
            <a:noFill/>
          </a:ln>
        </p:spPr>
      </p:pic>
      <p:sp>
        <p:nvSpPr>
          <p:cNvPr id="617" name="PlaceHolder 1"/>
          <p:cNvSpPr>
            <a:spLocks noGrp="1"/>
          </p:cNvSpPr>
          <p:nvPr>
            <p:ph/>
          </p:nvPr>
        </p:nvSpPr>
        <p:spPr>
          <a:xfrm>
            <a:off x="457200" y="1481040"/>
            <a:ext cx="8229600" cy="45259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 </a:t>
            </a:r>
            <a:endParaRPr b="0" lang="en-US" sz="2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Netiek izvirzītas īpašās prasības, izņemot:</a:t>
            </a:r>
            <a:endParaRPr b="0" lang="en-US" sz="2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uzskaite tiek nodrošināta tādā veidā, ka projekts ir uzskaitīts atsevišķi no citiem pašvaldības vai SIA projektiem/līgumiem</a:t>
            </a:r>
            <a:endParaRPr b="0" lang="en-US" sz="2600" spc="-1" strike="noStrike">
              <a:solidFill>
                <a:srgbClr val="000000"/>
              </a:solidFill>
              <a:latin typeface="Lucida Sans Unicode"/>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ojekta iesnieguma apstiprināšana, lēmuma nosacījumu izpild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Līguma veidne netiks koriģēta atbilstoši individuālām prasībā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audas pieejamīb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ezentācijā par aktivitātes laika grafik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86"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C490-9B35-46F6-A3BF-F094BB68EF5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87"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apildināt ar Horizontālās prioritātes sadaļu (pārskat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ecizēt neatbilstību paziņošanas sadaļ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eviest pašfinansēšanas shēm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ecizēt līguma grozījumu iesniegšanu (MK noteikumu grozījumu sakarā)</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8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61AA-4816-4EAF-AFFD-802462E3701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0"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ārskats par horizontālām prioritātē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MKK 12.10.2009.</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Tiks noteikts ar MK noteikumiem</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t>
            </a:r>
            <a:r>
              <a:rPr b="0" lang="lv-LV" sz="2000" spc="-1" strike="noStrike">
                <a:solidFill>
                  <a:srgbClr val="000000"/>
                </a:solidFill>
                <a:latin typeface="Lucida Sans Unicode"/>
              </a:rPr>
              <a:t>Eiropas Savienības fondu ieviešanas uzraudzības un izvērtēšanas kārtīb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9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99B2-036B-4CFD-852A-822E4043DFC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3" name="Rectangle 2"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Civiltiesiskajā līgumā vai vienošanās dokumentā par Kohēzijas fonda projekta īstenošanu izdara grozījumus atbilstoši normatīvajiem aktiem, kā arī šādos gadījumo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zmaiņas neattiecināmajās izmaksās pārsniedz 20 % no to summas un tas izmaina Kohēzijas fonda projekta finansēšanas plān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Kohēzijas fonda projekta fizisko rādītāju izmaiņas pārsniedz piecus procentus no Kohēzija fonda projektam apstiprinātajām attiecināmajām izmaksām</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Grozījumu priekšlikumi ir iesniedzami brīvā formā, sniedzot problēmas aprakstu un pamatojumu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9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96E7-BB0C-4322-A58B-2D5A72879CE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6"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0:40:35Z</dcterms:created>
  <dc:creator>Laura Bramane</dc:creator>
  <dc:description/>
  <dc:language>en-US</dc:language>
  <cp:lastModifiedBy>LauraB</cp:lastModifiedBy>
  <dcterms:modified xsi:type="dcterms:W3CDTF">2009-10-12T06:02:17Z</dcterms:modified>
  <cp:revision>301</cp:revision>
  <dc:subject/>
  <dc:title>ES fondu projektu ieviešana 2007.-2013.gadā   Aktualitātes</dc:title>
</cp:coreProperties>
</file>