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1E5-7AC0-46AC-AD87-8A58470D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A26-EC13-4B7D-B5D6-92B6B470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ACE-EC66-4AB4-A18A-6F5B4AF1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9D3-7E00-44EA-8BDB-FD5C39AC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A294-D69A-4B6F-96F5-00B1BAAB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97AB-01BD-44F8-93C6-7F365265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6701-7165-4BDA-84A6-EE77FFBA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AFC5-AEB5-45D0-B364-D5E56351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2C47-FC74-4C0C-A821-0E37C537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D90-34E8-4F0F-96E2-46613E02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D425-371C-4729-BA12-8D9FEC04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C8A-8D86-4A44-8C9B-4E6E807C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3890-241F-46DF-BC3D-2A18929B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03F1-72BF-418B-B90D-1F748FFE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A021-0394-4AAB-8131-CABBD46A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4A14-AA04-4D59-95A7-AB959135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09BE-F640-4AC6-8762-A80BA487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4C7-B547-4B10-918B-48AD01A8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EC0-1F74-4E8F-B539-51E2E159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A4C-1A47-4D12-B110-01054CF2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D31-12A5-4753-9825-FD1C8A90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F75-7DC7-4430-AF85-56CAFD3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38D-C43C-4B5B-BB04-5ECC8D3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06B-1973-423F-BD8E-AC8AB48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4EE7-C6D4-480D-AA8F-F8DCCA0690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4BAD-7A8B-44FE-98BC-AA17481920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idm.gov.lv/lat/finansu_instrumenti/kohez/?doc=6625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sfondi.lv/" TargetMode="External"/><Relationship Id="rId2" Type="http://schemas.openxmlformats.org/officeDocument/2006/relationships/hyperlink" Target="http://www.vidm.gov.lv/lat/finansu_instrumenti/kohez/?doc=6625" TargetMode="External"/><Relationship Id="rId3" Type="http://schemas.openxmlformats.org/officeDocument/2006/relationships/hyperlink" Target="http://www.vidm.gov.lv/lat/finansu_instrumenti/kohez/?doc=6807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idm.gov.lv/lat/finansu_instrumenti/kohez/files/text/finansu_instrumenti/koh_f//3511_civil_lig.zip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a īstenošanas nodrošinā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797360"/>
            <a:ext cx="6400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2009.gada 18.mar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A2DB-4857-47E4-821F-EE8F566657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epieciešamī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azināt risku, ka tiks pieļautas kļūdas un neprecizitātes, kuras var būt finansiālā ietekme uz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kārtot jau izveidotos dokumentus, apkopot tos, atvieglot darbu ar audi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5EA-B2CB-4457-ABF4-A72767F192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adlīnij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s ministrijas prasības finansējuma saņēmēja Iekšējās kontroles sistēmas (IKS) apraksta izstrādei 2007.-2013.gada plānošanas periodā apstiprināto ERAF un Kohēzijas fonda projektu realizācij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dlīnijas neparedz detalizētu aprakstu katrai IKS apraksta sadaļ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sējuma saņēmējs izstrādā IKS aprakstu, pamatojoties uz tā faktisko darbību, struktūru un izstrādātājs procedūras ievēro tiesību ak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6C2-0CD2-4F85-AFB9-D2273D9531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KS apraksta galvenās sadaļ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ācija par Projekta īstenošanā iesaistītajām struktūrvienībām un darbiniekiem (amatiem), Projekta ieviešanas vienības (PIV) nolikums (ja ir izveidota atsevišķa struktūrvienīb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kta lietvedības organizācijas kārtī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ārtība, kādā finansējuma saņēmējs sagatavo un saskaņo iepirkuma dokumentāciju un par to atbildīgie darbinie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pirkuma līgumu finanšu, administratīvā un tehniskā vadība (t.sk. ziņojumu izskatīšana, laika grafiku kontro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Rēķinu,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sājumu pieprasījumu pārbaudes un aprites kārtība un līdzfinansējuma nodrošināšanas kārtīb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āmatvedības kārtošanas organizācija, tai skaitā Finansējuma saņēmēja kontu plāns un projekta grāmatojumu shēm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kta pārskat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gatavošanas kārtīb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ārtība, kādā tiek konstatētas neatbilstības Projekta īstenošanas gaitā, ziņots par tām un veiktas korektīvās darbīb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rojekta publicitātes pasākumu plānošanas un īstenošanas kārtība</a:t>
            </a: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A79-6981-43DB-8193-6C6670AC75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KS aprakstam pievienojamie dokument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tatūti vai noliku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bildīgo personu amata apraksti vai amata aprakstu projek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inansējuma saņēmēja lietvedības instrukci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inansējuma saņēmēja arhīva noliku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iti ar Projekta realizāciju saistītie dokumenti (rīkojumi, lēmumi, kredītlīgumi, citi līgumi u.c.) tiek pievienoti pēc Finansējuma saņēmēja ieskati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C2E-136B-4910-9916-7CEDF9296E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formācij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adlīniju IKS apraksta izveidei pilns teksts atrodams Vides ministrijas mājas lapā</a:t>
            </a:r>
            <a:br>
              <a:rPr sz="2800"/>
            </a:br>
            <a:br>
              <a:rPr sz="2800"/>
            </a:br>
            <a:r>
              <a:rPr b="0" lang="lv-LV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vidm.gov.lv/lat/finansu_instrumenti/kohez/?doc=6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daļa Fondi un investīci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B83-1F7F-40D8-BDF0-BA8B8F20FE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71640" y="3860280"/>
            <a:ext cx="607536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Projektu pārsk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20D9-EDA3-44D8-851D-EC5072532F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96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ārskatu v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enošanās paredz tikai 1 pārska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s par projekta īstenošanu (ir izdalīts prezentācijas laik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inistru kabineta noteikumi par apakšaktivitātes īstenošanu paredz vēl vienu pārsk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ēcieviešanas uzraudzības veidl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0FA-74BC-4CFA-874A-8667D207912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96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ārskats par projekta īsten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venās sadaļ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ktie un plānotie maks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a progress, t.sk. veiktie darbi un veiktie iepirk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itā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veidotie pamatlīdzek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stību pārsk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C88-1192-4809-9E72-E5448AA9D36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96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ārskatu iesniegš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137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ārskatu vajadzēs gatavot reizi pusgadā, t.i. pārsvarā projekta īstenošanas laikā būs jāsagatavo tikai 2-3 pārsk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ārskatu neiesniegšanas gadījumā maksājumu pieprasījumu izskatīšana tiks apturē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rmais pārskats ir jāgatavo, iesniedzot pirmo maksājuma pieprasījumu, bet nevēlāk kā trīs mēnešus pēc vienošanās noslēgš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81E-101B-49F2-BB33-8EA5552865F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296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ārskats pēc projekta īstenoš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137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nsējuma saņēmējs ir tieši atbildīgs par projekta īstenošanu un rezultātu uzturēšanu vismaz piecus gadus pēc projekta īstenošanas.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nsējuma saņēmējs piecus gadus pēc projekta īstenošanas reizi gadā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sniedz informācij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a ietvaros sasniegto rezultātu atbilstību iesniegumā noteiktajiem mērķ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kultivētās teritorijas turpmāko izmantošanu atbilstoši teritorijas plānojuma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kultivētās teritorijas juridisko status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ēcrekultivācijas veiktā monitoringa rezultātu atbilstību Valsts vides dienesta noteiktajiem pēcrekultivācijas monitoringa parametr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iktajiem pasākumiem sabiedrības informēšanai par Kohēzijas fonda projekta rezultātiem un ieguvumiem sabiedrīb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A7F-9DFB-4E52-A956-15022612838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Vienošanās par projekta īsten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DD09-58B8-4F77-B89D-9F01E19E51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Pārbaudes projektu īstenošanas vietā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DD5-7662-40F2-9FDC-30636C7F33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ārbaužu apjo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hniskā pārba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īvā pārba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.sk. IKS apraksta procedūru pilnība un atbilstība reāliem procesi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šu pārba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.sk. grāmatvedības pārbau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ārbaužu skaits atkarīgs no projekta riska pakā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337-C9C4-4EFF-A16C-AAD5B938E1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kta riska novērtēšana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lvenie kritē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a sarežģītība (līgumu skaits, vei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a vērtī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sējuma saņēmēja iepriekšēja pieredze ar ES fondu projektu ievieš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a progress un tā atbilstība sākotnēji plānotā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 novērtēšanu veic Vides ministrija, informācija no projektu saņēmējiem netiek prasī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 pakāpe tiks regulāri pārskatīta, balstoties t.sk. uz pārbaužu projektu īstenošanas vietās rezultātie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AE9-30EE-4F20-8CEE-33AAA7FDD9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ārbaužu veicēji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s minist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hniskā pārba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īvā pārbaude (atsevišķ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dījum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aicinātie auditori (visas finanšu pārbau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s ES fondu vadībā iesaistītās iestādes (var ierosināt pārbaudes), t.sk. ES institūci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ēdējie novērtējumi par projektiem un to rezultātiem var notikt vēl 2021.gad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BC8-EBA6-4F0A-AB17-42C0682A15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iemēri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S apraksts nav izveidots, bet ir iesniegta vēstule par tā izveides apstiprināš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ēķinu pārbaudes netiek dokumentētas (t.i. tiek uzskatīts, ka tās nenoti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 izstrādāta lietvedības instrukcija, dokumenti nav pieej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āmatvedībā projekts netiek uzskaitīts atsevišķ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a pārskatos norādītā informācija par projekta tehnisko progresu nav pati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sējuma saņēmēja iestādes darbinieki nav iepazīstināti ar I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iek kontrolēts inženieru laika ieguldījums, būvdarbu progress (piemēram, dalība sanāksmē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ek gūti ienāk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0BA-159A-437F-8538-0EA6B61D2B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enākumu gūšana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ropas Komisijai ir tiesības pārskatīt projektam piešķirto finansējumu līdz 2022.ga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ādējādi ir jāveic pasākumi, kuri ir vērsti uz projekta iesniegumā ietverto pieņēmumu saglabā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D33-0082-4820-9A1B-D685F327BC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2962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rmāc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2007.gada  26.jūnija noteikumi Nr.440 „Kārtība, kādā vadošā iestāde, sertifikācijas iestāde, sadarbības iestāde vai atbildīgā iestāde veic pārbaudi Eiropas Savienības struktūrfondu un Kohēzijas fonda finansētā projekta īstenošanas viet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ieejami Finanšu ministrijas administrētajā mājas lapā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www.esfondi.lv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ovērtējot pirmos pārbaužu rezultātus tiks izskatīts jautājums par nepieciešamību izstrādāt papildus vadlīnijas IKS apraksta izvei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9FD-4CB4-49C4-A7FB-733465730B9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2962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ublicitā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dlīnijas publicitātes pasākumu organizācij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vidm.gov.lv/lat/finansu_instrumenti/kohez/?doc=66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D21-141D-4DFD-A6C5-90F366BDA1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Informācijas avot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5050-870F-4466-A296-D706C5ADC7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esfondi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etodiskie materiāli finansējuma saņēmēj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www.vidm.gov.lv/lat/finansu_instrumenti/kohez/?doc=66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okumenti saistīb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r apakšaktivi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www.vidm.gov.lv/lat/finansu_instrumenti/kohez/?doc=68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C57-B06F-4C08-AF14-544D21265E0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ienošanās slēgšanu nosa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ru kabineta 2007.gada 26.jūnija noteikumi Nr.419 "Kārtība, kādā Eiropas Savienības struktūrfondu un Kohēzijas fonda vadībā iesaistītās institūcijas nodrošina plānošanas dokumentu sagatavošanu un šo fondu ieviešan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DA4-576D-46FB-B7B7-E196E6CAD0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ienošanās ietv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a īstenošanas termiņ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šu – finansējuma saņēmēja un atbildīgās iestādes tiesības un pienākum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pirkumu veikšanas kārtīb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sājumu kārtīb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a pārskatu sagatavošan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ārbaužu veikšanas kārtīb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itātes pasākumu nodrošināšanas kārtīb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028-1FC6-4F4E-9F39-0DC3AB664A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lēgšanas nosacījum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strādātā veidne netiks mainīta atbilstoši individuālām prasībā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das pieejamība – pārdale no Finanšu ministrijas budžeta apakšprogrammas 41.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DB6-76E5-422B-ACBD-77D59AC3EE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lēgšanas termiņ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bilstoši Vides ministrijas prognozēm vienošanās var slēgt jau š.g. maijā, t.i. netiks zaudēta būvniecības sezona. Termiņš lielā mērā ir atkarīgs no grozījumiem valsts budžeta likum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irkuma procedūras varēs organizēt arī pirms vienošanās slēgša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065-8C43-40B1-BB67-5162B98557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formācij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Vienošanās par projekta īstenošanu projekta pilns teksts atrodams Vides ministrijas mājas lapā (paraugs ūdenssaimniecības projektiem)</a:t>
            </a:r>
            <a:br>
              <a:rPr sz="2800"/>
            </a:br>
            <a:br>
              <a:rPr sz="2800"/>
            </a:br>
            <a:r>
              <a:rPr b="0" lang="lv-LV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vidm.gov.lv/lat/finansu_instrumenti/kohez/files/text/finansu_instrumenti/koh_f//3511_civil_lig.z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Gala redakcija apakšaktivitātei – līdz š.g. 15.aprīl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80D-EBA6-473C-B9AC-115010AEFD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ekšējās kontroles sistēmas apraksta izve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1C72-B49A-46F4-9163-579AAD72A2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KS izve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KS apraksta izveidi nosaka vienošan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KS apraksti netiek sūtīti saskaņošanai Vides ministrij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KS apraksta izveide ir priekšnosacījums maksājumu saņem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976-E441-411D-A804-022D9D6EEB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8:42:33Z</dcterms:created>
  <dc:creator>Baiba</dc:creator>
  <dc:description/>
  <dc:language>en-US</dc:language>
  <cp:lastModifiedBy>Jurijss</cp:lastModifiedBy>
  <dcterms:modified xsi:type="dcterms:W3CDTF">2009-03-19T19:06:27Z</dcterms:modified>
  <cp:revision>21</cp:revision>
  <dc:subject/>
  <dc:title>Civiltiesiskais līgums un vienošanās par projekta īstenošanu</dc:title>
</cp:coreProperties>
</file>